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56E2-9C23-4D0C-A551-CBAD78AF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5DD-8DB1-4CBC-8BC5-11AB97FA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8492-06AC-40FB-8800-8D772D76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2D2E-5F77-44C1-B7A3-BEAC3E60A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F02B-206E-42A8-B63C-9D1F812E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048-EE53-473D-9836-DFC818DA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DA25-767B-4E3E-B9E0-68983450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8A16-A61D-43A2-AEB6-E4604A33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E917-7C6A-43DE-83D6-269DEA49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BB4-7DC5-4854-8CB3-FF9D57E2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86A0-7DB2-4515-832B-1BF2C7F4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5C07-7A81-4BC7-996B-AEF4317D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DE75-2899-4258-99FE-1E1F078374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260360" y="0"/>
            <a:ext cx="106567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171520" y="151776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隶书"/>
              </a:rPr>
              <a:t>散文整体阅读例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70520" y="299736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隶书"/>
                <a:ea typeface="隶书"/>
              </a:rPr>
              <a:t>执教：湘潭市湘钢一中  罗  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5640" y="765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全文共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自然段，第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和第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两个自然段的顺序可否颠倒？为什么？请简要说明道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270828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第（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3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（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14</a:t>
            </a:r>
            <a:r>
              <a:rPr b="0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）两段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不能颠倒。原因：这两段是从个人到同类再到社群，逐层深入或由小到大的关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1052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简要回答问题：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  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在文章最后一段，作者说“文化就是那根柔弱又强韧的细丝”。请结合全文，简析“柔弱”和“强韧”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68360" y="2492280"/>
            <a:ext cx="49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文化作为一种精神现象看起来是柔弱无力的（或“文化在强权政治、战争或命运面前往往柔弱无力”）；但文化具有强大的凝聚力，能使人具有归属感（或文化认同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11280" y="82404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5.</a:t>
            </a: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这篇散文在写法上的突出特点是什么？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5120" y="2297160"/>
            <a:ext cx="4916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《如果你为四郎哭泣》采用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因事见理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的写法，借看戏之事谈论文化为什么重要的问题。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化玄远为浅近，形象具体，易于读者理解，使文章的说服力和感染力更强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481760" y="1484280"/>
            <a:ext cx="119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一课一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285264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整体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局部</a:t>
            </a:r>
            <a:r>
              <a:rPr b="0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整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81600" y="1557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黑体"/>
              </a:rPr>
              <a:t>整体阅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94000" y="2276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隶书"/>
                <a:ea typeface="隶书"/>
              </a:rPr>
              <a:t>谢   谢 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757080" y="-4680"/>
            <a:ext cx="10729800" cy="68212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887480" y="1201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03280" y="692280"/>
            <a:ext cx="280836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考查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内容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结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形象意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语言风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表达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61080" y="692280"/>
            <a:ext cx="14299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解读方法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预想寻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抓点连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寻象悟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品味语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00"/>
                </a:solidFill>
                <a:latin typeface="Arial"/>
              </a:rPr>
              <a:t>●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鉴赏写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86360" y="1916280"/>
            <a:ext cx="109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具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运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554840" y="189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隶书"/>
              </a:rPr>
              <a:t>预想寻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142080" y="822240"/>
            <a:ext cx="9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看题目：《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如果你为四郎哭泣》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73000" y="1268280"/>
            <a:ext cx="46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预想：这是假设复句的条件部分，它会有什么结果呢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3141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191628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看开头：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经济学家、社会学家、人类学家可能找得出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个方式来回答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“文化为什么重要”这个问题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，但是我可以从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一场戏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说起。</a:t>
            </a:r>
            <a:r>
              <a:rPr b="0" lang="zh-CN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275560" y="3141720"/>
            <a:ext cx="39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直截了当提出话题：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文化为什么重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258920" y="3716280"/>
            <a:ext cx="7489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cc"/>
                </a:solidFill>
                <a:latin typeface="Arial"/>
              </a:rPr>
              <a:t>●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看结尾：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人本是散落的珠子，随地乱滚，文化就是那根柔弱又强韧的细丝，将珠子串起来成为社会。而公民社会，因为不倚赖皇权或神权来坚固它的底座，因此文化便是公民社会最重要的黏合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43200" y="5373720"/>
            <a:ext cx="269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回答了文化的重要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379520" y="692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速读划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2138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5640" y="2060640"/>
            <a:ext cx="8101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要求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①圈划文中重要的词句（结构上起过渡、连接作用的词、句、段，各段的中心句；文化哲理散文中的议论句）；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②理出文章的思路、结构层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1523880" y="620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隶书"/>
              </a:rPr>
              <a:t>抓点连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773360"/>
            <a:ext cx="8713800" cy="37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“文化为什么重要”这个问题，……我可以从一场戏说起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有一天……演出《四郎探母》，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父亲……老泪纵横，泣不成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四周多是……老人家，……他们不说话，因为眼里还有泪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从《四郎探母》，……我懂了为什么《伊底帕斯》能在星空下演两千年仍让人震撼，为什么《李尔王》在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后仍让人感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文化，……艺术，做了什么呢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它使孤独的个人为自己说不出的痛苦找到了名字和定义。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文化艺术使孤立的个人，打开深锁自己的门，走出去，找到同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它使零散的、疏离的各个小撮团体找到连结而转型成精神相通、休戚与共的社群。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）……因此文化便是公民社会最重要的黏合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5640" y="260280"/>
            <a:ext cx="7056360" cy="29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归纳概括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提出问题：文化为什么重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—8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叙述父亲看戏流泪的故事，表现戏剧艺术强大的感人力量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9—15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）论述文化的重要性：文化是公民社会最重要的黏合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816680" y="3068640"/>
            <a:ext cx="729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24000" y="260280"/>
            <a:ext cx="882000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隶书"/>
              </a:rPr>
              <a:t>读题思考：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本文的标题只是一个假设复句的前一个分句。通读全文后，请根据你的理解写出下一个分句。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如果你为四郎哭泣，              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作者从《四郎探母》懂得了为什么《伊底帕斯》、《李尔王》在千百年后仍让人感动。你认为作者懂得的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全文共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自然段，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3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和第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14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两个自然段的顺序可否颠倒？为什么？请简要说明道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简要回答问题：在文章最后一段，作者说“文化就是那根柔弱又强韧的细丝”。请结合全文，简析“柔弱”和“强韧”的含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5.</a:t>
            </a: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这篇散文在写法上的突出特点是什么？有什么作用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9079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本文的标题只是一个假设复句的前一个分句。通读全文后，请根据你的理解写出下一个分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如果你为四郎哭泣，                   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4005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913640" y="3068640"/>
            <a:ext cx="298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你就会懂得文化的重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1840" y="3933720"/>
            <a:ext cx="891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（你就找到了灵魂的归属；你就找到了精神的家园；你就会懂得文化为什么是公民社会里最重要的黏合剂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7640" y="765000"/>
            <a:ext cx="84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作者从《四郎探母》懂得了为什么《伊底帕斯》、《李尔王》在千百年后仍让人感动。你认为作者懂得的是什么？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3141720"/>
            <a:ext cx="842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懂得了凡是抒写永恒的人性、深入人类灵魂的文化艺术作品的生命力是永久的。（或“懂得了作为公民社会里最重要的黏合剂的文化的力量是无穷的”；或“懂得了能引起归属感的、凝聚社会文化认同的文化艺术作品的生命力是永恒的。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3:04:07Z</dcterms:created>
  <dc:creator>微软用户</dc:creator>
  <dc:description/>
  <dc:language>en-US</dc:language>
  <cp:lastModifiedBy>微软用户</cp:lastModifiedBy>
  <dcterms:modified xsi:type="dcterms:W3CDTF">2009-03-28T22:47:32Z</dcterms:modified>
  <cp:revision>10</cp:revision>
  <dc:subject/>
  <dc:title>幻灯片 1</dc:title>
</cp:coreProperties>
</file>