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446-D060-4AA3-B52C-60F83CE8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542-1E76-4AF2-8C66-AACCD762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4FF-0995-4661-9532-77C37964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BFA-8EC1-439E-B52D-FBD2D3C3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F171-0920-4093-B3CC-2D04EE13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7028-DBE2-44C7-8773-E96187A2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5133-B984-43AB-A3AA-AB4D02EB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C7A-8059-4A91-B283-29C77A5F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892E-54A3-4DF4-BFD3-50D01D8E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94A4-F8F6-4F97-8BF1-E7E96D8A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992-DDBD-40FC-98A5-E4D9E2D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CF5-7CF6-4B13-8D5F-010C0E52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6A1D-B6ED-4E13-A5E7-32C4EDA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C6E2-B888-43B7-A595-E668E2E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F8E0-C857-4377-8F81-7BBFED55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A4F9-00C2-4A80-B7FF-E702BA68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69FA-3A97-44B5-B289-B9C3C073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8BC46-A341-4405-957B-FBBF7578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738DE-F3D4-4CD0-A3D7-860DC646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1AF65-2E61-44A3-8514-17D9740E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7F54D-4F07-4F5D-BD47-612431FC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79B8A-640F-4A50-9216-CE8A43C5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4E7-C193-458A-A198-3E01113F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DDA0E-306D-4F1F-BF94-D8C0DA2B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EF9FB-F99F-4F79-A953-23A020F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40F5D-89B6-483F-80D2-D18D20B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5885F-A860-403A-92BE-A0188EE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38C63-5146-478A-9017-37D943A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1B3F6-C0FB-44A3-9BF7-62B177E8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01851-DDE7-40DD-8F12-7B8C6F3B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42EEF-A221-45D5-A198-167603A4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DCD1-6664-4653-B52B-463E1051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AD159-3451-444A-99BB-9077FD50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555-6008-4621-9857-EC8F0F75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97EF-7D1B-4E47-B4FC-F1D9ADA2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2F9EB-C648-4A1B-9244-A9B4692C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9E7C-5899-498F-B99B-144C4523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09149-F606-47BE-AD29-3F56250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E4BF-1E2E-40F4-B75F-5B662C92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FCE9-5986-4BD7-BE7D-4F522E6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EFC7-B292-416F-80EE-CCB464E6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9070-8598-4B05-83BE-E6A2A325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AD45-0313-420A-BEFE-B1A0FC8D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4570D-30BF-436F-95CC-1AC23A7D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0DA-4E64-40E6-ABDD-FCBEAEC6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74EA7-F9F3-4B2F-B717-427BB24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235B0-6A36-4B67-8EC0-B10E85DA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DC715-2D0C-49D4-814A-26A351F4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2B013-52AA-462C-B442-EB7A5315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4B25E-14C9-452E-8D3F-87FD68F1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EF3E4-4A70-4A99-8984-C42DD6DB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AF87A-C077-4B71-81D5-A7F61BCC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981A6-EE45-44C2-A9A4-2D41B0A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66A9D-682B-436F-B02D-B3ACC4AF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FDAAB-BF90-49F4-A71D-389C1FB6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7E4-4BDD-4720-A049-0239610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61D1A-3E10-412F-949F-9F4E078C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86D3-1C2C-4509-B485-026A935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713B-C943-4F10-9B9C-446E7C2D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50B60-8F44-4144-BB43-050D56E0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5174A-3A16-4C68-AE60-8A911CF7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0639-549D-46AD-9559-ABE6387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20AB2-7B6E-4792-922E-46219BAD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345B-E349-4DA1-8244-8F5954E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8383-06FF-4C78-A100-709F5AA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8F39E-EABB-4E2A-AC6F-FB1996D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D15-FC67-4045-A8DF-8578FCE6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3B2B7-34F9-4377-BED3-34E53261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D909-43B8-46F7-84F7-3241D775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44D2B-8599-4086-AA27-94A0975D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4A191-A93E-4922-8E20-7D14356A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5FBAD-9ED3-482A-86A7-D8372783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4FDC2-AA0B-483E-BAFB-48924CC5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B594-350D-464F-8C9D-CF3C810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6A37-4B66-4BAA-B84E-3376E39F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1976-A8FF-44B9-B017-0C3806EA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C6617-50A5-4F48-AAD6-3B7E8E5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130-C331-4F66-A0DB-000D88F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EFA3-301D-4666-A582-49EAA4D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B6F59-B70C-48F4-9B84-826CC6CD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53821-7FAD-4979-9E3E-DA6843EC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29CB-55FB-42B1-8426-17210438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F1D21-384B-47A5-ACD2-25C6A591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935-D4DD-4971-8E30-4F346A4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03D1-B441-4D50-AECD-086E084D3F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378C-AE8C-4418-BEEA-76FAF51711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8C4-4BA1-42A0-99C4-5E8EA2A1BB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A9B3-9D9E-41A6-9722-165F5E62E9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93C-2708-48A4-875E-7B5403A0ED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DD6B-957F-427D-8559-686238F61FD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34EA-61B7-4C88-8322-A06B9351EFC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 rot="275400">
            <a:off x="2031480" y="5730840"/>
            <a:ext cx="397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执教：先进初中 方维国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85" name=""/>
          <p:cNvSpPr/>
          <p:nvPr/>
        </p:nvSpPr>
        <p:spPr>
          <a:xfrm>
            <a:off x="3132000" y="26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周素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627280" y="98100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一次真好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8390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4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嗅出柚子的味道了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40360" y="620640"/>
            <a:ext cx="5003640" cy="5092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、你能嗅出语言的味道了吗？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沉甸甸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宋体"/>
              </a:rPr>
              <a:t>垂吊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在枝头（能换成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挂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秋日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  <a:ea typeface="宋体"/>
              </a:rPr>
              <a:t>风情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画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能换成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风景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84720" y="2060640"/>
            <a:ext cx="431640" cy="431640"/>
          </a:xfrm>
          <a:custGeom>
            <a:avLst/>
            <a:gdLst>
              <a:gd name="textAreaLeft" fmla="*/ 204120 w 431640"/>
              <a:gd name="textAreaRight" fmla="*/ 227520 w 431640"/>
              <a:gd name="textAreaTop" fmla="*/ 204120 h 431640"/>
              <a:gd name="textAreaBottom" fmla="*/ 2275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224" y="10224"/>
                </a:lnTo>
                <a:lnTo>
                  <a:pt x="10800" y="0"/>
                </a:lnTo>
                <a:lnTo>
                  <a:pt x="11376" y="10224"/>
                </a:lnTo>
                <a:lnTo>
                  <a:pt x="21600" y="10800"/>
                </a:lnTo>
                <a:lnTo>
                  <a:pt x="11376" y="11376"/>
                </a:lnTo>
                <a:lnTo>
                  <a:pt x="10800" y="21600"/>
                </a:lnTo>
                <a:lnTo>
                  <a:pt x="10224" y="1137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5157720"/>
            <a:ext cx="504720" cy="360360"/>
          </a:xfrm>
          <a:custGeom>
            <a:avLst/>
            <a:gdLst>
              <a:gd name="textAreaLeft" fmla="*/ 178920 w 504720"/>
              <a:gd name="textAreaRight" fmla="*/ 325800 w 504720"/>
              <a:gd name="textAreaTop" fmla="*/ 127800 h 360360"/>
              <a:gd name="textAreaBottom" fmla="*/ 2325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59" y="7659"/>
                </a:lnTo>
                <a:lnTo>
                  <a:pt x="10800" y="0"/>
                </a:lnTo>
                <a:lnTo>
                  <a:pt x="13941" y="7659"/>
                </a:lnTo>
                <a:lnTo>
                  <a:pt x="21600" y="10800"/>
                </a:lnTo>
                <a:lnTo>
                  <a:pt x="13941" y="13941"/>
                </a:lnTo>
                <a:lnTo>
                  <a:pt x="10800" y="21600"/>
                </a:lnTo>
                <a:lnTo>
                  <a:pt x="7659" y="1394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3141720"/>
            <a:ext cx="504720" cy="647640"/>
          </a:xfrm>
          <a:custGeom>
            <a:avLst/>
            <a:gdLst>
              <a:gd name="textAreaLeft" fmla="*/ 207720 w 504720"/>
              <a:gd name="textAreaRight" fmla="*/ 297000 w 504720"/>
              <a:gd name="textAreaTop" fmla="*/ 266400 h 647640"/>
              <a:gd name="textAreaBottom" fmla="*/ 3812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88" y="8888"/>
                </a:lnTo>
                <a:lnTo>
                  <a:pt x="10800" y="0"/>
                </a:lnTo>
                <a:lnTo>
                  <a:pt x="12712" y="8888"/>
                </a:lnTo>
                <a:lnTo>
                  <a:pt x="21600" y="10800"/>
                </a:lnTo>
                <a:lnTo>
                  <a:pt x="12712" y="12712"/>
                </a:lnTo>
                <a:lnTo>
                  <a:pt x="10800" y="21600"/>
                </a:lnTo>
                <a:lnTo>
                  <a:pt x="8888" y="1271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11280" y="26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96268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）你能说说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雏形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具体而微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的区别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（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）眼巴巴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地等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能换用其它词吗？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(5)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我喜爱他们又甚于那些老鸟”一句表达了作者怎样的思想感情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128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50920" y="600120"/>
            <a:ext cx="2233440" cy="3078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332000" y="186624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任选其中三个词语写成一段话（顺序可变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不可磨灭　玲珑剔透　硕果累累  回味无穷　多姿多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-1771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发挥想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st" descr="st.jpg (14773 bytes)"/>
          <p:cNvPicPr/>
          <p:nvPr/>
        </p:nvPicPr>
        <p:blipFill>
          <a:blip r:embed="rId3"/>
          <a:stretch/>
        </p:blipFill>
        <p:spPr>
          <a:xfrm>
            <a:off x="395280" y="5229360"/>
            <a:ext cx="374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 rot="317400">
            <a:off x="539280" y="259920"/>
            <a:ext cx="367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体验与反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68360" y="1440000"/>
            <a:ext cx="4608360" cy="4762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4866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为什么第一次的经验不一定都愉快？感觉不愉快的第一次就不能尝试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回忆你有哪些难忘的第一次经历，谈谈它对你后来的发展产生了怎样的影响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295280" y="91440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22860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4360" y="292428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你现在最想尝试的第一次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什么样的第一次不能尝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60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方正姚体"/>
              </a:rPr>
              <a:t>拓展迁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250920" y="846000"/>
            <a:ext cx="2305080" cy="2793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84360" y="619920"/>
            <a:ext cx="33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800b8"/>
                </a:solidFill>
                <a:latin typeface="Times New Roman"/>
              </a:rPr>
              <a:t>探究学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79640" y="3553560"/>
            <a:ext cx="51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整体感知抓文眼　　　品味情理抓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悟读散文贵有“我”　形散神聚抓特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2195640" cy="2305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84360" y="47628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结束语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808360" cy="432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55640" y="39394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学们：生命中每个人确实有许多第一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是令人难忘的，刻骨铭心的，给我们带来了莫大的新奇和刺激，使我们至今回味无穷。第一个吃螃蟹的人，被誉为具有改革和创新的人而载入史册。今后，有益的第一次我们要寻找机会、大胆尝试；不可预料的第一次我们要勇敢地面对；有害的、消极的第一次我们要主动地避免。愿同学们努力去尝试生命中有益的第一次，让万紫千红的第一次，织成我们五彩斑斓的人生，给社会带来进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95280" y="656280"/>
            <a:ext cx="54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外兴趣题：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360" y="282636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积累词语（抄写、注音、造句）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回家后，听妈妈讲自己小时侯的第一次故事，然后写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００字的课外练笔。</a:t>
            </a:r>
            <a:br>
              <a:rPr sz="3600"/>
            </a:br>
            <a:br>
              <a:rPr sz="3600"/>
            </a:b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53080" y="404640"/>
            <a:ext cx="7898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华文新魏"/>
                <a:ea typeface="华文新魏"/>
              </a:rPr>
              <a:t>学步幼儿  第一次勇敢迈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3498840"/>
            <a:ext cx="4356000" cy="3352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788000" y="493560"/>
            <a:ext cx="40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月，阿姆斯特朗代表人类第一次登上了月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0686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感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这一小步，对一个人来说，是小小的一步；对整个人类来说，是巨大的飞跃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0" y="549360"/>
            <a:ext cx="2286000" cy="3050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首位宇航员登上太空的感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祖国历史上辉煌的一页，也是我生命中最伟大一天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800b8"/>
                </a:solidFill>
                <a:latin typeface="Times New Roman"/>
              </a:rPr>
              <a:t>中国人的骄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0880" y="404640"/>
            <a:ext cx="843912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</a:rPr>
              <a:t>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形        丰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硕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稀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时     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孵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鸟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妹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柚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子        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甸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甸     结实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累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珑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透</a:t>
            </a: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358128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弄懂下列词语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玲珑剔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具体而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可磨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回味无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多姿多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96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21337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检查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4437000"/>
            <a:ext cx="63007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形容器物精致通明，结构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整个形体都已具备了，只是比较微小而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指事迹言论等将始终保留在人们的记忆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比喻回想某一事物，越想越觉得有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文指生活丰富而充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280" y="10526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3440" y="1052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73800" y="1066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4520" y="1052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348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9080" y="2205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29240" y="2209680"/>
            <a:ext cx="6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8172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47680" y="2133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672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懂文意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清布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出意境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92360" y="195840"/>
            <a:ext cx="5904000" cy="15152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朗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初步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6093000"/>
            <a:ext cx="9144000" cy="711000"/>
          </a:xfrm>
          <a:prstGeom prst="rect">
            <a:avLst/>
          </a:prstGeom>
          <a:solidFill>
            <a:srgbClr val="339933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6093000"/>
            <a:ext cx="9143280" cy="765000"/>
            <a:chOff x="0" y="6093000"/>
            <a:chExt cx="9143280" cy="765000"/>
          </a:xfrm>
        </p:grpSpPr>
        <p:sp>
          <p:nvSpPr>
            <p:cNvPr id="450" name=""/>
            <p:cNvSpPr/>
            <p:nvPr/>
          </p:nvSpPr>
          <p:spPr>
            <a:xfrm>
              <a:off x="0" y="6093000"/>
              <a:ext cx="9143280" cy="765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222120" y="6121080"/>
              <a:ext cx="8697600" cy="70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012000" y="3357720"/>
            <a:ext cx="3132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042920" y="162864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为什么说第一次真好，好在哪里？“文眼”是哪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作者写了她的哪些“第一次”经历？感受如何？（请划出原文词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这些第一次，作者是如何安排详略的？为什么要这样安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ahoma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087640" cy="2872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17236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08000" y="1562040"/>
            <a:ext cx="4572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柚子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孵小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去露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动手做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见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到自已的作品用铅字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出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32000" y="67932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观察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1628640"/>
            <a:ext cx="136836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08720" y="765000"/>
            <a:ext cx="180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Times New Roman"/>
                <a:ea typeface="隶书"/>
              </a:rPr>
              <a:t>当时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3716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284720" y="1628640"/>
            <a:ext cx="3887280" cy="576360"/>
            <a:chOff x="4284720" y="1628640"/>
            <a:chExt cx="3887280" cy="576360"/>
          </a:xfrm>
        </p:grpSpPr>
        <p:sp>
          <p:nvSpPr>
            <p:cNvPr id="465" name=""/>
            <p:cNvSpPr/>
            <p:nvPr/>
          </p:nvSpPr>
          <p:spPr>
            <a:xfrm>
              <a:off x="4284720" y="1773360"/>
              <a:ext cx="750240" cy="215640"/>
            </a:xfrm>
            <a:prstGeom prst="rightArrow">
              <a:avLst>
                <a:gd name="adj1" fmla="val 50000"/>
                <a:gd name="adj2" fmla="val 8697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02280" y="1628640"/>
              <a:ext cx="3069720" cy="57636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悦与新奇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静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284720" y="2421000"/>
            <a:ext cx="3960360" cy="2087640"/>
            <a:chOff x="4284720" y="2421000"/>
            <a:chExt cx="3960360" cy="2087640"/>
          </a:xfrm>
        </p:grpSpPr>
        <p:sp>
          <p:nvSpPr>
            <p:cNvPr id="468" name=""/>
            <p:cNvSpPr/>
            <p:nvPr/>
          </p:nvSpPr>
          <p:spPr>
            <a:xfrm>
              <a:off x="4284720" y="2565360"/>
              <a:ext cx="751320" cy="216000"/>
            </a:xfrm>
            <a:prstGeom prst="rightArrow">
              <a:avLst>
                <a:gd name="adj1" fmla="val 50000"/>
                <a:gd name="adj2" fmla="val 8695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3360" y="2421000"/>
              <a:ext cx="3141720" cy="208764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眼巴巴地等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吃不下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爱</a:t>
              </a:r>
              <a:r>
                <a:rPr b="1" lang="zh-CN" sz="2400" spc="-1" strike="noStrike">
                  <a:solidFill>
                    <a:srgbClr val="ff99cc"/>
                  </a:solidFill>
                  <a:latin typeface="Times New Roman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动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244000" y="1844640"/>
            <a:ext cx="360360" cy="1562040"/>
          </a:xfrm>
          <a:custGeom>
            <a:avLst/>
            <a:gdLst>
              <a:gd name="textAreaLeft" fmla="*/ 0 w 360360"/>
              <a:gd name="textAreaRight" fmla="*/ 129960 w 36036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16360" y="3645000"/>
            <a:ext cx="513000" cy="2519280"/>
          </a:xfrm>
          <a:custGeom>
            <a:avLst/>
            <a:gdLst>
              <a:gd name="textAreaLeft" fmla="*/ 0 w 513000"/>
              <a:gd name="textAreaRight" fmla="*/ 185040 w 513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8461440" y="2421000"/>
            <a:ext cx="68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8748000" y="3213000"/>
            <a:ext cx="144360" cy="1295640"/>
          </a:xfrm>
          <a:prstGeom prst="downArrow">
            <a:avLst>
              <a:gd name="adj1" fmla="val 50000"/>
              <a:gd name="adj2" fmla="val 2243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47973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详写是为了更好地突出中心；略写部分是对详写部分的补充，旨在以小见大地表现“第一次真好”的普遍意义，同时，使文章内容更加充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24000" y="569880"/>
            <a:ext cx="2592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5084640"/>
            <a:ext cx="9144000" cy="1852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珍重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第一次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让生命多姿多彩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不断向新的领域进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98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文中最后一句说“第一次愈多，生命愈益多姿多彩。愿你珍重第一次”的含义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2592360" cy="287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1:54:36Z</dcterms:created>
  <dc:creator>fj</dc:creator>
  <dc:description/>
  <dc:language>en-US</dc:language>
  <cp:lastModifiedBy>jufeng</cp:lastModifiedBy>
  <dcterms:modified xsi:type="dcterms:W3CDTF">2010-11-12T07:50:06Z</dcterms:modified>
  <cp:revision>152</cp:revision>
  <dc:subject/>
  <dc:title>第一次真好</dc:title>
</cp:coreProperties>
</file>