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3.gif" ContentType="image/gif"/>
  <Override PartName="/ppt/media/image8.jpeg" ContentType="image/jpeg"/>
  <Override PartName="/ppt/media/image5.png" ContentType="image/png"/>
  <Override PartName="/ppt/media/image29.jpeg" ContentType="image/jpeg"/>
  <Override PartName="/ppt/media/image28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19.jpeg" ContentType="image/jpeg"/>
  <Override PartName="/ppt/media/image25.gif" ContentType="image/gif"/>
  <Override PartName="/ppt/media/image6.jpeg" ContentType="image/jpeg"/>
  <Override PartName="/ppt/media/chimes.wav" ContentType="audio/x-wav"/>
  <Override PartName="/ppt/media/image23.gif" ContentType="image/gif"/>
  <Override PartName="/ppt/media/image16.png" ContentType="image/png"/>
  <Override PartName="/ppt/media/image30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2.gif" ContentType="image/gif"/>
  <Override PartName="/ppt/media/image10.png" ContentType="image/png"/>
  <Override PartName="/ppt/media/image1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26.gif" ContentType="image/gif"/>
  <Override PartName="/ppt/media/image20.jpeg" ContentType="image/jpeg"/>
  <Override PartName="/ppt/media/image21.gif" ContentType="image/gi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B22-A18E-4362-BC8C-C3415021D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1CE8-81B7-4C20-918A-E5C46474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528FA-0CEA-4B40-8BA3-BDF536CD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F24B8-EA54-4EB1-9599-694EAE7D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7F5A9-FE1A-4B12-908E-CC27A1625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2909F-D365-4A66-A93F-7AC9C084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60C6A-0710-4F45-9357-4C57B8A8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7D8A8-E437-48F6-BCDB-528F987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701EF-9681-4406-833D-377F5619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52EB6E-2152-47D6-85F8-A5E8E3589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50B92-9385-432F-8DF9-4BA0FA3D8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876637-8E3C-4083-9C93-FF078BAC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FBF-AE39-4F8E-B7DB-5AB06E17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CB3B80-4034-4FFA-A163-9BDFD102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49C0ED-EEFA-49A4-941E-2E7B97B1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FF88EE-B94F-4DA6-84A3-A97D058F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D3A0D9-DDE5-4327-AAA4-73E9A05D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CA47B6-E328-4EB0-AABC-F1CD259F3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AA2D40-7F77-4531-8890-003EB1D4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0635C3-AE79-4B82-90BF-D756E039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87E56A-56A2-4C15-82CD-6DFA32A7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50FF22-2987-4881-A134-32295C77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519D63-80F2-4F22-8B15-514024B3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CD90-EBDB-4566-AC25-B7AE9788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8D41AA3-9EE7-4A1E-B6EF-2F7BC8C48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7130A-AAF3-4310-90F2-405B51CA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DFD-3AA1-4371-A113-C99F439F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79D15-1E7A-4C34-91EB-F03405516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C648-CD8C-425F-9A98-3D869AD3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6B46-85AC-408B-B283-8ECD9D7C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01874-A2CF-45A4-87FE-8345937B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64D6-ACBD-40F0-878D-A3FED31E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9CC-F048-417D-BE4C-0D6A4C18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8A23-8CBA-4C62-B248-BD88B583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DDBD-97FA-474E-B0B8-56BABD44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F4E4-674F-4D48-B5F4-16631B50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225-75E3-4158-992C-62021B4F6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024-1997-4948-9F56-01470FE1A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EC110-1A7F-4781-B225-229427FF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E8461-6205-4C4E-9D52-46180C79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07F76-8CA2-48C5-BC06-48117388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DA309-E416-440E-82B4-ECC80922C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784F-E10C-4A25-9E97-FEFBAC41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C275-B527-4805-A9D8-C58D4FE5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9A1CD-5B2D-4221-9026-98531FC4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A870F-0A5B-4F02-B05A-9DD46BC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348F1-0C99-4FFA-83C2-A40038D5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2CCAA-C216-4900-9796-39300331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EFE1C-E0CD-47D9-BC12-0B9C9F53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6ACF0-B923-4E84-9F6D-169974BB1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5F601C-F8DA-4B2B-A41C-AA2CA6CE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AF3F2-9D9B-4BD3-9F7E-035FD06F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008C-6456-4FD7-869D-949F230D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673A2-7031-41D6-9C3D-B9579DA1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A13-561A-4DC5-91AF-31F9BBF9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638A1-5A00-4CBF-AA1A-46DE0AD3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ED04-7FD0-4B81-88EE-9FE3A8CE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0308A-B518-42DC-8A70-98E3B3A2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13DF-84CB-44AE-A5A2-D7CB43E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ADC53-BB25-4FD7-B2F3-0F9A0B4AD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CF56B-E058-44EF-B2B9-2BB431F4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B1115-CFB7-414C-A666-36DA2188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664CC-23BF-454F-AF53-BCCBE673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DC204-D808-48D9-8AC7-7AC3F36D1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A664-C257-472F-91FD-E9621B51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BF92-08E5-4936-8445-FE3C447E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AF73E-6EA2-43E4-869F-C7F7A9CB8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89C15-E983-4752-A959-0CA71F3B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481F1-9CDF-49B0-89CB-537F356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980C8-B2A6-4082-BA7D-69CE7618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1F882-DA52-4554-A675-828FE847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1EF94-25E0-4DED-859A-870CAD64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D3117-891C-4549-B4D8-B7C6F9F8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BA9DC-8133-44A2-A51A-290D953A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E9C0D-91B3-4EA4-A3D9-A9D0B742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EAA69-E6C2-4362-9266-5722E9D3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147D-A8FB-4E53-8E46-8B03B471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E2C49-E46C-412C-A0DB-26B4D2846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C925-48F9-4BEA-AC1B-B75F6EAD9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4FDBF-7BE9-45E7-9F5E-AB4FD21A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FD4647-77B9-4588-886C-549B4407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9B14-3845-4FFA-ADD6-12E9CEB7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AC09E-AB93-4A08-8C2A-1D84D7C1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6E596-F6CC-4792-8DA6-17BE63C9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352B3-00A8-43C9-B99C-379F33BC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28F578-FA82-4A48-A96D-6DD1FF1B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CB4A7-FC21-4C68-A28F-0F4E301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3EB5-FB70-4960-B17C-79B2B23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129A4-BB09-4DA4-921C-89AFF797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C1BF9D-9291-4818-AB95-4F2BD441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BDB56-E754-4EFF-B718-1317CDFB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6FD04-03E9-4A13-BD74-BA597747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F0F4F-C16E-44A9-AE76-42127C26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6084C-FFFA-4832-90B5-B9515390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22B31-10CA-4BFD-8EA1-E5F42C054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0B92F-AA8D-4C3D-B8CC-1AE895F7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A0F22-C376-4C1B-9CC7-067B952A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5EC6-60A3-4515-86AA-3DA98790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73E6-423E-412D-A8E5-9D9A6FCC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A6F58-D692-4E7E-8618-43897528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F9F45-B85A-4654-8FA6-37198FC7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EC95D-AC95-4565-9722-D8FC5F99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B3D51-881D-42B0-8A6F-9AAE71AE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07A7D-10BE-4792-AC19-4C1EB3FB1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E05919-267B-4083-9641-7245BEEE7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E1E1B-0DA1-4C00-AEAB-9300068E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1A085-2B45-46F4-A3F0-A8F4AA20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4ABEE-32A3-455E-9FA1-922807BA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432B6-CEDB-4F5D-BFD1-F8F43D68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30F-834D-4DDD-B744-4C2B274E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6C6CA-4DAE-436B-9C13-53CA123C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4D347-0675-464A-9745-A740D960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2639-2D1E-4A5B-8FD3-C6D8D95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24404-EC33-490E-ABF6-E4E62215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F480C-FF91-4184-AEC6-88580D39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44B61-2B21-4390-91A5-584011C0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7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88D63-9F3A-4EC6-A157-4CF49D0E1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37472-1031-43E8-A9F1-FB900744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59D8E-C5A2-4035-8727-2EAC1397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FFEE0-3CF2-4C76-AAAC-B60E36AB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424E-617F-4F99-82BC-C47FA258446D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D649-C393-49C0-82BA-D6BDA3CDB3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C2E0-CB65-4CE1-86CC-5FF426E97507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67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7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8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9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8082-96BC-4F18-89FA-660DDE72AF0A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265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4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2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9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350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9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360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369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7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378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86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3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424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425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3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434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2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443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1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452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2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473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479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C7D8-E62E-457D-BCE5-1A3BABD77369}" type="slidenum">
              <a:rPr b="0" lang="zh-CN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4429080" y="3352680"/>
            <a:ext cx="324000" cy="32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FB2AF-FDA7-4122-B2D7-7929F86A88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ADE5-0AD2-4855-B792-E585D7C21B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ffff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57E-D3A8-4248-9EBA-100A5CE38D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03AD-B839-4FC5-ACEE-FEFF80AED9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4D14-1047-4724-B78A-36AD9D99637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slide" Target="slide35.xml"/><Relationship Id="rId7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7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4479840" y="3048120"/>
            <a:ext cx="2530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136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1371600" y="1752480"/>
            <a:ext cx="6934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义务教育课程标准实验教科书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600200" y="37339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2743200" y="2438280"/>
            <a:ext cx="331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语文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797" name=""/>
          <p:cNvSpPr/>
          <p:nvPr/>
        </p:nvSpPr>
        <p:spPr>
          <a:xfrm>
            <a:off x="289548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七年级下册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700360" y="486900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制作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84358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第一段写了件什么事？体现了包拯的什么性格？在写法上有何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任知县时破获的一起割他人牛舌案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聪明机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方正姚体"/>
                <a:ea typeface="方正姚体"/>
              </a:rPr>
              <a:t>语言简洁，运用语言描写体现人物性格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cc00"/>
                </a:solidFill>
                <a:latin typeface="隶书"/>
                <a:ea typeface="隶书"/>
              </a:rPr>
              <a:t>、语言描写写出了他办事的什么特点？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Verdana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一句：表现出包拯成竹在胸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cc00"/>
                </a:solidFill>
                <a:latin typeface="宋体"/>
              </a:rPr>
              <a:t>第二句：写他看穿盗贼伎俩，并先发制人，使其惊恐万分，顺利破案</a:t>
            </a:r>
            <a:r>
              <a:rPr b="1" lang="zh-CN" sz="2400" spc="-1" strike="noStrike">
                <a:solidFill>
                  <a:srgbClr val="00cc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Verdana"/>
                <a:ea typeface="方正姚体"/>
              </a:rPr>
              <a:t>古判断句的形式，翻译时加判断词“是”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字希仁，是庐州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今安徽合肥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人。……当天长县知县。有个盗贼割了别人家耕牛的舌头，牛主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状。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只管回家去，杀了牛卖了它。”不久又有一人来到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县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告别人私自宰杀耕牛，包拯说：“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你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为什么割了别人家耕牛的舌头，又来告他的状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这个盗贼感到很震惊，也很服气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1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徙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知端州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迁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殿中丞。端土产砚，前守缘贡率取数十倍以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遗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权贵。拯命制者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才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足贡数，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岁满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不持一砚归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-324000" y="1916280"/>
            <a:ext cx="2087640" cy="431640"/>
          </a:xfrm>
          <a:prstGeom prst="wedgeRoundRectCallout">
            <a:avLst>
              <a:gd name="adj1" fmla="val 110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调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516720" y="198900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趁着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6300720" y="404640"/>
            <a:ext cx="1081080" cy="432000"/>
          </a:xfrm>
          <a:prstGeom prst="wedgeRoundRectCallout">
            <a:avLst>
              <a:gd name="adj1" fmla="val 149263"/>
              <a:gd name="adj2" fmla="val 1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大都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56000" y="3357720"/>
            <a:ext cx="1081080" cy="431640"/>
          </a:xfrm>
          <a:prstGeom prst="wedgeRoundRectCallout">
            <a:avLst>
              <a:gd name="adj1" fmla="val -63800"/>
              <a:gd name="adj2" fmla="val -1459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赠送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435640" y="3573360"/>
            <a:ext cx="2233440" cy="432000"/>
          </a:xfrm>
          <a:prstGeom prst="wedgeRoundRectCallout">
            <a:avLst>
              <a:gd name="adj1" fmla="val 49361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当政满一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708360" y="4005360"/>
            <a:ext cx="1513080" cy="360360"/>
          </a:xfrm>
          <a:prstGeom prst="wedgeRoundRectCallout">
            <a:avLst>
              <a:gd name="adj1" fmla="val 63115"/>
              <a:gd name="adj2" fmla="val -3605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仅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转到端州当知府，升为殿中丞。端州出产砚台，此前的知府趁着进贡大都敛取是贡数几十倍的砚台，来赠送给当朝权贵。包拯命令制造的砚台仅仅满足贡数，当政满一年没拿一方砚台回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755280" y="260280"/>
            <a:ext cx="79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第二段写了件什么事？和第一段比较，本段有何特点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他在端州任职期间严格控制上贡端砚的数量，并没有接受一方砚台的馈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写得比较概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隶书"/>
                <a:ea typeface="隶书"/>
              </a:rPr>
              <a:t>、包拯为官廉洁表现在哪两个方面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方正姚体"/>
                <a:ea typeface="方正姚体"/>
              </a:rPr>
              <a:t>、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他坚决、有效地堵死了官吏用来趋炎附势的源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、“从我做起”“岁满不持一砚归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9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使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契丹，契丹令典客谓拯曰：“雄州新开便门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乃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欲诱我叛人，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以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刺疆事耶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拯曰：“涿州亦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开门矣，刺疆事何必开便门哉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其人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遂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无以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50920" y="2060640"/>
            <a:ext cx="1944720" cy="431640"/>
          </a:xfrm>
          <a:prstGeom prst="wedgeRoundRectCallout">
            <a:avLst>
              <a:gd name="adj1" fmla="val -21018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出使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708360" y="1989000"/>
            <a:ext cx="1584360" cy="432000"/>
          </a:xfrm>
          <a:prstGeom prst="wedgeRoundRectCallout">
            <a:avLst>
              <a:gd name="adj1" fmla="val 26453"/>
              <a:gd name="adj2" fmla="val -22647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对…说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39640" y="350028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142657"/>
              <a:gd name="adj2" fmla="val -223162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曾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124000" y="4724280"/>
            <a:ext cx="1871640" cy="432000"/>
          </a:xfrm>
          <a:prstGeom prst="wedgeRoundRectCallout">
            <a:avLst>
              <a:gd name="adj1" fmla="val -69930"/>
              <a:gd name="adj2" fmla="val 26323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于是，就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708360" y="3645000"/>
            <a:ext cx="1081080" cy="43164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0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5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出使契丹，契丹命令典客对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雄州城最近开了便门，就是想引诱我国的叛徒，以便刺探边疆的情报吧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包拯说：“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你们国家的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州城曾经也开过便门，刺探边疆的情报为何一定要开便门呢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那个人便无言以对了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隶书"/>
              </a:rPr>
              <a:t>这段写了件什么事？与前两段相比，本段有何特点？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他奉命出使契丹，驳倒契丹的荒谬论点，写出了他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巧言善辩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i="1" lang="zh-CN" sz="3600" spc="-1" strike="noStrike">
                <a:solidFill>
                  <a:srgbClr val="ffffff"/>
                </a:solidFill>
                <a:latin typeface="Arial"/>
              </a:rPr>
              <a:t>不辱使命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的爱国之心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写法上与第一段相同，描写具体，通过人物语言突出人物性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060720" y="4986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琥珀"/>
                <a:ea typeface="华文琥珀"/>
              </a:rPr>
              <a:t>阅读第三段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召权知开封府，迁右司郎中。拯立朝刚毅，贵戚宦官为之敛手，闻者皆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惮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之。人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以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包拯笑比黄河清。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童稚妇女，亦知其名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，呼日“包待制”。京师为之语曰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关节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不到，有阎罗包老。”旧制，凡讼诉不得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</a:rPr>
              <a:t>径造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庭下。拯开正门，使得至前陈曲直，吏不敢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1979640" y="2492280"/>
            <a:ext cx="1081080" cy="43200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畏惧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35280" y="2708280"/>
            <a:ext cx="1081080" cy="360360"/>
          </a:xfrm>
          <a:prstGeom prst="wedgeRoundRectCallout">
            <a:avLst>
              <a:gd name="adj1" fmla="val 35462"/>
              <a:gd name="adj2" fmla="val -22180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把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708360" y="3645000"/>
            <a:ext cx="3168720" cy="431640"/>
          </a:xfrm>
          <a:prstGeom prst="wedgeRoundRectCallout">
            <a:avLst>
              <a:gd name="adj1" fmla="val 101402"/>
              <a:gd name="adj2" fmla="val -142648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暗中行贿串通关系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5364000" y="4724280"/>
            <a:ext cx="1657440" cy="432000"/>
          </a:xfrm>
          <a:prstGeom prst="wedgeRoundRectCallout">
            <a:avLst>
              <a:gd name="adj1" fmla="val 36782"/>
              <a:gd name="adj2" fmla="val -11286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直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380360" y="5013360"/>
            <a:ext cx="1081080" cy="431640"/>
          </a:xfrm>
          <a:prstGeom prst="wedgeRoundRectCallout">
            <a:avLst>
              <a:gd name="adj1" fmla="val -58370"/>
              <a:gd name="adj2" fmla="val -1974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到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181080" y="1413000"/>
            <a:ext cx="1081080" cy="431640"/>
          </a:xfrm>
          <a:prstGeom prst="wedgeRoundRectCallout">
            <a:avLst>
              <a:gd name="adj1" fmla="val 17986"/>
              <a:gd name="adj2" fmla="val -14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下诏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2700360" y="189000"/>
            <a:ext cx="2050920" cy="360360"/>
          </a:xfrm>
          <a:prstGeom prst="wedgeRoundRectCallout">
            <a:avLst>
              <a:gd name="adj1" fmla="val -134828"/>
              <a:gd name="adj2" fmla="val 15264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暂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859280" y="2637000"/>
            <a:ext cx="2954520" cy="360360"/>
          </a:xfrm>
          <a:prstGeom prst="wedgeRoundRectCallout">
            <a:avLst>
              <a:gd name="adj1" fmla="val 56879"/>
              <a:gd name="adj2" fmla="val -24206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成语：妇孺皆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9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4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被朝廷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召令暂时代理开封府尹，升为右司郎中。包拯在朝廷为人刚强坚毅，贵戚宦官因此而大为收敛，听说的人都很害怕他。人们把包拯笑比做黄河水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一样极难发生的事情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小孩和妇女，也知道他的名声，叫他“包待制”。京城里的人因此说：“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暗中行贿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疏不通关系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的人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，有阎罗王和包老头。”按旧规矩，凡是诉讼都不能直接到官署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递交状子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。包拯打开官署正门，使告状的人能够到跟前陈述是非，办事小吏因此不敢欺瞒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900000" y="69228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27 </a:t>
            </a:r>
            <a:r>
              <a:rPr b="1" lang="zh-CN" sz="6000" spc="-1" strike="noStrike">
                <a:solidFill>
                  <a:srgbClr val="00ffff"/>
                </a:solidFill>
                <a:latin typeface="Arial"/>
              </a:rPr>
              <a:t>．</a:t>
            </a:r>
            <a:r>
              <a:rPr b="1" lang="zh-CN" sz="8000" spc="-1" strike="noStrike">
                <a:solidFill>
                  <a:srgbClr val="00ffff"/>
                </a:solidFill>
                <a:latin typeface="Arial"/>
              </a:rPr>
              <a:t>包  拯</a:t>
            </a:r>
            <a:endParaRPr b="0" lang="en-US" sz="8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2"/>
          <a:stretch/>
        </p:blipFill>
        <p:spPr>
          <a:xfrm>
            <a:off x="0" y="261000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9325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拯性峭直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恶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吏苛刻，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务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敦厚，虽甚嫉恶，而未尝不推以忠恕也。与人不苟合，不伪辞色悦人，平居无私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书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，故人、亲党皆绝之。虽贵，衣服、器用、饮食如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布衣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时。尝曰：“后世子孙仕宦，有犯赃者，不得放归本家，死不得葬大茔中。不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从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吾志，非吾子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若</a:t>
            </a: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孙也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68360" y="1341360"/>
            <a:ext cx="2160720" cy="432000"/>
          </a:xfrm>
          <a:prstGeom prst="wedgeRoundRectCallout">
            <a:avLst>
              <a:gd name="adj1" fmla="val 39935"/>
              <a:gd name="adj2" fmla="val -159189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憎恶，讨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35280" y="1413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追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187280" y="5734080"/>
            <a:ext cx="1081080" cy="431640"/>
          </a:xfrm>
          <a:prstGeom prst="wedgeRoundRectCallout">
            <a:avLst>
              <a:gd name="adj1" fmla="val 140013"/>
              <a:gd name="adj2" fmla="val 5845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和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885080" y="6426360"/>
            <a:ext cx="1081080" cy="431640"/>
          </a:xfrm>
          <a:prstGeom prst="wedgeRoundRectCallout">
            <a:avLst>
              <a:gd name="adj1" fmla="val 42217"/>
              <a:gd name="adj2" fmla="val -294486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听从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258920" y="3429000"/>
            <a:ext cx="108108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419640" y="3357720"/>
            <a:ext cx="1081080" cy="431640"/>
          </a:xfrm>
          <a:prstGeom prst="wedgeRoundRectCallout">
            <a:avLst>
              <a:gd name="adj1" fmla="val 264537"/>
              <a:gd name="adj2" fmla="val -948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虽然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268360" y="4653000"/>
            <a:ext cx="1081440" cy="431640"/>
          </a:xfrm>
          <a:prstGeom prst="wedgeRoundRectCallout">
            <a:avLst>
              <a:gd name="adj1" fmla="val 48680"/>
              <a:gd name="adj2" fmla="val -15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平名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6" dur="2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1" dur="2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6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包拯性情严峻刚直，憎恶办事小吏苛杂刻薄，务求忠诚厚道，虽然非常憎恨厌恶，但从来没有不施行忠恕之道的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跟人交往不随意附和，不以巧言令色取悦人，平常没有私人信件，连朋友、亲戚也断绝往来。虽然地位高贵，但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穿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衣服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用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器物、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吃的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饮食跟当百姓时一样。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他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</a:rPr>
              <a:t>曾经说：“后代子孙当官从政，假若贪赃枉法，不得放回老家，死了不得葬入家族墓地。假若不听从我的意志，就不是我的子孙。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867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1680" y="345960"/>
            <a:ext cx="85406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阅读 第 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4-5</a:t>
            </a:r>
            <a:r>
              <a:rPr b="0" lang="zh-CN" sz="5400" spc="-1" strike="noStrike">
                <a:solidFill>
                  <a:srgbClr val="ffffff"/>
                </a:solidFill>
                <a:latin typeface="华文琥珀"/>
                <a:ea typeface="华文琥珀"/>
              </a:rPr>
              <a:t>段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20560" y="1666440"/>
            <a:ext cx="8299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  <a:ea typeface="隶书"/>
              </a:rPr>
              <a:t>这两段分别写了什么内容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四段：写人们对他的看法和评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第五段：写他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为官刚直不阿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不巧言令色，对亲人朋友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不结党营私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在生活上从不奢侈，</a:t>
            </a:r>
            <a:r>
              <a:rPr b="1" i="1" lang="zh-CN" sz="3600" spc="-1" strike="noStrike">
                <a:solidFill>
                  <a:srgbClr val="ff0066"/>
                </a:solidFill>
                <a:latin typeface="Arial"/>
              </a:rPr>
              <a:t>保持朴素之风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，最后写他对后世子孙的训诫。言语中肯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"/>
          <p:cNvSpPr/>
          <p:nvPr/>
        </p:nvSpPr>
        <p:spPr>
          <a:xfrm>
            <a:off x="685800" y="914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琥珀"/>
              </a:rPr>
              <a:t>二、品读感悟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143000" y="2743200"/>
            <a:ext cx="70866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6699"/>
                </a:solidFill>
                <a:latin typeface="Arial"/>
                <a:ea typeface="华文行楷"/>
              </a:rPr>
              <a:t>     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文章记叙了包拯的哪几件事？分别体现了包拯的什么品质</a:t>
            </a:r>
            <a:r>
              <a:rPr b="0" lang="zh-CN" sz="5400" spc="-1" strike="noStrike">
                <a:solidFill>
                  <a:srgbClr val="006699"/>
                </a:solidFill>
                <a:latin typeface="华文行楷"/>
                <a:ea typeface="华文行楷"/>
              </a:rPr>
              <a:t>?</a:t>
            </a: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74" name="" descr=""/>
          <p:cNvPicPr/>
          <p:nvPr/>
        </p:nvPicPr>
        <p:blipFill>
          <a:blip r:embed="rId1"/>
          <a:stretch/>
        </p:blipFill>
        <p:spPr>
          <a:xfrm>
            <a:off x="7236000" y="765000"/>
            <a:ext cx="1908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971640" y="30492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小结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: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文章写了包拯的哪几件事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分别体现了包拯的什么品质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?</a:t>
            </a:r>
            <a:endParaRPr b="0" lang="en-US" sz="4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11280" y="1773360"/>
            <a:ext cx="365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智断割牛舌案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1403280" y="378936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3276720" y="380988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572000" y="1773360"/>
            <a:ext cx="44197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机智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清廉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巧言善辩，不辱使命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官刚正、执法严峻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57200" y="30481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出使契丹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-533520" y="3809880"/>
            <a:ext cx="5321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251"/>
              </a:spcBef>
              <a:buClr>
                <a:srgbClr val="ffffcc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畏权贵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体恤百姓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088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家教严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80880" y="2438280"/>
            <a:ext cx="366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ffcc"/>
                </a:solidFill>
                <a:latin typeface="Arial"/>
              </a:rPr>
              <a:t>、不持一砚归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122400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/>
          <p:nvPr/>
        </p:nvSpPr>
        <p:spPr>
          <a:xfrm flipH="1">
            <a:off x="7236000" y="1413000"/>
            <a:ext cx="142560" cy="3673440"/>
          </a:xfrm>
          <a:custGeom>
            <a:avLst/>
            <a:gdLst>
              <a:gd name="textAreaLeft" fmla="*/ 91080 w 142560"/>
              <a:gd name="textAreaRight" fmla="*/ 142920 w 1425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55640" y="1341360"/>
            <a:ext cx="4321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天长县  断盗割牛舌案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任端州府  做官不持一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出使契丹  辩驳典客诘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知开封府  除弊“阎罗包老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楷体_GB2312"/>
              </a:rPr>
              <a:t>平日为人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5580000" y="148428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39640" y="1484280"/>
            <a:ext cx="216000" cy="3457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556000" y="4292640"/>
            <a:ext cx="144360" cy="86364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6012000" y="170028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084720" y="2997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侧面描写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651640" y="4292640"/>
            <a:ext cx="71280" cy="86364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796000" y="4365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正面描写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308720" y="1268280"/>
            <a:ext cx="16192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机智聪明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公正廉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不辱使命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铁面无私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克己奉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700360" y="4149720"/>
            <a:ext cx="237636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人对己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80808"/>
                </a:solidFill>
                <a:latin typeface="Arial"/>
                <a:ea typeface="楷体_GB2312"/>
              </a:rPr>
              <a:t>对后世子孙</a:t>
            </a:r>
            <a:endParaRPr b="0" lang="en-US" sz="2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811040" y="1413000"/>
            <a:ext cx="9918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详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略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7" name="">
            <a:hlinkClick r:id="" action="ppaction://hlinkshowjump?jump=previousslide"/>
          </p:cNvPr>
          <p:cNvSpPr/>
          <p:nvPr/>
        </p:nvSpPr>
        <p:spPr>
          <a:xfrm>
            <a:off x="5796000" y="1557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8" name="">
            <a:hlinkClick r:id="" action="ppaction://hlinkshowjump?jump=previousslide"/>
          </p:cNvPr>
          <p:cNvSpPr/>
          <p:nvPr/>
        </p:nvSpPr>
        <p:spPr>
          <a:xfrm>
            <a:off x="5796000" y="2205000"/>
            <a:ext cx="217440" cy="216000"/>
          </a:xfrm>
          <a:custGeom>
            <a:avLst/>
            <a:gdLst>
              <a:gd name="textAreaLeft" fmla="*/ 13680 w 217440"/>
              <a:gd name="textAreaRight" fmla="*/ 203760 w 217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744" h="21600">
                <a:moveTo>
                  <a:pt x="0" y="0"/>
                </a:moveTo>
                <a:lnTo>
                  <a:pt x="21744" y="0"/>
                </a:lnTo>
                <a:lnTo>
                  <a:pt x="21744" y="21600"/>
                </a:lnTo>
                <a:lnTo>
                  <a:pt x="0" y="21600"/>
                </a:lnTo>
                <a:close/>
              </a:path>
              <a:path fill="lightenLess" w="21744" h="21600">
                <a:moveTo>
                  <a:pt x="0" y="0"/>
                </a:moveTo>
                <a:lnTo>
                  <a:pt x="21744" y="0"/>
                </a:lnTo>
                <a:lnTo>
                  <a:pt x="20344" y="1400"/>
                </a:lnTo>
                <a:lnTo>
                  <a:pt x="1400" y="1400"/>
                </a:lnTo>
                <a:close/>
              </a:path>
              <a:path fill="darken" w="21744" h="21600">
                <a:moveTo>
                  <a:pt x="21744" y="0"/>
                </a:moveTo>
                <a:lnTo>
                  <a:pt x="21744" y="21600"/>
                </a:lnTo>
                <a:lnTo>
                  <a:pt x="20344" y="20200"/>
                </a:lnTo>
                <a:lnTo>
                  <a:pt x="20344" y="1400"/>
                </a:lnTo>
                <a:close/>
              </a:path>
              <a:path fill="darkenLess" w="21744" h="21600">
                <a:moveTo>
                  <a:pt x="217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44" y="20200"/>
                </a:lnTo>
                <a:close/>
              </a:path>
              <a:path fill="lighten" w="217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previousslide"/>
          </p:cNvPr>
          <p:cNvSpPr/>
          <p:nvPr/>
        </p:nvSpPr>
        <p:spPr>
          <a:xfrm>
            <a:off x="5796000" y="278136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0" name="">
            <a:hlinkClick r:id="" action="ppaction://hlinkshowjump?jump=previousslide"/>
          </p:cNvPr>
          <p:cNvSpPr/>
          <p:nvPr/>
        </p:nvSpPr>
        <p:spPr>
          <a:xfrm>
            <a:off x="5796000" y="342900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5796000" y="436572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8" dur="500"/>
                                        <p:tgtEl>
                                          <p:spTgt spid="8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3" dur="500"/>
                                        <p:tgtEl>
                                          <p:spTgt spid="8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6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/>
                                        <p:tgtEl>
                                          <p:spTgt spid="8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5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3" dur="500"/>
                                        <p:tgtEl>
                                          <p:spTgt spid="8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8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"/>
          <p:cNvSpPr/>
          <p:nvPr/>
        </p:nvSpPr>
        <p:spPr>
          <a:xfrm>
            <a:off x="395280" y="3213000"/>
            <a:ext cx="806616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236fa"/>
                </a:solidFill>
                <a:latin typeface="Arial"/>
              </a:rPr>
              <a:t>要求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:1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语言符合人物的身份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    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、动作神态体现人物的特点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236fa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2124000" y="765000"/>
            <a:ext cx="4680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本剧表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2"/>
          <a:stretch/>
        </p:blipFill>
        <p:spPr>
          <a:xfrm>
            <a:off x="6300720" y="5229360"/>
            <a:ext cx="936720" cy="1296720"/>
          </a:xfrm>
          <a:prstGeom prst="rect">
            <a:avLst/>
          </a:prstGeom>
          <a:ln w="0">
            <a:noFill/>
          </a:ln>
        </p:spPr>
      </p:pic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395280" y="765000"/>
            <a:ext cx="1512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0" y="1676520"/>
            <a:ext cx="883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      </a:t>
            </a:r>
            <a:r>
              <a:rPr b="0" lang="zh-CN" sz="6600" spc="-1" strike="noStrike">
                <a:solidFill>
                  <a:srgbClr val="006699"/>
                </a:solidFill>
                <a:latin typeface="华文行楷"/>
                <a:ea typeface="华文行楷"/>
              </a:rPr>
              <a:t>作者 怎样塑造包拯这个人物形象的？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733920"/>
            <a:ext cx="40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正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侧面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3352680" y="3733920"/>
            <a:ext cx="4038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365760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533520" y="380880"/>
            <a:ext cx="303192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、问题探究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1" name=""/>
          <p:cNvSpPr/>
          <p:nvPr/>
        </p:nvSpPr>
        <p:spPr>
          <a:xfrm>
            <a:off x="609480" y="5334120"/>
            <a:ext cx="289584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概括描写：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具体描写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505320" y="5410080"/>
            <a:ext cx="41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4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5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971800" y="6216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（ 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、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6699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317080" y="620640"/>
            <a:ext cx="4759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8080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/>
          </p:nvPr>
        </p:nvSpPr>
        <p:spPr>
          <a:xfrm>
            <a:off x="-305280" y="404640"/>
            <a:ext cx="9448920" cy="691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黑体"/>
              </a:rPr>
              <a:t>纵观全文，看一看作者在结构安排和表现方法上有什么特点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结构：全文共五段，每段重点写人物的一个性格特点，有详有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概括描写：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4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5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具体描写    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（ 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3 </a:t>
            </a:r>
            <a:r>
              <a:rPr b="1" lang="zh-CN" sz="3600" spc="-1" strike="noStrike">
                <a:solidFill>
                  <a:srgbClr val="ffffff"/>
                </a:solidFill>
                <a:latin typeface="Tahoma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表现方法：从不同的角度刻画人物鲜明性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正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ahoma"/>
                <a:ea typeface="隶书"/>
              </a:rPr>
              <a:t>侧面描写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Tahoma"/>
                <a:ea typeface="方正舒体"/>
              </a:rPr>
              <a:t>          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方正舒体"/>
              </a:rPr>
              <a:t>相互配合，富于变化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490920" y="3040200"/>
            <a:ext cx="1008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90920" y="50292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971800" y="5562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（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97" fill="hold"/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97" fill="hold"/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97" fill="hold"/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97" fill="hold"/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97" fill="hold"/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7" fill="hold"/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897" fill="hold"/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9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说说下列语句表现了人物的哪种性格特征或优秀品质？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1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拯命制者才足贡数，岁满不持一砚归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京师为之语曰：“关节不到，有阎罗包老”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3</a:t>
            </a:r>
            <a:r>
              <a:rPr b="1" lang="zh-CN" sz="4000" spc="-1" strike="noStrike">
                <a:solidFill>
                  <a:srgbClr val="ff3300"/>
                </a:solidFill>
                <a:latin typeface="华文隶书"/>
                <a:ea typeface="华文隶书"/>
              </a:rPr>
              <a:t>）虽贵，衣服、器用、饮食如布衣时。</a:t>
            </a:r>
            <a:endParaRPr b="0" lang="en-US" sz="4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348000" y="314172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廉洁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067280" y="4365720"/>
            <a:ext cx="38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为官刚正，执法严峻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700360" y="580536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克己奉公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352680" y="228600"/>
            <a:ext cx="2667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3399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随堂练习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ff3399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/>
          <p:nvPr/>
        </p:nvSpPr>
        <p:spPr>
          <a:xfrm>
            <a:off x="684360" y="1557360"/>
            <a:ext cx="8064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6699"/>
                </a:solidFill>
                <a:latin typeface="Arial"/>
                <a:ea typeface="华文隶书"/>
              </a:rPr>
              <a:t>        </a:t>
            </a:r>
            <a:r>
              <a:rPr b="1" lang="zh-CN" sz="6600" spc="-1" strike="noStrike">
                <a:solidFill>
                  <a:srgbClr val="00cc00"/>
                </a:solidFill>
                <a:latin typeface="宋体"/>
              </a:rPr>
              <a:t>廉者，民之表也；贪者，民之贼也。</a:t>
            </a:r>
            <a:endParaRPr b="0" lang="en-US" sz="66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00cc00"/>
                </a:solidFill>
                <a:latin typeface="宋体"/>
              </a:rPr>
              <a:t>                     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——</a:t>
            </a:r>
            <a:r>
              <a:rPr b="1" lang="zh-CN" sz="5000" spc="-1" strike="noStrike">
                <a:solidFill>
                  <a:srgbClr val="00cc00"/>
                </a:solidFill>
                <a:latin typeface="宋体"/>
              </a:rPr>
              <a:t>包拯</a:t>
            </a:r>
            <a:endParaRPr b="0" lang="en-US" sz="5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179280" y="2421000"/>
            <a:ext cx="865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00"/>
                </a:solidFill>
                <a:latin typeface="Arial"/>
              </a:rPr>
              <a:t>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包拯作为历史上有名的清官，他能做到别人所不能，为什么包拯会这样做？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2700360" y="228600"/>
            <a:ext cx="48434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、合作探究，深化理解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926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1224000" cy="1368360"/>
          </a:xfrm>
          <a:prstGeom prst="rect">
            <a:avLst/>
          </a:prstGeom>
          <a:ln w="0">
            <a:noFill/>
          </a:ln>
        </p:spPr>
      </p:pic>
      <p:pic>
        <p:nvPicPr>
          <p:cNvPr id="927" name="" descr=""/>
          <p:cNvPicPr/>
          <p:nvPr/>
        </p:nvPicPr>
        <p:blipFill>
          <a:blip r:embed="rId3"/>
          <a:stretch/>
        </p:blipFill>
        <p:spPr>
          <a:xfrm>
            <a:off x="7308720" y="4437000"/>
            <a:ext cx="762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380880" y="1700280"/>
            <a:ext cx="876312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还知道古今中外有哪些清官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说说他们的事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228600" y="0"/>
            <a:ext cx="32004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84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、语文活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84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990720" y="533520"/>
            <a:ext cx="685800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隶书"/>
              </a:rPr>
              <a:t>历史上的清官</a:t>
            </a:r>
            <a:endParaRPr b="0" lang="en-US" sz="60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1" name=""/>
          <p:cNvSpPr/>
          <p:nvPr/>
        </p:nvSpPr>
        <p:spPr>
          <a:xfrm>
            <a:off x="755640" y="4581360"/>
            <a:ext cx="3505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海瑞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97180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于成龙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248520" y="4648320"/>
            <a:ext cx="2895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耶律楚材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5" name=""/>
          <p:cNvSpPr/>
          <p:nvPr/>
        </p:nvSpPr>
        <p:spPr>
          <a:xfrm>
            <a:off x="826920" y="0"/>
            <a:ext cx="7561440" cy="20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明朝时候的海瑞是中国历史上有名的清官。他铁面无私，明察秋毫，人称“海青天”。一天，他带着几个衙役微服出巡，在街上看见一群人慌慌张张地走过来，两个身强力壮的小伙子用一块木板抬着一个人，身上盖着被子，插着珠钗的头露在被子外面。另几个男人在旁边跟着，不时有人去掖掖被子。走了一会儿，他们在路旁休息一会儿，再换两个人抬着木板走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觉得蹊跷，便上去攀谈，得知是这家的妹妹身染恶疾，特地找来几个同村的小伙子抬她去外地看医生的。海瑞派一个衙役暗中跟踪，看到这群人来到一个村子最西头的房屋前，两个人把他们接了过去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海瑞回府后迅速派人去将那伙人抓了起来，从那间屋里搜出了大量金银财宝，后来经审讯得知他们是一伙强盗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826920" y="54936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于成龙，字北溟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17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年生于我县下昔乡来堡村。清顺治十八年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61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45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岁的于成龙以副榜贡生出任广西罗城县令，后迁任知州、知府、巡抚、两江总督等职。在二十多年的宦海生涯中，他关心百姓疾苦，敢于为民请命，生活清苦，廉政勤政，深受百姓爱戴和康熙皇帝赞誉，三次被举“卓异”，成为清初廉政官员的典范。康熙二十三（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1684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），于成龙在两江总督任上病逝，江南民众“巷哭罢市，绘像祀之”。康熙亲撰碑文，称他为“天下廉吏第一”。作为封建官吏，于成龙的思想道德、人生信条固然有着历史的局限性，但他清正廉明、关怀民众的事迹，到今天仍有着重要的借鉴和教育意义。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9" name=""/>
          <p:cNvSpPr/>
          <p:nvPr/>
        </p:nvSpPr>
        <p:spPr>
          <a:xfrm>
            <a:off x="826920" y="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84360" y="339840"/>
            <a:ext cx="727380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耶律楚材是历史上有名的清官。成吉思汗攻打西夏时，将领们纷纷抢夺金玉财宝，他却收集、保存了许多文集和大量的药材。后来军中疫病流行，这些药材救活了好几万人。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1227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年，他奉命到燕京整顿秩序。当时京畿之内，许多权势人家的子弟，一到黄昏便驾着牛车出来结伙抢劫，行凶杀人。耶律楚材不畏强暴，不为利害所动，秉公而断，公开斩了十六名这类罪犯，为社会除了大害。他病死后，有人诬陷他藏有私囊，检查以后，发现除了琴阮书画金石遗文之外，别无所有，足见他的清廉。</a:t>
            </a:r>
            <a:br>
              <a:rPr sz="2400"/>
            </a:b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826920" y="38606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如果你做了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你会做个什么样的官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42" name=""/>
          <p:cNvSpPr txBox="1"/>
          <p:nvPr/>
        </p:nvSpPr>
        <p:spPr>
          <a:xfrm>
            <a:off x="900000" y="1628640"/>
            <a:ext cx="47516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假如我做了官……</a:t>
            </a:r>
            <a:endParaRPr b="0" i="1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324000" y="2421000"/>
            <a:ext cx="8348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　　　　　　　　　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为题写一篇小作文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1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发挥想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详略得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层次分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2627280" y="549360"/>
            <a:ext cx="3745080" cy="10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8892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作　业</a:t>
            </a:r>
            <a:endParaRPr b="0" lang="en-US" sz="1800" spc="1" strike="noStrike">
              <a:ln w="88920">
                <a:solidFill>
                  <a:srgbClr val="ff6600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1042920" y="2492280"/>
            <a:ext cx="3392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假如我当了官……</a:t>
            </a:r>
            <a:endParaRPr b="0" lang="en-US" sz="1800" spc="1" strike="noStrike">
              <a:ln w="38160">
                <a:solidFill>
                  <a:srgbClr val="0000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华文琥珀"/>
              </a:rPr>
              <a:t>包拯知多少？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042920" y="2781360"/>
            <a:ext cx="777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042920" y="1413000"/>
            <a:ext cx="640872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开封有个包青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铁面无私辨忠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江湖豪杰来相助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王朝和马汉在身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钻天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身轻如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彻地鼠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是条好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穿山鼠铁臂神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翻江鼠身手不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锦毛鼠一身是胆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这五鼠义结金兰侠和五义</a:t>
            </a:r>
            <a:br>
              <a:rPr sz="2800"/>
            </a:b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留传在民间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805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805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85891" fill="hold"/>
                                        <p:tgtEl>
                                          <p:spTgt spid="8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3132000" y="1628640"/>
            <a:ext cx="3183120" cy="396108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-252360" y="2997360"/>
            <a:ext cx="3200400" cy="3860640"/>
          </a:xfrm>
          <a:prstGeom prst="rect">
            <a:avLst/>
          </a:prstGeom>
          <a:ln w="0">
            <a:noFill/>
          </a:ln>
        </p:spPr>
      </p:pic>
      <p:sp>
        <p:nvSpPr>
          <p:cNvPr id="808" name=""/>
          <p:cNvSpPr/>
          <p:nvPr/>
        </p:nvSpPr>
        <p:spPr>
          <a:xfrm>
            <a:off x="395280" y="44280"/>
            <a:ext cx="2376360" cy="336600"/>
          </a:xfrm>
          <a:prstGeom prst="rect">
            <a:avLst/>
          </a:prstGeom>
          <a:solidFill>
            <a:srgbClr val="ccffc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809" name="" descr=""/>
          <p:cNvPicPr/>
          <p:nvPr/>
        </p:nvPicPr>
        <p:blipFill>
          <a:blip r:embed="rId3"/>
          <a:stretch/>
        </p:blipFill>
        <p:spPr>
          <a:xfrm>
            <a:off x="-757080" y="0"/>
            <a:ext cx="9685080" cy="343692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4"/>
          <a:stretch/>
        </p:blipFill>
        <p:spPr>
          <a:xfrm>
            <a:off x="3780000" y="3537000"/>
            <a:ext cx="4427280" cy="3321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6"/>
                                      </p:cond>
                                    </p:stCondLst>
                                  </p:cTn>
                                  <p:tgtEl>
                                    <p:spTgt spid="8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" dur="3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" presetSubtype="6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9000"/>
                            </p:stCondLst>
                            <p:childTnLst>
                              <p:par>
                                <p:cTn id="44" nodeType="afterEffect" fill="hold" presetClass="entr" presetID="31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3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465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150"/>
                            </p:stCondLst>
                            <p:childTnLst>
                              <p:par>
                                <p:cTn id="55" nodeType="afterEffect" fill="hold" presetClass="entr" presetID="31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1150"/>
                            </p:stCondLst>
                            <p:childTnLst>
                              <p:par>
                                <p:cTn id="62" nodeType="afterEffect" fill="hold" presetClass="entr" presetID="17" presetSubtype="1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evt="end">
                                        <p:tn val="62"/>
                                      </p:cond>
                                    </p:stCondLst>
                                  </p:cTn>
                                  <p:tgtEl>
                                    <p:spTgt spid="8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包拯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999-1062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自希仁，</a:t>
            </a:r>
            <a:r>
              <a:rPr b="1" lang="zh-CN" sz="2400" spc="-1" strike="noStrike">
                <a:solidFill>
                  <a:srgbClr val="00cc00"/>
                </a:solidFill>
                <a:latin typeface="Arial"/>
              </a:rPr>
              <a:t>庐州合肥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人（安徽合肥），北宋天圣五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27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进士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中进士后，因父母年事已高，不忍远去为官，直到双亲相继去世，守孝完毕，才在亲友的劝说下为官，期间长达十年之久，故以孝闻于乡里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201924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嘉佑元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56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年十二月，朝廷任包拯权知开封府，他于次年三月正式上任，至三年六月离任，前后只有一年有余。但在这短短的时间内，把号称难治的开封府，治理得井井有条。敢于惩治权贵们的不法行为，坚决抑制开封府吏的骄横之势，并能够及时惩办诬赖刁民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由于包拯在开封府执法严明，铁面无私，敢于碰硬，贵戚宦官也不得不有所收敛，听到包拯的名字就感到害怕。儿童妇孺们都知道包拯之名，亲切称呼他为「包待制」。开封府广泛流传着这样的话「关节不到，有阎罗包老。」用阎罗比喻包拯的铁面无私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        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宋嘉佑六年（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1061</a:t>
            </a:r>
            <a:r>
              <a:rPr b="1" lang="zh-CN" sz="2400" spc="-1" strike="noStrike">
                <a:solidFill>
                  <a:srgbClr val="00cc00"/>
                </a:solidFill>
                <a:latin typeface="Times New Roman"/>
              </a:rPr>
              <a:t>），他官至枢密副使，次年五月病逝，「京师吏民，莫不感伤，叹息之声，大街小巷都可听得到。」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朝廷赠官吏部上书，有「奏仪」十五卷传于世。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  <a:ea typeface="华文隶书"/>
              </a:rPr>
              <a:t>生字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-360" y="981000"/>
            <a:ext cx="24368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砚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遗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惮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56000" y="907920"/>
            <a:ext cx="2521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稚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讼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恶吏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嫉恶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苟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茔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901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124000" y="1052640"/>
            <a:ext cx="2232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i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ō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hu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à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308720" y="981000"/>
            <a:ext cx="208764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h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ì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s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ò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w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g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ǒ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z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ā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í</a:t>
            </a:r>
            <a:r>
              <a:rPr b="1" lang="zh-CN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8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8,70,123)"/>
                                          </p:val>
                                        </p:tav>
                                        <p:tav tm="50000">
                                          <p:val>
                                            <p:strVal val="rgb(-20,-47,-12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684360" y="0"/>
            <a:ext cx="6912000" cy="718560"/>
          </a:xfrm>
          <a:prstGeom prst="rect">
            <a:avLst/>
          </a:prstGeom>
          <a:solidFill>
            <a:srgbClr val="7499d0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“</a:t>
            </a:r>
            <a:r>
              <a:rPr b="1" lang="zh-CN" sz="41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传”：是正史的重要组成部分。主要叙述传主的生卒、地望、官职、生平事迹内容。</a:t>
            </a:r>
            <a:endParaRPr b="0" lang="en-US" sz="41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340000" y="4221000"/>
            <a:ext cx="58323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自传  ——自述生平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cc00"/>
                </a:solidFill>
                <a:latin typeface="Arial"/>
                <a:ea typeface="楷体_GB2312"/>
              </a:rPr>
              <a:t>传、评传  ——由别人撰写</a:t>
            </a:r>
            <a:endParaRPr b="0" lang="en-US" sz="3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411280" y="4365720"/>
            <a:ext cx="144720" cy="59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15480 h 595080"/>
              <a:gd name="textAreaBottom" fmla="*/ 579600 h 59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631880" y="43657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cc00"/>
                </a:solidFill>
                <a:latin typeface="Arial"/>
                <a:ea typeface="楷体_GB2312"/>
              </a:rPr>
              <a:t>传记</a:t>
            </a:r>
            <a:endParaRPr b="0" lang="en-US" sz="3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30000"/>
              </a:lnSpc>
              <a:spcBef>
                <a:spcPts val="799"/>
              </a:spcBef>
              <a:buClr>
                <a:srgbClr val="ffc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包拯字希仁，庐州合肥人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也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。……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知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天长县。有盗割人牛舌者，主来诉。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归，杀而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之”。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寻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复有来告私杀牛者，拯曰：“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何为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割牛舌而又告之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?”</a:t>
            </a: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盗惊服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95280" y="1916280"/>
            <a:ext cx="3025800" cy="431640"/>
          </a:xfrm>
          <a:prstGeom prst="wedgeRoundRectCallout">
            <a:avLst>
              <a:gd name="adj1" fmla="val 106347"/>
              <a:gd name="adj2" fmla="val -202203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判断句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5580000" y="1700280"/>
            <a:ext cx="1944720" cy="431640"/>
          </a:xfrm>
          <a:prstGeom prst="wedgeRoundRectCallout">
            <a:avLst>
              <a:gd name="adj1" fmla="val 12694"/>
              <a:gd name="adj2" fmla="val -165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主持，掌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076720" y="3716280"/>
            <a:ext cx="1800360" cy="432000"/>
          </a:xfrm>
          <a:prstGeom prst="wedgeRoundRectCallout">
            <a:avLst>
              <a:gd name="adj1" fmla="val 21074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但，只管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8062920" y="3716280"/>
            <a:ext cx="1081080" cy="432000"/>
          </a:xfrm>
          <a:prstGeom prst="wedgeRoundRectCallout">
            <a:avLst>
              <a:gd name="adj1" fmla="val 1541"/>
              <a:gd name="adj2" fmla="val -240074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卖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95280" y="5157720"/>
            <a:ext cx="1081080" cy="432000"/>
          </a:xfrm>
          <a:prstGeom prst="wedgeRoundRectCallout">
            <a:avLst>
              <a:gd name="adj1" fmla="val 48680"/>
              <a:gd name="adj2" fmla="val -209925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不久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659640" y="6021360"/>
            <a:ext cx="1585800" cy="432000"/>
          </a:xfrm>
          <a:prstGeom prst="wedgeRoundRectCallout">
            <a:avLst>
              <a:gd name="adj1" fmla="val -15166"/>
              <a:gd name="adj2" fmla="val -407351"/>
              <a:gd name="adj3" fmla="val 16667"/>
            </a:avLst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99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2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2:56:54Z</dcterms:created>
  <dc:creator>教师</dc:creator>
  <dc:description/>
  <dc:language>en-US</dc:language>
  <cp:lastModifiedBy>MC SYSTEM</cp:lastModifiedBy>
  <dcterms:modified xsi:type="dcterms:W3CDTF">2010-05-04T05:57:51Z</dcterms:modified>
  <cp:revision>81</cp:revision>
  <dc:subject/>
  <dc:title>幻灯片 1</dc:title>
</cp:coreProperties>
</file>