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D54-6708-4192-A265-A9CCAB60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918-4AA0-46B0-A197-3B8B10B5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7AA-58D4-4213-9897-80B0C8C0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90B-3C59-4EEC-BF1E-FABBAD0A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64EB-1769-4BEE-B93E-5D2B564A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D807-16B3-48B2-B78B-020B468D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079D-DE4F-48F3-852B-BE6B71C2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1263-E289-4C07-A7EB-AB13D022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432C-4D75-4950-A1B4-F09780E7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A561-7D10-47B0-95D2-DED4ED79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C877-CC8E-40AB-B0BD-E5AEE491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F11-167F-47D8-85A1-7DEE2023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80DD-EBB7-480B-9A33-4CBD04CF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A087-5C4B-49C1-820D-E6F8AEC5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11D1-0E87-4EC2-AFA9-C78CE2A2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912B-FA91-4825-9036-51747888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6043-C278-4D67-B85F-814D0263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EC689-FFA2-4ED1-871B-0EDEDB06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FFF2-6F3B-4C7F-A992-0CC390FC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D8EF3-CFE6-4C4A-89FD-C0440F67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C558-624A-4CCE-98D9-0C8BA54C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EF41-D380-403F-B47D-FD30DDC7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F9E-562F-401A-AA06-613C0AA1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0A89-C8E6-4441-8BCC-E18A7E9F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6932-A26D-43BC-A913-A465729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66A9-462F-4C7E-A16F-B07AE6A4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30B1-BB7B-4A0E-A44C-D238E66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651EF-9110-4979-95FF-CB49EA7B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CD7B-B14C-41F1-8E7D-BD33BC08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F856-B2C7-4998-BA51-7B2B441A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5323-8335-4972-A138-B7779E84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CEFD0-C35A-4D63-BA6E-FFA30767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CA34D-CAE4-4954-A3AC-57EB5555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4E5-1191-4BCE-9D70-581F30B5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70F04-B0BD-4558-B282-90EE941F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AB6EF-5F37-4E4C-9786-648560B3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0064-655A-4974-9FAE-D65D91AF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32BB6-7E01-4F0D-81F8-7671E26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675C-0499-46B0-BFEB-E8FC0DD8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F499-3623-4656-A5CC-783C7FA1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9B5A1-DEFA-40D8-AC59-FC933769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CBEA-FBB5-4631-973C-9275B7CD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BE2C-C92E-466E-A8C6-376FF7D0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2FE-06E7-4861-B391-DCA60484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0D3-12DD-46C9-B4C9-DC265015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0E0-7AE9-4A1F-9B50-17E8993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95B-A103-4115-B70E-9C94B463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447-B0F8-437C-9283-928D67B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8AE0-12DE-465A-9CD4-26D93AE640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D259-86A8-4356-A841-87C227AE11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15F1-D55A-4AD3-B78E-67C9A8620C4E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EA99-617C-4379-BC4C-8B722711D586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6920" y="765000"/>
            <a:ext cx="712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诗词复习大比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1638360" y="5740560"/>
            <a:ext cx="75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制作：黑龙江鹤岗英华中学  赵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第四组必答题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五十弦翻塞外声，沙场秋兵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弓如霹雳弦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赢得生前身后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在河之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似曾相识燕归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明朝散发弄扁舟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山色有无中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欲上青天揽明月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波澜动远空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中间小谢又清发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君子好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</a:rPr>
              <a:t>抢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为抢答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必须全答对，答对每组题加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，有一道答错扣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。答错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就倒扣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6630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了却君王天下事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安得广厦千方间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中写出作者对时光流逝的惋惜和对生命珍视之情的语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 中以苍茫山色烘托水势的浩瀚，如电影境头般展现出汉江的山光水色的句子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朓楼饯别校书叔云》中诗人借用比喻，抒发内心愁苦、愤懑之情的句子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中化用典故表达自己希望得到朝廷信任和重用之情的句子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汉江临眺》 中 写江水汹涌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破阵子》抒发词人一生中的事业与抱负，并发尽无尽感叹的句子是：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君子于役》一诗中统领全诗的中心句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僵卧孤村不自哀， 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宣州谢朓楼饯别校书叔云》表现作者不甘陈沦、豁达乐观精神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593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在《行路难》中最能表现李白面对挫折积极向上，对理想执着追求的诗句是：（                        ） 但是与之相反的是《宣州谢楼饯别校书叔云》中（                  ）却又表现出他面对困难消极避世的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中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写出山光水色，“诗中有画”的句子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醉里挑灯看剑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密州出猎》中作者写出回报人们倾城而来观看其守猎盛情的语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关雎》中统领全诗的句子是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183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破阵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为陈同甫赋壮词以寄之》中写出战斗之激烈和顺利的语句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君子于役》中用侧面烘托手法表现对久役不归的丈夫思念心情的诗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一词的上片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(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，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两句构成“新”与“旧”的对比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抒写人到中年的主人公，壮志未酬的感叹的诗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楼饯别校书叔云》诗人借前人之能称许李云和自己才能的语句是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创新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931760"/>
            <a:ext cx="83739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抢先回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必须全答对，全答对每题加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，答错扣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举手前可以互相商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猜谜语（猜诗中涉及的人物典故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125000"/>
            <a:ext cx="854064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此地别燕丹，壮士发冲冠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昔时人已没，今日水犹寒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寄书元有雁，食雪不离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施尽风霜节，心悬日月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岁岁金河复玉关，朝朝马策与刀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三春白雪归青冢，万里黄河绕黑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答案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荆轲刺秦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苏武牧羊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昭君出塞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必答题（一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要求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如果每组有说话或其它违反纪律者扣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的裁判请公正并及时打好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从后面蛇行轮答，每人答一题，不许空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限定时间为：每组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钟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你从下面所罗列的作者中任选两位，分别写出一则课文中表达他们的志趣，追求，或展现他们的胸怀、抱负的名言警句，意思要相对完整。作者：孟子、王勃、范仲淹、周敦颐、苏轼、诸葛亮、文天祥。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孟子：生，亦无所欲也，义，亦我所欲也；二者不可得兼，舍生而取义者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王勃：海内存知己，天涯若比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范仲淹：先天下之忧而忧，后天下之乐而乐。   （不以物喜，不以己悲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周敦颐：予独爱莲之出淤泥而不染，濯清涟而不妖，中通外直，不蔓不枝，香远益清，亭亭净植，可远观而不可亵玩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苏轼：但愿人长久，千里共婵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诸葛亮：苟全性命于乱世，不求闻达于诸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用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旧瓶装新酒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的方法会为你的作文增彩，不信你看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41468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c0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时节雨纷纷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路上行人欲断魂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借问酒家何处有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牧童遥指杏花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8196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仿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清明时节沙纷纷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路上行人满面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借问青山何处有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牧童遥指盆景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采用此法让旧瓶装上新酒吗？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要求：改后的诗要与环保有关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2028960"/>
            <a:ext cx="8469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登幽州台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唐  陈子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我也能让酒瓶装上新酒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登幽州台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前不见青山，后不见绿水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念天地之污染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2090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总结：古典诗词是中华民族文化的精髓。我们不应只是为此而骄傲，更应学为我用，让它发扬光大。所以背诵、积累是途径，运用是关键。希望同学们学习古诗词能真正做到勤学、爱学、会学、巧学、妙学。祝同学们在各种考试中能有个满意的结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2492280"/>
            <a:ext cx="914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请分别说出有关春、夏、秋、冬的诗句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1326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8184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627280" y="4221000"/>
            <a:ext cx="533520" cy="1608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941480" y="4221000"/>
            <a:ext cx="555480" cy="1600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268360" y="1844640"/>
            <a:ext cx="446436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203640" y="4581360"/>
            <a:ext cx="2879640" cy="8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第一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人生在世不称意 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持节云中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？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窈窕淑女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抽刀断水水更流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俱怀逸兴壮思飞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郡邑浮前浦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楚塞三湘接，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江流天地外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乱我心者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必答题（二）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先由下一组指定主答者和帮助者各一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选手根据题目背原诗，注意一定要说出作者否则扣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题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，答错不扣分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c0c"/>
                </a:solidFill>
                <a:latin typeface="Arial"/>
              </a:rPr>
              <a:t>第二组必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91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对此可以酣高楼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鬓微霜，又何妨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西北望，射天狼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亲射虎，看孙郎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梦回吹角连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423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苟无饥渴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留醉与山翁 。  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赢得生前身后名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左牵黄，右擎苍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昨日之日不可留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去年天气旧亭台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会挽雕弓如满月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求之不得，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2400" y="647280"/>
            <a:ext cx="88423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关关雎鸠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蒹葭苍苍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襄阳好风日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酒酣胸胆尚开张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，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了却君王天下事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。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8:18:04Z</dcterms:created>
  <dc:creator>Legend User</dc:creator>
  <dc:description/>
  <dc:language>en-US</dc:language>
  <cp:lastModifiedBy>y</cp:lastModifiedBy>
  <dcterms:modified xsi:type="dcterms:W3CDTF">2008-05-05T02:23:08Z</dcterms:modified>
  <cp:revision>44</cp:revision>
  <dc:subject/>
  <dc:title>幻灯片 1</dc:title>
</cp:coreProperties>
</file>