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8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20.gif" ContentType="image/gif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627A-439E-47DF-B8DE-7783CDEC9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46D1-6F46-4A0F-A7A5-FC074E2B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3084-BEB1-4149-9D05-15C2447FA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7FF6-4FB1-4597-B463-7F4F6937F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05DB-94D6-4E8F-AF83-BB8E71A13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B653-3758-498F-8F57-2369832C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3F96-BAF2-4993-AD66-BF5188BA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202F3-6F8E-43D6-8F04-FCFAAF9F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F9EA-4DE5-4BC9-8AB1-9A2A9ADE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D7F27-1166-4F51-8F34-58CE6C153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373F-7C0D-4284-8AF4-FC14C887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3557-DDF9-4442-8A89-8C8048E9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E191-A57F-4C3F-A089-10E49F71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E87AC-F641-4AE3-84C6-ACC42EA2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2964-6852-47AA-86B8-CEED9AAA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C859-2DBB-4A35-A6D8-F45C75574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1A1E-5166-4C33-9B81-5080F1627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50BBC7-F90E-4075-B895-CD1F1F0E4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4031AC-B556-4FF2-A038-8F3CC56E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9F651E-6120-492B-9AC4-04B632C0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D757A8-6A68-4A34-BC14-6927CBCB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F80D2A-35B0-47E3-84EA-06EE9C09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835B-412F-4B7E-9261-8633833D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5FB54B-C146-4548-BDA6-BF7B9665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719C98-2D7F-4291-8D99-65E195E5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A07632-9965-458C-9A9B-AD553418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DAC7EF-91A7-4EDB-ACB0-AAA6E114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5AABDC-E283-4C7C-B3FA-AF53C758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00CFD0-2F16-4C55-BD3A-1255DFBBF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29BB41-1296-4C32-8C62-09F8EF218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43BB6-F79A-4432-9765-E25629616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AACCB-BD8F-4410-BF72-44898434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3D425-FEBB-4C31-8B8D-1176C706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2FAB-185B-45E1-99C7-8130F619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88140-D06A-49F2-B314-CD0FCCFA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AB5EA-35E6-4F3B-B3D2-E107CDE1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5D232-0E5E-4114-80E0-53A77510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538B7-6A69-4E3D-BEF7-9BADB4D9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40233-4BC9-416A-8864-19B7ECCC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757F0-F9DC-4BF0-A6B9-855AF87E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46867-45F0-4F09-9A76-E343EB0B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DADC4-C12C-4965-A291-B23B4BD21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52E28-2213-494C-8186-1CF3961EF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ABEC42-2B5A-4EF0-9580-89224524E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4A66-91E6-4AB4-81CE-2C7F735B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CCEACD-2DC4-45D3-AFF3-B13A9C87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9D7749-8304-4453-B769-7DFDC3F2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CB6D27-ABF8-4C10-83BE-18EEEB91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4A35C7-6874-4E11-BC0A-E79DF449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59E9A3-CFD3-4E18-B03E-C4559C71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ED65B3-B4C9-4DF6-9844-29347EC7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15869B-945D-4A9D-B201-2950C61C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37DBAD-8130-408C-87B9-6FD2ADC7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D47C44-719D-45A4-8FA4-84E09D73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A5213D-35E3-4A70-B799-CF9FDB64F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CC7F-2993-477B-8AAA-9161B392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E2B4F9-57EB-4C6B-80A5-52E4D1FA4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507CA-B0B1-47B2-A526-29EB926BD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A1021-B829-46D8-A318-B94B8796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B0AEF-9675-4B9A-AAAE-46FE7ADB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A2218-9DF3-416E-B2E3-5087822E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8901C-C681-4ED6-A525-9582FF51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A4455-42A9-434D-BBD0-8F64032C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D8D80-0EEE-4F2C-ADAE-5E769007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39F82-9929-4B19-893E-20795FCE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8D991-C828-4A95-8022-B47BE25D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D26B-FD79-40BE-93E4-642959EF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F5A6C-BD46-4A8B-AA04-8D964BAA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10000-16AF-4774-B135-2288234B5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60963-5320-4877-8F1F-365AA2AF2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BD1D0-AF33-4AFF-AA15-21F2AA330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E89FD-E2FD-493D-91E1-DF7BD3D8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9B19E-01AA-4FBD-AC3F-48DC9DC9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01FF5-A23A-4389-B0C0-BAE87B09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C2E76-2BE8-4412-A429-A37EF2B7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72267-BFAC-400E-85AA-61239A25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DC8EC-DC71-4DB1-9D5D-A7262140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9AAC-2B7A-42A2-A2C8-32CA9CAF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FDE61-FD26-408E-88DC-2EE0085E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45DA0-4040-4E43-884B-60937CA8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93B3E-0C98-4457-97C9-787C1E75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BE306-23DC-4FC4-878D-4DAF2A9B7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9D488-19CA-493F-87FE-1E4D7E241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ED48-A4DE-4FAD-8396-B14AB09D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6E1A-E8B8-428D-8422-2FF21E67AF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8F12-C6C6-406D-95DC-573173D5E1B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81FE-4E13-4187-B919-21ADA6AB3C9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3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85d1e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d6068"/>
                </a:gs>
                <a:gs pos="100000">
                  <a:srgbClr val="85d1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100000">
                <a:srgbClr val="85d1e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67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49898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69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d8a8a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7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660E-8A59-4256-8D00-5427A6B1D9D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24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85d1e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d6068"/>
                </a:gs>
                <a:gs pos="100000">
                  <a:srgbClr val="85d1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100000">
                <a:srgbClr val="85d1e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28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49898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d8a8a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3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2EA5-9117-4BB7-A95E-702B9941418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6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7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8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0067-F5EF-47ED-80DD-F7CB9108EA6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3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33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33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dt" idx="19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sldNum" idx="2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350E-BEBD-46DC-B622-637D492C3658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0.gi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 rot="275400">
            <a:off x="2031480" y="5730840"/>
            <a:ext cx="3976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45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执教：先进初中 方维国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85" name=""/>
          <p:cNvSpPr/>
          <p:nvPr/>
        </p:nvSpPr>
        <p:spPr>
          <a:xfrm>
            <a:off x="3132000" y="2637000"/>
            <a:ext cx="26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Times New Roman"/>
              </a:rPr>
              <a:t>周素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2627280" y="981000"/>
            <a:ext cx="3529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第一次真好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8839080" y="4797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2045" fill="hold"/>
                                        <p:tgtEl>
                                          <p:spTgt spid="3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301680" y="0"/>
            <a:ext cx="88423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你嗅出柚子的味道了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140360" y="620640"/>
            <a:ext cx="5003640" cy="5092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00"/>
                </a:solidFill>
                <a:latin typeface="Times New Roman"/>
                <a:ea typeface="宋体"/>
              </a:rPr>
              <a:t>5</a:t>
            </a:r>
            <a:r>
              <a:rPr b="1" lang="zh-CN" sz="4000" spc="-1" strike="noStrike">
                <a:solidFill>
                  <a:srgbClr val="333300"/>
                </a:solidFill>
                <a:latin typeface="Times New Roman"/>
                <a:ea typeface="宋体"/>
              </a:rPr>
              <a:t>、你能嗅出语言的味道了吗？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Times New Roman"/>
                <a:ea typeface="宋体"/>
              </a:rPr>
              <a:t>（</a:t>
            </a:r>
            <a:r>
              <a:rPr b="1" lang="zh-CN" sz="3600" spc="-1" strike="noStrike">
                <a:solidFill>
                  <a:srgbClr val="333300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333300"/>
                </a:solidFill>
                <a:latin typeface="Times New Roman"/>
                <a:ea typeface="宋体"/>
              </a:rPr>
              <a:t>）沉甸甸</a:t>
            </a:r>
            <a:r>
              <a:rPr b="1" lang="zh-CN" sz="3600" spc="-1" strike="noStrike" u="sng">
                <a:solidFill>
                  <a:srgbClr val="ff00ff"/>
                </a:solidFill>
                <a:uFillTx/>
                <a:latin typeface="Times New Roman"/>
                <a:ea typeface="宋体"/>
              </a:rPr>
              <a:t>垂吊</a:t>
            </a:r>
            <a:r>
              <a:rPr b="1" lang="zh-CN" sz="3600" spc="-1" strike="noStrike">
                <a:solidFill>
                  <a:srgbClr val="333300"/>
                </a:solidFill>
                <a:latin typeface="Times New Roman"/>
                <a:ea typeface="宋体"/>
              </a:rPr>
              <a:t>在枝头（能换成“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宋体"/>
              </a:rPr>
              <a:t>挂</a:t>
            </a:r>
            <a:r>
              <a:rPr b="1" lang="zh-CN" sz="3600" spc="-1" strike="noStrike">
                <a:solidFill>
                  <a:srgbClr val="333300"/>
                </a:solidFill>
                <a:latin typeface="Times New Roman"/>
                <a:ea typeface="宋体"/>
              </a:rPr>
              <a:t>”吗？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Times New Roman"/>
                <a:ea typeface="宋体"/>
              </a:rPr>
              <a:t>（</a:t>
            </a:r>
            <a:r>
              <a:rPr b="1" lang="zh-CN" sz="3600" spc="-1" strike="noStrike">
                <a:solidFill>
                  <a:srgbClr val="333300"/>
                </a:solidFill>
                <a:latin typeface="Times New Roman"/>
                <a:ea typeface="宋体"/>
              </a:rPr>
              <a:t>2</a:t>
            </a:r>
            <a:r>
              <a:rPr b="1" lang="zh-CN" sz="3600" spc="-1" strike="noStrike">
                <a:solidFill>
                  <a:srgbClr val="333300"/>
                </a:solidFill>
                <a:latin typeface="Times New Roman"/>
                <a:ea typeface="宋体"/>
              </a:rPr>
              <a:t>）秋日</a:t>
            </a:r>
            <a:r>
              <a:rPr b="1" lang="zh-CN" sz="3600" spc="-1" strike="noStrike" u="sng">
                <a:solidFill>
                  <a:srgbClr val="ff33cc"/>
                </a:solidFill>
                <a:uFillTx/>
                <a:latin typeface="Times New Roman"/>
                <a:ea typeface="宋体"/>
              </a:rPr>
              <a:t>风情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宋体"/>
              </a:rPr>
              <a:t>画</a:t>
            </a:r>
            <a:r>
              <a:rPr b="1" lang="zh-CN" sz="3600" spc="-1" strike="noStrike">
                <a:solidFill>
                  <a:srgbClr val="333300"/>
                </a:solidFill>
                <a:latin typeface="Times New Roman"/>
                <a:ea typeface="宋体"/>
              </a:rPr>
              <a:t>（能换成“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宋体"/>
              </a:rPr>
              <a:t>风景</a:t>
            </a:r>
            <a:r>
              <a:rPr b="1" lang="zh-CN" sz="3600" spc="-1" strike="noStrike">
                <a:solidFill>
                  <a:srgbClr val="333300"/>
                </a:solidFill>
                <a:latin typeface="Times New Roman"/>
                <a:ea typeface="宋体"/>
              </a:rPr>
              <a:t>”吗？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284720" y="2060640"/>
            <a:ext cx="431640" cy="431640"/>
          </a:xfrm>
          <a:custGeom>
            <a:avLst/>
            <a:gdLst>
              <a:gd name="textAreaLeft" fmla="*/ 204120 w 431640"/>
              <a:gd name="textAreaRight" fmla="*/ 227520 w 431640"/>
              <a:gd name="textAreaTop" fmla="*/ 204120 h 431640"/>
              <a:gd name="textAreaBottom" fmla="*/ 2275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0224" y="10224"/>
                </a:lnTo>
                <a:lnTo>
                  <a:pt x="10800" y="0"/>
                </a:lnTo>
                <a:lnTo>
                  <a:pt x="11376" y="10224"/>
                </a:lnTo>
                <a:lnTo>
                  <a:pt x="21600" y="10800"/>
                </a:lnTo>
                <a:lnTo>
                  <a:pt x="11376" y="11376"/>
                </a:lnTo>
                <a:lnTo>
                  <a:pt x="10800" y="21600"/>
                </a:lnTo>
                <a:lnTo>
                  <a:pt x="10224" y="11376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400" bIns="-23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284720" y="5157720"/>
            <a:ext cx="504720" cy="360360"/>
          </a:xfrm>
          <a:custGeom>
            <a:avLst/>
            <a:gdLst>
              <a:gd name="textAreaLeft" fmla="*/ 178920 w 504720"/>
              <a:gd name="textAreaRight" fmla="*/ 325800 w 504720"/>
              <a:gd name="textAreaTop" fmla="*/ 127800 h 360360"/>
              <a:gd name="textAreaBottom" fmla="*/ 2325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659" y="7659"/>
                </a:lnTo>
                <a:lnTo>
                  <a:pt x="10800" y="0"/>
                </a:lnTo>
                <a:lnTo>
                  <a:pt x="13941" y="7659"/>
                </a:lnTo>
                <a:lnTo>
                  <a:pt x="21600" y="10800"/>
                </a:lnTo>
                <a:lnTo>
                  <a:pt x="13941" y="13941"/>
                </a:lnTo>
                <a:lnTo>
                  <a:pt x="10800" y="21600"/>
                </a:lnTo>
                <a:lnTo>
                  <a:pt x="7659" y="13941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284720" y="3141720"/>
            <a:ext cx="504720" cy="647640"/>
          </a:xfrm>
          <a:custGeom>
            <a:avLst/>
            <a:gdLst>
              <a:gd name="textAreaLeft" fmla="*/ 207720 w 504720"/>
              <a:gd name="textAreaRight" fmla="*/ 297000 w 504720"/>
              <a:gd name="textAreaTop" fmla="*/ 266400 h 647640"/>
              <a:gd name="textAreaBottom" fmla="*/ 3812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888" y="8888"/>
                </a:lnTo>
                <a:lnTo>
                  <a:pt x="10800" y="0"/>
                </a:lnTo>
                <a:lnTo>
                  <a:pt x="12712" y="8888"/>
                </a:lnTo>
                <a:lnTo>
                  <a:pt x="21600" y="10800"/>
                </a:lnTo>
                <a:lnTo>
                  <a:pt x="12712" y="12712"/>
                </a:lnTo>
                <a:lnTo>
                  <a:pt x="10800" y="21600"/>
                </a:lnTo>
                <a:lnTo>
                  <a:pt x="8888" y="1271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611280" y="26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彩云"/>
              </a:rPr>
              <a:t>合  作  探  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592360" cy="2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-360" y="0"/>
            <a:ext cx="5962680" cy="685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）你能说说“</a:t>
            </a:r>
            <a:r>
              <a:rPr b="1" lang="zh-CN" sz="2800" spc="-1" strike="noStrike">
                <a:solidFill>
                  <a:srgbClr val="ff9933"/>
                </a:solidFill>
                <a:latin typeface="Arial"/>
              </a:rPr>
              <a:t>雏形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”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9933"/>
                </a:solidFill>
                <a:latin typeface="Arial"/>
              </a:rPr>
              <a:t>具体而微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”的区别吗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9900"/>
                </a:solidFill>
                <a:uFillTx/>
                <a:latin typeface="Arial"/>
              </a:rPr>
              <a:t>（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Arial"/>
              </a:rPr>
              <a:t>4</a:t>
            </a:r>
            <a:r>
              <a:rPr b="1" lang="zh-CN" sz="2800" spc="-1" strike="noStrike" u="sng">
                <a:solidFill>
                  <a:srgbClr val="ff9900"/>
                </a:solidFill>
                <a:uFillTx/>
                <a:latin typeface="Arial"/>
              </a:rPr>
              <a:t>）眼巴巴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地等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（能换用其它词吗？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(5)“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我喜爱他们又甚于那些老鸟”一句表达了作者怎样的思想感情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5940360" y="0"/>
            <a:ext cx="3203640" cy="685800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611280" y="33336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彩云"/>
              </a:rPr>
              <a:t>合  作  探  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59236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250920" y="600120"/>
            <a:ext cx="2233440" cy="30780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1332000" y="1866240"/>
            <a:ext cx="6985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ff"/>
                </a:solidFill>
                <a:latin typeface="Times New Roman"/>
              </a:rPr>
              <a:t>任选其中三个词语写成一段话（顺序可变）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ff"/>
                </a:solidFill>
                <a:latin typeface="Times New Roman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ff"/>
                </a:solidFill>
                <a:latin typeface="Times New Roman"/>
              </a:rPr>
              <a:t>不可磨灭　玲珑剔透　硕果累累  回味无穷　多姿多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68360" y="-177120"/>
            <a:ext cx="25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发挥想象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st" descr="st.jpg (14773 bytes)"/>
          <p:cNvPicPr/>
          <p:nvPr/>
        </p:nvPicPr>
        <p:blipFill>
          <a:blip r:embed="rId3"/>
          <a:stretch/>
        </p:blipFill>
        <p:spPr>
          <a:xfrm>
            <a:off x="395280" y="5229360"/>
            <a:ext cx="374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 rot="317400">
            <a:off x="539280" y="259920"/>
            <a:ext cx="3672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彩云"/>
              </a:rPr>
              <a:t>体验与反思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彩云"/>
              <a:ea typeface="华文彩云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6300720" y="26028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468360" y="1440000"/>
            <a:ext cx="4608360" cy="47628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68360" y="2708280"/>
            <a:ext cx="848664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、为什么第一次的经验不一定都愉快？感觉不愉快的第一次就不能尝试吗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、回忆你有哪些难忘的第一次经历，谈谈它对你后来的发展产生了怎样的影响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3"/>
          <a:stretch/>
        </p:blipFill>
        <p:spPr>
          <a:xfrm>
            <a:off x="6156360" y="260280"/>
            <a:ext cx="2736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1295280" y="914400"/>
            <a:ext cx="5181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76520" y="2286000"/>
            <a:ext cx="6476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84360" y="2924280"/>
            <a:ext cx="784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你现在最想尝试的第一次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什么样的第一次不能尝试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68360" y="260280"/>
            <a:ext cx="22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ahoma"/>
                <a:ea typeface="方正姚体"/>
              </a:rPr>
              <a:t>拓展迁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250920" y="846000"/>
            <a:ext cx="2305080" cy="27936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2"/>
          <a:stretch/>
        </p:blipFill>
        <p:spPr>
          <a:xfrm>
            <a:off x="6156360" y="260280"/>
            <a:ext cx="273672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103640" cy="36036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2"/>
          <a:stretch/>
        </p:blipFill>
        <p:spPr>
          <a:xfrm>
            <a:off x="6156360" y="260280"/>
            <a:ext cx="2736720" cy="180036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684360" y="619920"/>
            <a:ext cx="338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b800b8"/>
                </a:solidFill>
                <a:latin typeface="Times New Roman"/>
              </a:rPr>
              <a:t>探究学法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79640" y="3553560"/>
            <a:ext cx="51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800b8"/>
                </a:solidFill>
                <a:latin typeface="Times New Roman"/>
              </a:rPr>
              <a:t>整体感知抓文眼　　　品味情理抓关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800b8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b800b8"/>
                </a:solidFill>
                <a:latin typeface="Times New Roman"/>
              </a:rPr>
              <a:t>悟读散文贵有“我”　形散神聚抓特点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6948360" y="260280"/>
            <a:ext cx="2195640" cy="2305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684360" y="476280"/>
            <a:ext cx="352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结束语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3"/>
          <a:stretch/>
        </p:blipFill>
        <p:spPr>
          <a:xfrm>
            <a:off x="611280" y="1341360"/>
            <a:ext cx="2808360" cy="43200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755640" y="393948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同学们：生命中每个人确实有许多第一次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第一次是令人难忘的，刻骨铭心的，给我们带来了莫大的新奇和刺激，使我们至今回味无穷。第一个吃螃蟹的人，被誉为具有改革和创新的人而载入史册。今后，有益的第一次我们要寻找机会、大胆尝试；不可预料的第一次我们要勇敢地面对；有害的、消极的第一次我们要主动地避免。愿同学们努力去尝试生命中有益的第一次，让万紫千红的第一次，织成我们五彩斑斓的人生，给社会带来进步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103640" cy="3603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395280" y="656280"/>
            <a:ext cx="54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课外兴趣题：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68360" y="2826360"/>
            <a:ext cx="8136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．积累词语（抄写、注音、造句）。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．回家后，听妈妈讲自己小时侯的第一次故事，然后写成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００字的课外练笔。</a:t>
            </a:r>
            <a:br>
              <a:rPr sz="3600"/>
            </a:br>
            <a:br>
              <a:rPr sz="3600"/>
            </a:br>
            <a:br>
              <a:rPr sz="6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6156360" y="260280"/>
            <a:ext cx="2736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253080" y="404640"/>
            <a:ext cx="78984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800b8"/>
                </a:solidFill>
                <a:latin typeface="华文新魏"/>
                <a:ea typeface="华文新魏"/>
              </a:rPr>
              <a:t>学步幼儿  第一次勇敢迈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56000" cy="34290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0" y="3498840"/>
            <a:ext cx="4356000" cy="335268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4788000" y="493560"/>
            <a:ext cx="4032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1969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年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月，阿姆斯特朗代表人类第一次登上了月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0" y="3068640"/>
            <a:ext cx="4572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感言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这一小步，对一个人来说，是小小的一步；对整个人类来说，是巨大的飞跃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6858000" y="549360"/>
            <a:ext cx="2286000" cy="30502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国首位宇航员登上太空的感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是祖国历史上辉煌的一页，也是我生命中最伟大一天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300720" cy="68580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0" y="0"/>
            <a:ext cx="52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b800b8"/>
                </a:solidFill>
                <a:latin typeface="Times New Roman"/>
              </a:rPr>
              <a:t>中国人的骄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80880" y="404640"/>
            <a:ext cx="843912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00"/>
                </a:solidFill>
                <a:uFillTx/>
                <a:latin typeface="宋体"/>
              </a:rPr>
              <a:t>雏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形        丰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硕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稀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疏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霎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时              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孵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鸟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姊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妹         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柚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子        沉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甸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甸     结实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累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累      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玲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珑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剔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透</a:t>
            </a:r>
            <a:r>
              <a:rPr b="1" lang="zh-CN" sz="2400" spc="-1" strike="noStrike">
                <a:solidFill>
                  <a:srgbClr val="33cccc"/>
                </a:solidFill>
                <a:latin typeface="Times New Roman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cc"/>
                </a:solidFill>
                <a:latin typeface="Times New Roman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38080" y="358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0880" y="3581280"/>
            <a:ext cx="4114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弄懂下列词语的意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玲珑剔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具体而微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不可磨灭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回味无穷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多姿多彩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09680" y="4419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03200" y="106668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081520" y="106668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h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681720" y="10666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00320" y="1066680"/>
            <a:ext cx="5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81760" y="10666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0240" y="220968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928880" y="2209680"/>
            <a:ext cx="6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680640" y="2133720"/>
            <a:ext cx="7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651640" y="2133720"/>
            <a:ext cx="5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516720" y="21337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g 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924680" y="2133720"/>
            <a:ext cx="6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39640" y="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检查字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843280" y="4437000"/>
            <a:ext cx="630072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形容器物精致通明，结构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整个形体都已具备了，只是比较微小而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指事迹言论等将始终保留在人们的记忆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比喻回想某一事物，越想越觉得有意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文指生活丰富而充实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03200" y="106668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081520" y="106668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h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681720" y="10666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00320" y="1066680"/>
            <a:ext cx="5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81760" y="10666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80240" y="220968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928880" y="2209680"/>
            <a:ext cx="6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680640" y="2133720"/>
            <a:ext cx="7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651640" y="2133720"/>
            <a:ext cx="5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16720" y="21337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g 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3200" y="106668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081520" y="106668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h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681720" y="10666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00320" y="1066680"/>
            <a:ext cx="5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81760" y="10666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80240" y="220968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928880" y="2209680"/>
            <a:ext cx="6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680640" y="2133720"/>
            <a:ext cx="7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651640" y="2133720"/>
            <a:ext cx="5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516720" y="21337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g 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5280" y="105264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053440" y="10526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hu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673800" y="10666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4520" y="105264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73480" y="1066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69080" y="220500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929240" y="2209680"/>
            <a:ext cx="6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681720" y="21337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647680" y="213372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516720" y="2133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g 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             ——</a:t>
            </a:r>
            <a:r>
              <a:rPr b="1" lang="zh-CN" sz="3700" spc="-1" strike="noStrike">
                <a:solidFill>
                  <a:srgbClr val="333300"/>
                </a:solidFill>
                <a:latin typeface="Arial"/>
              </a:rPr>
              <a:t>读懂文意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333300"/>
                </a:solidFill>
                <a:latin typeface="Arial"/>
              </a:rPr>
              <a:t>                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             ——</a:t>
            </a:r>
            <a:r>
              <a:rPr b="1" lang="zh-CN" sz="3700" spc="-1" strike="noStrike">
                <a:solidFill>
                  <a:srgbClr val="333300"/>
                </a:solidFill>
                <a:latin typeface="Arial"/>
              </a:rPr>
              <a:t>读清布局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             ——</a:t>
            </a:r>
            <a:r>
              <a:rPr b="1" lang="zh-CN" sz="3700" spc="-1" strike="noStrike">
                <a:solidFill>
                  <a:srgbClr val="333300"/>
                </a:solidFill>
                <a:latin typeface="Arial"/>
              </a:rPr>
              <a:t>读出意境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692360" y="195840"/>
            <a:ext cx="5904000" cy="151524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ff33"/>
                </a:solidFill>
                <a:latin typeface="Arial"/>
                <a:ea typeface="楷体_GB2312"/>
              </a:rPr>
              <a:t>朗读课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ff33"/>
                </a:solidFill>
                <a:latin typeface="Arial"/>
                <a:ea typeface="楷体_GB2312"/>
              </a:rPr>
              <a:t>初步感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0" y="6093000"/>
            <a:ext cx="9144000" cy="711000"/>
          </a:xfrm>
          <a:prstGeom prst="rect">
            <a:avLst/>
          </a:prstGeom>
          <a:solidFill>
            <a:srgbClr val="339933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0" y="6093000"/>
            <a:ext cx="9143280" cy="765000"/>
            <a:chOff x="0" y="6093000"/>
            <a:chExt cx="9143280" cy="765000"/>
          </a:xfrm>
        </p:grpSpPr>
        <p:sp>
          <p:nvSpPr>
            <p:cNvPr id="450" name=""/>
            <p:cNvSpPr/>
            <p:nvPr/>
          </p:nvSpPr>
          <p:spPr>
            <a:xfrm>
              <a:off x="0" y="6093000"/>
              <a:ext cx="9143280" cy="765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1" name="" descr=""/>
            <p:cNvPicPr/>
            <p:nvPr/>
          </p:nvPicPr>
          <p:blipFill>
            <a:blip r:embed="rId2"/>
            <a:stretch/>
          </p:blipFill>
          <p:spPr>
            <a:xfrm>
              <a:off x="222120" y="6121080"/>
              <a:ext cx="8697600" cy="708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6012000" y="3357720"/>
            <a:ext cx="3132000" cy="23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1042920" y="1628640"/>
            <a:ext cx="770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为什么说第一次真好，好在哪里？“文眼”是哪句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作者写了她的哪些“第一次”经历？感受如何？（请划出原文词语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这些第一次，作者是如何安排详略的？为什么要这样安排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39640" y="0"/>
            <a:ext cx="2160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ahoma"/>
                <a:ea typeface="方正姚体"/>
              </a:rPr>
              <a:t>整体感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250920" y="620640"/>
            <a:ext cx="2087640" cy="28728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3"/>
          <a:stretch/>
        </p:blipFill>
        <p:spPr>
          <a:xfrm>
            <a:off x="8172360" y="4581360"/>
            <a:ext cx="125892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108000" y="1562040"/>
            <a:ext cx="457200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第一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次</a:t>
            </a:r>
            <a:r>
              <a:rPr b="1" lang="zh-CN" sz="3200" spc="-1" strike="noStrike">
                <a:solidFill>
                  <a:srgbClr val="0099ff"/>
                </a:solidFill>
                <a:latin typeface="Arial"/>
                <a:ea typeface="华文新魏"/>
              </a:rPr>
              <a:t>看柚子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第一次</a:t>
            </a:r>
            <a:r>
              <a:rPr b="1" lang="zh-CN" sz="3200" spc="-1" strike="noStrike">
                <a:solidFill>
                  <a:srgbClr val="0099ff"/>
                </a:solidFill>
                <a:latin typeface="Arial"/>
                <a:ea typeface="华文新魏"/>
              </a:rPr>
              <a:t>看孵小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新魏"/>
              </a:rPr>
              <a:t>第一次</a:t>
            </a:r>
            <a:r>
              <a:rPr b="1" lang="zh-CN" sz="2400" spc="-1" strike="noStrike">
                <a:solidFill>
                  <a:srgbClr val="0099ff"/>
                </a:solidFill>
                <a:latin typeface="Arial"/>
                <a:ea typeface="华文新魏"/>
              </a:rPr>
              <a:t>去露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新魏"/>
              </a:rPr>
              <a:t>第一次</a:t>
            </a:r>
            <a:r>
              <a:rPr b="1" lang="zh-CN" sz="2400" spc="-1" strike="noStrike">
                <a:solidFill>
                  <a:srgbClr val="0099ff"/>
                </a:solidFill>
                <a:latin typeface="Arial"/>
                <a:ea typeface="华文新魏"/>
              </a:rPr>
              <a:t>动手做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新魏"/>
              </a:rPr>
              <a:t>第一次</a:t>
            </a:r>
            <a:r>
              <a:rPr b="1" lang="zh-CN" sz="2400" spc="-1" strike="noStrike">
                <a:solidFill>
                  <a:srgbClr val="0099ff"/>
                </a:solidFill>
                <a:latin typeface="Arial"/>
                <a:ea typeface="华文新魏"/>
              </a:rPr>
              <a:t>坐火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新魏"/>
              </a:rPr>
              <a:t>第一次</a:t>
            </a:r>
            <a:r>
              <a:rPr b="1" lang="zh-CN" sz="2400" spc="-1" strike="noStrike">
                <a:solidFill>
                  <a:srgbClr val="0099ff"/>
                </a:solidFill>
                <a:latin typeface="Arial"/>
                <a:ea typeface="华文新魏"/>
              </a:rPr>
              <a:t>坐飞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新魏"/>
              </a:rPr>
              <a:t>第一次</a:t>
            </a:r>
            <a:r>
              <a:rPr b="1" lang="zh-CN" sz="2400" spc="-1" strike="noStrike">
                <a:solidFill>
                  <a:srgbClr val="0099ff"/>
                </a:solidFill>
                <a:latin typeface="Arial"/>
                <a:ea typeface="华文新魏"/>
              </a:rPr>
              <a:t>看见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华文新魏"/>
              </a:rPr>
              <a:t>第一次</a:t>
            </a:r>
            <a:r>
              <a:rPr b="1" lang="zh-CN" sz="2400" spc="-1" strike="noStrike">
                <a:solidFill>
                  <a:srgbClr val="0099ff"/>
                </a:solidFill>
                <a:latin typeface="Arial"/>
                <a:ea typeface="华文新魏"/>
              </a:rPr>
              <a:t>看到自已的作品用铅字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Arial"/>
                <a:ea typeface="华文新魏"/>
              </a:rPr>
              <a:t>           </a:t>
            </a:r>
            <a:r>
              <a:rPr b="1" lang="zh-CN" sz="2400" spc="-1" strike="noStrike">
                <a:solidFill>
                  <a:srgbClr val="0099ff"/>
                </a:solidFill>
                <a:latin typeface="Arial"/>
                <a:ea typeface="华文新魏"/>
              </a:rPr>
              <a:t>出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132000" y="679320"/>
            <a:ext cx="208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800b8"/>
                </a:solidFill>
                <a:latin typeface="Arial"/>
                <a:ea typeface="隶书"/>
              </a:rPr>
              <a:t>观察对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800b8"/>
                </a:solidFill>
                <a:latin typeface="Arial"/>
                <a:ea typeface="隶书"/>
              </a:rPr>
              <a:t>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348000" y="1628640"/>
            <a:ext cx="1368360" cy="19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ff"/>
                </a:solidFill>
                <a:latin typeface="Times New Roman"/>
                <a:ea typeface="华文新魏"/>
              </a:rPr>
              <a:t>植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ff"/>
                </a:solidFill>
                <a:latin typeface="Times New Roman"/>
                <a:ea typeface="华文新魏"/>
              </a:rPr>
              <a:t>动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08720" y="765000"/>
            <a:ext cx="180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800b8"/>
                </a:solidFill>
                <a:latin typeface="Times New Roman"/>
                <a:ea typeface="隶书"/>
              </a:rPr>
              <a:t>当时感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219640" y="3716280"/>
            <a:ext cx="45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4284720" y="1628640"/>
            <a:ext cx="3887280" cy="576360"/>
            <a:chOff x="4284720" y="1628640"/>
            <a:chExt cx="3887280" cy="576360"/>
          </a:xfrm>
        </p:grpSpPr>
        <p:sp>
          <p:nvSpPr>
            <p:cNvPr id="465" name=""/>
            <p:cNvSpPr/>
            <p:nvPr/>
          </p:nvSpPr>
          <p:spPr>
            <a:xfrm>
              <a:off x="4284720" y="1773360"/>
              <a:ext cx="750240" cy="215640"/>
            </a:xfrm>
            <a:prstGeom prst="rightArrow">
              <a:avLst>
                <a:gd name="adj1" fmla="val 50000"/>
                <a:gd name="adj2" fmla="val 86978"/>
              </a:avLst>
            </a:prstGeom>
            <a:solidFill>
              <a:srgbClr val="66ff33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102280" y="1628640"/>
              <a:ext cx="3069720" cy="576360"/>
            </a:xfrm>
            <a:prstGeom prst="flowChartAlternateProcess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ff"/>
                  </a:solidFill>
                  <a:latin typeface="Times New Roman"/>
                  <a:ea typeface="华文新魏"/>
                </a:rPr>
                <a:t>喜悦与新奇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静态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4284720" y="2421000"/>
            <a:ext cx="3960360" cy="2087640"/>
            <a:chOff x="4284720" y="2421000"/>
            <a:chExt cx="3960360" cy="2087640"/>
          </a:xfrm>
        </p:grpSpPr>
        <p:sp>
          <p:nvSpPr>
            <p:cNvPr id="468" name=""/>
            <p:cNvSpPr/>
            <p:nvPr/>
          </p:nvSpPr>
          <p:spPr>
            <a:xfrm>
              <a:off x="4284720" y="2565360"/>
              <a:ext cx="751320" cy="216000"/>
            </a:xfrm>
            <a:prstGeom prst="rightArrow">
              <a:avLst>
                <a:gd name="adj1" fmla="val 50000"/>
                <a:gd name="adj2" fmla="val 86958"/>
              </a:avLst>
            </a:prstGeom>
            <a:solidFill>
              <a:srgbClr val="66ff33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103360" y="2421000"/>
              <a:ext cx="3141720" cy="2087640"/>
            </a:xfrm>
            <a:prstGeom prst="flowChartAlternateProcess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ff"/>
                  </a:solidFill>
                  <a:latin typeface="Times New Roman"/>
                  <a:ea typeface="华文新魏"/>
                </a:rPr>
                <a:t>眼巴巴地等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ff"/>
                  </a:solidFill>
                  <a:latin typeface="Times New Roman"/>
                  <a:ea typeface="华文新魏"/>
                </a:rPr>
                <a:t>惊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ff"/>
                  </a:solidFill>
                  <a:latin typeface="Times New Roman"/>
                  <a:ea typeface="华文新魏"/>
                </a:rPr>
                <a:t>吃不下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ff"/>
                  </a:solidFill>
                  <a:latin typeface="Times New Roman"/>
                  <a:ea typeface="华文新魏"/>
                </a:rPr>
                <a:t>喜爱</a:t>
              </a:r>
              <a:r>
                <a:rPr b="1" lang="zh-CN" sz="2400" spc="-1" strike="noStrike">
                  <a:solidFill>
                    <a:srgbClr val="ff99cc"/>
                  </a:solidFill>
                  <a:latin typeface="Times New Roman"/>
                </a:rPr>
                <a:t>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动态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8244000" y="1844640"/>
            <a:ext cx="360360" cy="1562040"/>
          </a:xfrm>
          <a:custGeom>
            <a:avLst/>
            <a:gdLst>
              <a:gd name="textAreaLeft" fmla="*/ 0 w 360360"/>
              <a:gd name="textAreaRight" fmla="*/ 129960 w 360360"/>
              <a:gd name="textAreaTop" fmla="*/ 40680 h 1562040"/>
              <a:gd name="textAreaBottom" fmla="*/ 1521360 h 156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716360" y="3645000"/>
            <a:ext cx="513000" cy="2519280"/>
          </a:xfrm>
          <a:custGeom>
            <a:avLst/>
            <a:gdLst>
              <a:gd name="textAreaLeft" fmla="*/ 0 w 513000"/>
              <a:gd name="textAreaRight" fmla="*/ 185040 w 51300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8461440" y="2421000"/>
            <a:ext cx="68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8748000" y="3213000"/>
            <a:ext cx="144360" cy="1295640"/>
          </a:xfrm>
          <a:prstGeom prst="downArrow">
            <a:avLst>
              <a:gd name="adj1" fmla="val 50000"/>
              <a:gd name="adj2" fmla="val 22437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932360" y="479736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Times New Roman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6699"/>
                </a:solidFill>
                <a:latin typeface="Times New Roman"/>
                <a:ea typeface="宋体"/>
              </a:rPr>
              <a:t>详写是为了更好地突出中心；略写部分是对详写部分的补充，旨在以小见大地表现“第一次真好”的普遍意义，同时，使文章内容更加充实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39640" y="0"/>
            <a:ext cx="2160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  <a:ea typeface="方正姚体"/>
              </a:rPr>
              <a:t>整体感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324000" y="569880"/>
            <a:ext cx="259236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9780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0" y="5084640"/>
            <a:ext cx="9144000" cy="1852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珍重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宋体"/>
              </a:rPr>
              <a:t>第一次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让生命多姿多彩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宋体"/>
              </a:rPr>
              <a:t>不断向新的领域进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987640" y="98100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8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文中最后一句说“第一次愈多，生命愈益多姿多彩。愿你珍重第一次”的含义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324000" y="620640"/>
            <a:ext cx="2592360" cy="28728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539640" y="0"/>
            <a:ext cx="2160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  <a:ea typeface="方正姚体"/>
              </a:rPr>
              <a:t>整体感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5T11:54:36Z</dcterms:created>
  <dc:creator>fj</dc:creator>
  <dc:description/>
  <dc:language>en-US</dc:language>
  <cp:lastModifiedBy>jufeng</cp:lastModifiedBy>
  <dcterms:modified xsi:type="dcterms:W3CDTF">2010-11-12T07:50:06Z</dcterms:modified>
  <cp:revision>152</cp:revision>
  <dc:subject/>
  <dc:title>第一次真好</dc:title>
</cp:coreProperties>
</file>