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21.gif" ContentType="image/gif"/>
  <Override PartName="/ppt/media/image20.gif" ContentType="image/gif"/>
  <Override PartName="/ppt/media/image18.jpeg" ContentType="image/jpeg"/>
  <Override PartName="/ppt/media/image19.jpeg" ContentType="image/jpeg"/>
  <Override PartName="/ppt/media/image1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2C1-0D2E-4222-B930-FECC3D7E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4F8-EAB3-4BCE-93F7-FAAA3F9F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B607-6632-4650-B24A-52B5F34F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B56-C1C0-463F-8EBA-8EEDC1A3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A4D-55CC-4D67-B551-C427FA41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557-32CA-4BD0-AC32-CBEAFDE0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42A-5C55-48F2-B8B2-87F577EA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C32B-0256-4983-8B8C-8C925CDE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DA5-F0DC-4495-BCA8-2893D49E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BAF2-B1F8-4B4A-9E13-BD319374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62E-44C8-4566-9367-1DBF7772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A366-B253-42D3-AFCA-BCFFF842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B887-8D43-4BC2-8EE8-4831BC4B01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26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63640" y="765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那榆阴下的一潭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16360" y="1773360"/>
            <a:ext cx="59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不是清泉，是天上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292428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方正粗圆简体"/>
              </a:rPr>
              <a:t>揉碎在浮藻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429264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沉淀着彩虹似的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20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56000" y="2276640"/>
            <a:ext cx="792360" cy="571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042920" y="5157720"/>
            <a:ext cx="504720" cy="376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50920" y="1125360"/>
            <a:ext cx="5545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寻梦 ？撑着一支长篙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向青草更青处漫溯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3141720"/>
            <a:ext cx="59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满载一船星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在星辉斑斓里放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35280" y="1197000"/>
            <a:ext cx="6408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方正粗圆简体"/>
              </a:rPr>
              <a:t>但我不能放歌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方正粗圆简体"/>
              </a:rPr>
              <a:t>悄悄是别离的笙箫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方正粗圆简体"/>
              </a:rPr>
              <a:t>夏虫也为我沉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方正粗圆简体"/>
              </a:rPr>
              <a:t>沉默是今晚的康桥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3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19280" y="69228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悄悄的我走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1773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正如我悄悄的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321300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我挥一挥衣袖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45086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不带走一片云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40000" y="134136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诗</a:t>
            </a:r>
            <a:r>
              <a:rPr b="1" lang="zh-CN" sz="7200" spc="-1" strike="noStrike">
                <a:solidFill>
                  <a:srgbClr val="00ff00"/>
                </a:solidFill>
                <a:latin typeface="Arial"/>
                <a:ea typeface="方正粗圆简体"/>
              </a:rPr>
              <a:t>文</a:t>
            </a: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赏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方正粗圆简体"/>
              </a:rPr>
              <a:t>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95280" y="1341360"/>
            <a:ext cx="6194520" cy="3007080"/>
            <a:chOff x="395280" y="1341360"/>
            <a:chExt cx="6194520" cy="3007080"/>
          </a:xfrm>
        </p:grpSpPr>
        <p:sp>
          <p:nvSpPr>
            <p:cNvPr id="93" name=""/>
            <p:cNvSpPr/>
            <p:nvPr/>
          </p:nvSpPr>
          <p:spPr>
            <a:xfrm>
              <a:off x="468360" y="1341360"/>
              <a:ext cx="540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轻轻的我走了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8360" y="20620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正如我轻轻的来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8360" y="2854440"/>
              <a:ext cx="43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Arial"/>
                  <a:ea typeface="方正粗圆简体"/>
                </a:rPr>
                <a:t>我轻轻的招手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5280" y="3645000"/>
              <a:ext cx="468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方正粗圆简体"/>
                </a:rPr>
                <a:t>作别西天的云彩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55640" y="33336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第一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907920"/>
            <a:ext cx="2521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47628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从开篇就可看出诗人对母校表达了怎样的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2492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爱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1557360"/>
            <a:ext cx="215640" cy="2519280"/>
          </a:xfrm>
          <a:custGeom>
            <a:avLst/>
            <a:gdLst>
              <a:gd name="textAreaLeft" fmla="*/ 0 w 215640"/>
              <a:gd name="textAreaRight" fmla="*/ 77760 w 2156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2492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惜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360" y="3284640"/>
            <a:ext cx="442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所以第一节一连用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三个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轻轻的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”，既有难舍难分之情，又有无可奈何之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4724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这种情感为全篇咋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321300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定下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500"/>
                            </p:stCondLst>
                            <p:childTnLst>
                              <p:par>
                                <p:cTn id="341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6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43200000">
                                      <p:cBhvr>
                                        <p:cTn id="3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33360"/>
            <a:ext cx="85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从第２节起至第５节，诗人写了哪些意象？各是怎样的？均表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700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2.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柳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2492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17002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水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170028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4.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清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1640" y="1700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5.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寻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3573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妩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3573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多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573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梦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573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尽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5013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均表现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4869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景美情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211280" y="1628640"/>
            <a:ext cx="433440" cy="5761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56"/>
                </a:lnTo>
                <a:cubicBezTo>
                  <a:pt x="10800" y="10056"/>
                  <a:pt x="5400" y="10956"/>
                  <a:pt x="0" y="10956"/>
                </a:cubicBezTo>
                <a:cubicBezTo>
                  <a:pt x="5400" y="10956"/>
                  <a:pt x="10800" y="11856"/>
                  <a:pt x="10800" y="1275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5464080"/>
            <a:ext cx="38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眷恋母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30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100"/>
                            </p:stCondLst>
                            <p:childTnLst>
                              <p:par>
                                <p:cTn id="4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100"/>
                            </p:stCondLst>
                            <p:childTnLst>
                              <p:par>
                                <p:cTn id="49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100"/>
                            </p:stCondLst>
                            <p:childTnLst>
                              <p:par>
                                <p:cTn id="5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18900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206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请思考诗中的问题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83664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诗人本是要放歌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为何“不能了”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8428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因为诗人从美的幻想中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从对母校的依恋中——回到现实中来。现实是严酷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不能不离别深爱的她啊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所以沉默啊，沉默啊。人在痛苦中多为沉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280" y="3591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为何诗人要“悄悄的”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422100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怕破坏母校的宁静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88808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为何诗人“不带走一片云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558972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怕破坏母校的和谐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800"/>
                            </p:stCondLst>
                            <p:childTnLst>
                              <p:par>
                                <p:cTn id="547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42920" y="765000"/>
            <a:ext cx="4824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7628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方正粗圆简体"/>
              </a:rPr>
              <a:t>总之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方正粗圆简体"/>
              </a:rPr>
              <a:t>，全诗向读者展现了康桥的秀丽风光，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方正粗圆简体"/>
              </a:rPr>
              <a:t>表达了对母校的深深依恋之情，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方正粗圆简体"/>
              </a:rPr>
              <a:t>也曲折地表达了诗人常常一无所获和一个知识分子的苦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注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907920"/>
            <a:ext cx="914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第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1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节和第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7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节里都有前置词语，是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557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轻轻      悄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227664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2276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06864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另外，这两节最突出的特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3860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相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5319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8000" y="4869000"/>
            <a:ext cx="68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形成一唱三叹，反复回旋之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5086440"/>
            <a:ext cx="144360" cy="107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558972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加强抒情效果，歌词大多如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100"/>
                            </p:stCondLst>
                            <p:childTnLst>
                              <p:par>
                                <p:cTn id="638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200"/>
                            </p:stCondLst>
                            <p:childTnLst>
                              <p:par>
                                <p:cTn id="6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200"/>
                            </p:stCondLst>
                            <p:childTnLst>
                              <p:par>
                                <p:cTn id="6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200"/>
                            </p:stCondLst>
                            <p:childTnLst>
                              <p:par>
                                <p:cTn id="6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5148000" cy="6858000"/>
            <a:chOff x="0" y="0"/>
            <a:chExt cx="5148000" cy="6858000"/>
          </a:xfrm>
        </p:grpSpPr>
        <p:pic>
          <p:nvPicPr>
            <p:cNvPr id="44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0" y="0"/>
              <a:ext cx="4897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390840" y="0"/>
              <a:ext cx="17571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276720" y="260280"/>
            <a:ext cx="58672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徐志摩（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897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～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931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现代诗人、散文家。笔名南湖、云中鹤等。浙江海宁人。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0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秋，徐志摩经美国到伦敦，在剑桥大学、伦敦大学学习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2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中旬回国。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3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在《时事新报》上发表了第一首记忆康桥的诗——《康桥在会吧》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5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再次访问伦敦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6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写下了为人熟知的现代散文名篇——《我所知道的康桥》；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8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第三次来到英国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日快要归国的途中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55640" y="260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课内作业：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5560" y="2637000"/>
            <a:ext cx="60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二是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________________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4000" y="1052640"/>
            <a:ext cx="8769240" cy="1495440"/>
            <a:chOff x="324000" y="1052640"/>
            <a:chExt cx="8769240" cy="1495440"/>
          </a:xfrm>
        </p:grpSpPr>
        <p:sp>
          <p:nvSpPr>
            <p:cNvPr id="150" name=""/>
            <p:cNvSpPr/>
            <p:nvPr/>
          </p:nvSpPr>
          <p:spPr>
            <a:xfrm>
              <a:off x="324000" y="1052640"/>
              <a:ext cx="849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1.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本诗排版，形式采取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排法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,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好处一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77520" y="1844640"/>
              <a:ext cx="751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________________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506920" y="105264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77336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参差美（错落有致、变化美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263700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便于阅读（醒目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9280" y="3860640"/>
            <a:ext cx="9866160" cy="1424160"/>
            <a:chOff x="179280" y="3860640"/>
            <a:chExt cx="9866160" cy="1424160"/>
          </a:xfrm>
        </p:grpSpPr>
        <p:sp>
          <p:nvSpPr>
            <p:cNvPr id="156" name=""/>
            <p:cNvSpPr/>
            <p:nvPr/>
          </p:nvSpPr>
          <p:spPr>
            <a:xfrm>
              <a:off x="179280" y="3860640"/>
              <a:ext cx="986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2.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本诗用韵上虽节节押韵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,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但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2360" y="4581360"/>
              <a:ext cx="835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好处是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__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443640" y="3807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一节一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6720" y="452772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自由（方便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600"/>
                            </p:stCondLst>
                            <p:childTnLst>
                              <p:par>
                                <p:cTn id="6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6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700"/>
                            </p:stCondLst>
                            <p:childTnLst>
                              <p:par>
                                <p:cTn id="729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1190520" cy="571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7972560" y="2924280"/>
            <a:ext cx="1171440" cy="619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76360" y="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88000" y="537372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ffff"/>
                </a:solidFill>
                <a:latin typeface="Arial"/>
                <a:ea typeface="方正彩云简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72222E-006 -4.62428E-006 C 0.00173 0.01272 0.00746 0.0333 0.01493 0.04232 C 0.0177 0.05688 0.02309 0.07006 0.02968 0.08255 C 0.03159 0.08625 0.0309 0.09133 0.03298 0.09503 C 0.03402 0.09711 0.03524 0.09943 0.03628 0.10151 C 0.03871 0.11076 0.04097 0.11885 0.04288 0.12902 C 0.04461 0.15885 0.04513 0.18336 0.05104 0.21133 C 0.05312 0.22081 0.05399 0.22821 0.05937 0.23469 C 0.06041 0.23815 0.06076 0.24347 0.06267 0.2474 C 0.06475 0.25133 0.0677 0.25457 0.06909 0.25943 C 0.07291 0.27307 0.07378 0.28648 0.08072 0.29735 C 0.08697 0.32139 0.08246 0.35839 0.10555 0.36717 C 0.11927 0.37896 0.1335 0.3785 0.15 0.38058 C 0.16701 0.3859 0.15885 0.38359 0.17482 0.38683 C 0.19739 0.38613 0.21996 0.38659 0.24218 0.38451 C 0.24739 0.38405 0.25729 0.37781 0.25729 0.37804 C 0.26197 0.36902 0.26996 0.36185 0.27691 0.35446 C 0.28263 0.34868 0.28767 0.3422 0.2934 0.3355 C 0.29756 0.33203 0.29652 0.3311 0.3 0.32486 C 0.30434 0.31862 0.31111 0.3133 0.31493 0.3059 C 0.32083 0.29457 0.32552 0.28879 0.33454 0.28116 C 0.34166 0.26752 0.35104 0.25989 0.35937 0.24879 C 0.36996 0.23607 0.38003 0.21989 0.39218 0.20925 C 0.39947 0.19607 0.39131 0.20833 0.40052 0.20093 C 0.40572 0.19677 0.41041 0.18891 0.41527 0.18382 C 0.41701 0.1822 0.41857 0.18058 0.42048 0.17966 C 0.42361 0.17781 0.43038 0.1755 0.43038 0.17573 C 0.4493 0.15931 0.48316 0.17064 0.49947 0.17133 C 0.50885 0.17434 0.51232 0.17665 0.521 0.18382 C 0.52725 0.18914 0.52847 0.19908 0.53576 0.20509 C 0.53958 0.2148 0.5427 0.2155 0.54739 0.22405 C 0.5493 0.23237 0.55347 0.23792 0.55729 0.24532 C 0.56163 0.26706 0.55503 0.24047 0.56371 0.25943 C 0.57309 0.28116 0.56336 0.26498 0.56875 0.27839 C 0.57187 0.28671 0.57152 0.28324 0.57534 0.28902 C 0.58316 0.30266 0.58819 0.31284 0.60156 0.31631 C 0.64722 0.31561 0.69392 0.3133 0.73854 0.29989 C 0.75347 0.2948 0.76822 0.28948 0.78298 0.28532 C 0.78541 0.28394 0.78732 0.28139 0.78975 0.28116 C 0.79392 0.27862 0.80277 0.277 0.80277 0.27723 C 0.8092 0.27284 0.81423 0.27029 0.821 0.26775 C 0.82274 0.26706 0.82413 0.26498 0.82586 0.26428 C 0.82812 0.26243 0.83055 0.26359 0.83263 0.2622 C 0.85329 0.24763 0.83489 0.25365 0.85381 0.24879 C 0.85833 0.24347 0.86284 0.2407 0.86892 0.23815 C 0.87829 0.23076 0.88854 0.22613 0.89843 0.21989 C 0.90642 0.2148 0.91302 0.20671 0.92152 0.20301 C 0.92604 0.19723 0.9309 0.19654 0.93645 0.19237 C 0.94114 0.18891 0.94427 0.18428 0.94791 0.17966 C 0.95156 0.16555 0.94965 0.17087 0.95295 0.16278 E">
                                      <p:cBhvr>
                                        <p:cTn id="759" dur="10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52 0.06382 C -0.0007 0.04971 -0.00174 0.02844 -0.01059 0.01757 C -0.01858 -0.01364 -0.03594 -0.02289 -0.05469 -0.04069 C -0.05781 -0.04347 -0.06129 -0.04532 -0.06406 -0.04878 C -0.06563 -0.05063 -0.06702 -0.05295 -0.06875 -0.0548 C -0.0717 -0.0578 -0.07518 -0.06011 -0.0783 -0.06289 C -0.07986 -0.06404 -0.08281 -0.06682 -0.08281 -0.06659 C -0.09184 -0.08347 -0.08021 -0.06335 -0.0908 -0.07676 C -0.09479 -0.08185 -0.09792 -0.08786 -0.10174 -0.09295 C -0.10868 -0.10173 -0.11389 -0.11214 -0.12222 -0.11907 C -0.12448 -0.12763 -0.129 -0.13387 -0.1349 -0.13896 C -0.13698 -0.14705 -0.13959 -0.15052 -0.14584 -0.15306 C -0.1658 -0.18011 -0.1882 -0.20925 -0.21667 -0.22127 C -0.2257 -0.23306 -0.2165 -0.22335 -0.22934 -0.22959 C -0.23125 -0.23029 -0.23229 -0.2326 -0.23403 -0.23352 C -0.2382 -0.23514 -0.24653 -0.23745 -0.24653 -0.23722 C -0.26059 -0.24925 -0.27622 -0.25086 -0.29219 -0.25341 C -0.31979 -0.25202 -0.34688 -0.25179 -0.37413 -0.24763 C -0.38281 -0.24485 -0.38906 -0.23953 -0.39775 -0.23745 C -0.4007 -0.23375 -0.40434 -0.23121 -0.40712 -0.22751 C -0.40851 -0.22566 -0.4092 -0.22312 -0.41025 -0.22127 C -0.41667 -0.21225 -0.4165 -0.21248 -0.42292 -0.2074 C -0.43021 -0.19306 -0.44202 -0.18497 -0.44966 -0.17133 C -0.45729 -0.15838 -0.4625 -0.14243 -0.4717 -0.1311 C -0.47691 -0.11745 -0.48403 -0.10543 -0.49045 -0.09295 C -0.49341 -0.0874 -0.49861 -0.08439 -0.50156 -0.07884 C -0.50799 -0.06751 -0.51754 -0.05318 -0.52847 -0.04878 C -0.53108 -0.04624 -0.53299 -0.04185 -0.53611 -0.04069 C -0.5566 -0.0319 -0.5816 -0.03214 -0.60226 -0.03075 C -0.62917 -0.03144 -0.65573 -0.03144 -0.68264 -0.03283 C -0.6875 -0.03283 -0.69184 -0.0356 -0.6967 -0.03676 C -0.72222 -0.04231 -0.74531 -0.05757 -0.77101 -0.06289 C -0.78125 -0.06728 -0.79011 -0.0756 -0.8007 -0.07884 C -0.8132 -0.0948 -0.82691 -0.11029 -0.83681 -0.12925 C -0.84827 -0.15052 -0.85417 -0.17572 -0.86528 -0.19722 C -0.8665 -0.20277 -0.86771 -0.2104 -0.86997 -0.21549 C -0.87622 -0.22982 -0.87292 -0.21734 -0.87761 -0.22959 C -0.87934 -0.23399 -0.87934 -0.23699 -0.88091 -0.24162 C -0.88577 -0.25618 -0.88212 -0.24323 -0.88872 -0.25757 C -0.89202 -0.2652 -0.89341 -0.27399 -0.8967 -0.28162 C -0.90139 -0.29225 -0.90972 -0.30011 -0.91702 -0.30774 C -0.92222 -0.31306 -0.92917 -0.31769 -0.93594 -0.31769 E">
                                      <p:cBhvr>
                                        <p:cTn id="765" dur="10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333360"/>
            <a:ext cx="8209080" cy="31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灵感闪现，挥洒自如地写下了的传世经典之作——《再别康桥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他是现代著名诗人，是“新月派”主干。（“文学研究会”：茅盾、郑振铎</a:t>
            </a:r>
            <a:r>
              <a:rPr b="1" lang="zh-CN" sz="3600" spc="-1" strike="noStrike">
                <a:solidFill>
                  <a:srgbClr val="ff00ff"/>
                </a:solidFill>
                <a:latin typeface="方正粗圆简体"/>
                <a:ea typeface="方正粗圆简体"/>
              </a:rPr>
              <a:t>；“创造社”：郭沫若、郁达夫；“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朝花社”：鲁迅、柔石</a:t>
            </a:r>
            <a:r>
              <a:rPr b="1" lang="zh-CN" sz="36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；“新月派”：胡适、徐志摩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） 代表作有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《志摩的诗》 、《猛虎集》，散文集《落叶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003640" cy="6858000"/>
            <a:chOff x="0" y="0"/>
            <a:chExt cx="5003640" cy="6858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003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84320" y="260280"/>
              <a:ext cx="42372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方正行楷简体"/>
                </a:rPr>
                <a:t>诗人妻子陆小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580000" y="26028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有人说：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读《沁园春》需激昂，读《雨巷》需凄伤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你认为读《再别康桥》需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2000" y="522936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方正粗圆简体"/>
              </a:rPr>
              <a:t>沉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105 -0.05295 -0.00139 -0.1059 -0.0033 -0.15861 C -0.00417 -0.1815 -0.01511 -0.20509 -0.02066 -0.22636 C -0.0316 -0.26798 -0.04549 -0.30867 -0.06198 -0.34682 C -0.0698 -0.36486 -0.07257 -0.38728 -0.08108 -0.40393 C -0.08299 -0.41434 -0.08612 -0.42358 -0.08889 -0.43353 C -0.09115 -0.44162 -0.09219 -0.4504 -0.09375 -0.45873 C -0.0948 -0.46474 -0.10677 -0.48809 -0.10799 -0.49064 C -0.1198 -0.51607 -0.10487 -0.4948 -0.11441 -0.50751 C -0.11632 -0.51746 -0.12049 -0.52 -0.12396 -0.52855 C -0.13039 -0.54335 -0.13768 -0.56116 -0.14931 -0.56879 C -0.15521 -0.57665 -0.16198 -0.58428 -0.16997 -0.58775 C -0.17882 -0.59977 -0.16997 -0.59006 -0.18108 -0.5963 C -0.19115 -0.60185 -0.19497 -0.61017 -0.20643 -0.61318 C -0.22275 -0.6289 -0.24549 -0.6326 -0.26528 -0.6363 C -0.27969 -0.63468 -0.29202 -0.63168 -0.30643 -0.63006 C -0.3125 -0.62821 -0.31806 -0.62566 -0.32396 -0.62381 C -0.32813 -0.61803 -0.33316 -0.61549 -0.3382 -0.6111 C -0.3441 -0.59538 -0.33907 -0.60786 -0.34931 -0.58566 C -0.35087 -0.5822 -0.354 -0.57503 -0.354 -0.57503 C -0.35452 -0.57225 -0.35487 -0.56925 -0.35556 -0.56671 C -0.35747 -0.56092 -0.36198 -0.54983 -0.36198 -0.54983 C -0.36632 -0.52578 -0.35938 -0.56162 -0.36841 -0.52855 C -0.36997 -0.52301 -0.37136 -0.50173 -0.37153 -0.49896 C -0.37049 -0.48208 -0.37014 -0.4652 -0.36841 -0.44832 C -0.36789 -0.44347 -0.36337 -0.43399 -0.36198 -0.42913 C -0.35712 -0.41156 -0.35348 -0.39145 -0.34445 -0.37642 C -0.33403 -0.35908 -0.32275 -0.3526 -0.30955 -0.34035 C -0.26997 -0.30312 -0.22066 -0.29341 -0.17309 -0.28971 C -0.15052 -0.2911 -0.12761 -0.29179 -0.10487 -0.29387 C -0.09532 -0.2948 -0.07622 -0.29827 -0.07622 -0.29827 C -0.07275 -0.29988 -0.05243 -0.30844 -0.04445 -0.31514 C -0.04219 -0.31699 -0.04028 -0.31931 -0.0382 -0.32139 C -0.03507 -0.32439 -0.02865 -0.32994 -0.02865 -0.32994 C -0.02275 -0.34173 -0.01389 -0.36046 -0.01112 -0.37434 C -0.01164 -0.40185 -0.01146 -0.42936 -0.01285 -0.45665 C -0.01355 -0.46821 -0.01997 -0.47792 -0.02396 -0.48832 C -0.02761 -0.4978 -0.02726 -0.50682 -0.03177 -0.51584 C -0.03438 -0.52647 -0.04098 -0.53896 -0.04618 -0.54751 C -0.05018 -0.56139 -0.05695 -0.57225 -0.06198 -0.58566 C -0.0632 -0.5889 -0.0665 -0.58936 -0.06841 -0.59191 C -0.07032 -0.59445 -0.07118 -0.59815 -0.07309 -0.60046 C -0.07726 -0.60555 -0.08889 -0.61873 -0.09532 -0.6215 C -0.10209 -0.63075 -0.10955 -0.63191 -0.11754 -0.63861 C -0.14862 -0.66428 -0.18316 -0.6696 -0.2191 -0.67237 C -0.23889 -0.67746 -0.25764 -0.68092 -0.27778 -0.68301 C -0.30816 -0.69087 -0.33959 -0.68694 -0.36997 -0.68509 C -0.38473 -0.68324 -0.39827 -0.67884 -0.41285 -0.67653 C -0.42084 -0.67121 -0.43612 -0.66197 -0.44445 -0.65965 C -0.45174 -0.6548 -0.45834 -0.64879 -0.46511 -0.64277 C -0.46823 -0.64 -0.46997 -0.63491 -0.47309 -0.63214 C -0.47709 -0.62867 -0.4823 -0.62405 -0.48577 -0.61942 C -0.49323 -0.60948 -0.49931 -0.59445 -0.50955 -0.58983 C -0.51198 -0.58104 -0.51632 -0.57988 -0.52066 -0.57295 C -0.52657 -0.5637 -0.53195 -0.55422 -0.5382 -0.54543 C -0.53872 -0.54266 -0.53907 -0.53988 -0.53976 -0.53711 C -0.54063 -0.53295 -0.54289 -0.52439 -0.54289 -0.52439 C -0.55139 -0.44347 -0.52657 -0.34266 -0.56355 -0.26867 C -0.56754 -0.25225 -0.56164 -0.27191 -0.56997 -0.25803 C -0.57101 -0.25618 -0.57049 -0.25341 -0.57153 -0.25156 C -0.57605 -0.2437 -0.58403 -0.24185 -0.59063 -0.23908 C -0.60834 -0.24046 -0.61893 -0.24324 -0.63507 -0.2474 C -0.64879 -0.25688 -0.66355 -0.26104 -0.67778 -0.26867 C -0.68577 -0.27306 -0.69184 -0.27954 -0.7 -0.28347 C -0.70296 -0.28717 -0.70712 -0.28948 -0.70955 -0.29387 C -0.71337 -0.30081 -0.71598 -0.31306 -0.71754 -0.32139 C -0.71702 -0.33064 -0.71806 -0.34012 -0.71598 -0.3489 C -0.71511 -0.35237 -0.71164 -0.35283 -0.70955 -0.35514 C -0.69931 -0.36647 -0.68924 -0.37919 -0.67622 -0.38474 C -0.66927 -0.38335 -0.66233 -0.38266 -0.65556 -0.38058 C -0.64914 -0.37873 -0.64427 -0.37295 -0.6382 -0.36994 C -0.63612 -0.36717 -0.63421 -0.36393 -0.63177 -0.36162 C -0.61893 -0.3496 -0.63594 -0.37156 -0.62223 -0.35514 C -0.60608 -0.33572 -0.59167 -0.31445 -0.57622 -0.29387 C -0.57223 -0.28855 -0.56841 -0.28301 -0.56511 -0.27699 C -0.55643 -0.26173 -0.5632 -0.26613 -0.554 -0.2622 C -0.54028 -0.23191 -0.52379 -0.20486 -0.50487 -0.17988 C -0.49705 -0.16925 -0.50157 -0.17595 -0.49219 -0.15861 C -0.49011 -0.15445 -0.48438 -0.14798 -0.48438 -0.14798 C -0.48125 -0.13526 -0.47171 -0.13087 -0.46355 -0.12486 C -0.44931 -0.11422 -0.43334 -0.10983 -0.4191 -0.09942 C -0.4125 -0.09457 -0.4066 -0.0874 -0.4 -0.08254 C -0.39497 -0.07861 -0.3882 -0.07884 -0.38264 -0.0763 C -0.37778 -0.06936 -0.37171 -0.06636 -0.36511 -0.06358 C -0.35851 -0.05734 -0.35087 -0.0541 -0.34289 -0.05087 C -0.32605 -0.03584 -0.35226 -0.05827 -0.33177 -0.04439 C -0.32952 -0.04277 -0.32778 -0.03977 -0.32552 -0.03815 C -0.32118 -0.03538 -0.30521 -0.02775 -0.3 -0.02543 C -0.29844 -0.02405 -0.29723 -0.0222 -0.29549 -0.02127 C -0.29132 -0.01942 -0.28282 -0.01711 -0.28282 -0.01711 C -0.28056 -0.01572 -0.27848 -0.01364 -0.27639 -0.01272 C -0.27205 -0.01087 -0.26355 -0.00855 -0.26355 -0.00855 C -0.25278 -0.00116 -0.24046 0.00185 -0.22865 0.00624 C -0.21337 0.01202 -0.20174 0.01873 -0.18577 0.02104 C -0.11719 0.05156 -0.09323 0.03792 0.00468 0.03792 E">
                                      <p:cBhvr>
                                        <p:cTn id="58" dur="10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29920" y="549360"/>
            <a:ext cx="2009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方正粗圆简体"/>
              </a:rPr>
              <a:t>学生配乐朗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956720" y="522936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31920" y="692280"/>
            <a:ext cx="1826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方正琥珀简体"/>
              </a:rPr>
              <a:t>教师配乐朗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189000"/>
            <a:ext cx="865080" cy="57600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434" h="21600">
                <a:moveTo>
                  <a:pt x="0" y="0"/>
                </a:moveTo>
                <a:lnTo>
                  <a:pt x="32434" y="0"/>
                </a:lnTo>
                <a:lnTo>
                  <a:pt x="32434" y="21600"/>
                </a:lnTo>
                <a:lnTo>
                  <a:pt x="0" y="21600"/>
                </a:lnTo>
                <a:close/>
              </a:path>
              <a:path fill="lightenLess" w="32434" h="21600">
                <a:moveTo>
                  <a:pt x="0" y="0"/>
                </a:moveTo>
                <a:lnTo>
                  <a:pt x="32434" y="0"/>
                </a:lnTo>
                <a:lnTo>
                  <a:pt x="31034" y="1400"/>
                </a:lnTo>
                <a:lnTo>
                  <a:pt x="1400" y="1400"/>
                </a:lnTo>
                <a:close/>
              </a:path>
              <a:path fill="darken" w="32434" h="21600">
                <a:moveTo>
                  <a:pt x="32434" y="0"/>
                </a:moveTo>
                <a:lnTo>
                  <a:pt x="32434" y="21600"/>
                </a:lnTo>
                <a:lnTo>
                  <a:pt x="31034" y="20200"/>
                </a:lnTo>
                <a:lnTo>
                  <a:pt x="31034" y="1400"/>
                </a:lnTo>
                <a:close/>
              </a:path>
              <a:path fill="darkenLess" w="32434" h="21600">
                <a:moveTo>
                  <a:pt x="324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4" y="20200"/>
                </a:lnTo>
                <a:close/>
              </a:path>
              <a:path fill="lighten" w="324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4" h="21600">
                <a:moveTo>
                  <a:pt x="9210" y="7301"/>
                </a:moveTo>
                <a:lnTo>
                  <a:pt x="10124" y="7301"/>
                </a:lnTo>
                <a:lnTo>
                  <a:pt x="10507" y="7667"/>
                </a:lnTo>
                <a:lnTo>
                  <a:pt x="19716" y="7667"/>
                </a:lnTo>
                <a:lnTo>
                  <a:pt x="20273" y="8224"/>
                </a:lnTo>
                <a:lnTo>
                  <a:pt x="20273" y="8772"/>
                </a:lnTo>
                <a:lnTo>
                  <a:pt x="22118" y="8772"/>
                </a:lnTo>
                <a:lnTo>
                  <a:pt x="22484" y="8224"/>
                </a:lnTo>
                <a:lnTo>
                  <a:pt x="23223" y="8224"/>
                </a:lnTo>
                <a:lnTo>
                  <a:pt x="23223" y="13376"/>
                </a:lnTo>
                <a:lnTo>
                  <a:pt x="22484" y="13376"/>
                </a:lnTo>
                <a:lnTo>
                  <a:pt x="22118" y="12828"/>
                </a:lnTo>
                <a:lnTo>
                  <a:pt x="20273" y="12828"/>
                </a:lnTo>
                <a:lnTo>
                  <a:pt x="20273" y="14107"/>
                </a:lnTo>
                <a:lnTo>
                  <a:pt x="10690" y="14107"/>
                </a:lnTo>
                <a:lnTo>
                  <a:pt x="10690" y="9877"/>
                </a:lnTo>
                <a:lnTo>
                  <a:pt x="10507" y="9877"/>
                </a:lnTo>
                <a:lnTo>
                  <a:pt x="10124" y="10243"/>
                </a:lnTo>
                <a:lnTo>
                  <a:pt x="921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00360" y="549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轻轻的我走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16286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正如我轻轻的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2637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我轻轻的招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3789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作别西天的云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80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55 -0.0111 0.01302 -0.01711 0.02066 -0.0252 C 0.02621 -0.03121 0.03107 -0.03699 0.03802 -0.04 C 0.05399 -0.06127 0.07291 -0.07329 0.09357 -0.08439 C 0.09722 -0.08624 0.09965 -0.09063 0.10312 -0.09295 C 0.10607 -0.09503 0.10955 -0.09549 0.11267 -0.09711 C 0.12986 -0.10636 0.10555 -0.09595 0.12864 -0.10982 C 0.13524 -0.11376 0.14253 -0.11468 0.14913 -0.11838 C 0.15955 -0.12439 0.1684 -0.13133 0.17778 -0.13942 C 0.18715 -0.14751 0.19427 -0.15699 0.20469 -0.16277 C 0.21198 -0.17202 0.21927 -0.17896 0.22864 -0.18381 C 0.23628 -0.19445 0.24635 -0.19907 0.25712 -0.20277 C 0.26111 -0.20832 0.26528 -0.20878 0.26979 -0.21341 C 0.27222 -0.21595 0.27361 -0.21988 0.27621 -0.22173 C 0.28021 -0.2252 0.28889 -0.23029 0.28889 -0.23029 C 0.29288 -0.23584 0.29757 -0.23977 0.30156 -0.24508 E">
                                      <p:cBhvr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8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8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9942E-006 C -0.00886 -0.01549 -0.01806 -0.01826 -0.02952 -0.02335 C -0.06042 -0.03699 -0.02309 -0.0215 -0.04566 -0.03468 C -0.0573 -0.04138 -0.07118 -0.04763 -0.08334 -0.05179 C -0.1033 -0.06589 -0.13907 -0.08346 -0.16129 -0.08901 C -0.1658 -0.09202 -0.17014 -0.09526 -0.17448 -0.09757 C -0.1783 -0.09919 -0.18212 -0.09826 -0.18594 -0.10034 C -0.19271 -0.10404 -0.19896 -0.11005 -0.20539 -0.11468 C -0.21007 -0.11815 -0.21528 -0.11815 -0.22014 -0.12046 C -0.23629 -0.12832 -0.24948 -0.1452 -0.2658 -0.15214 C -0.27483 -0.16185 -0.28386 -0.16716 -0.29341 -0.17503 C -0.30365 -0.18335 -0.31007 -0.19445 -0.32101 -0.20069 C -0.3408 -0.22404 -0.36268 -0.24 -0.38455 -0.25526 C -0.38993 -0.25896 -0.39532 -0.26289 -0.40087 -0.26682 C -0.40573 -0.26982 -0.41563 -0.27514 -0.41563 -0.27491 C -0.42882 -0.29063 -0.41216 -0.27237 -0.42535 -0.28393 C -0.4316 -0.28948 -0.43525 -0.29687 -0.44167 -0.30057 C -0.44844 -0.3089 -0.45365 -0.3163 -0.46129 -0.32069 C -0.4698 -0.33595 -0.47743 -0.35144 -0.48559 -0.3667 C -0.4875 -0.37641 -0.48959 -0.38266 -0.49393 -0.38959 C -0.49601 -0.40069 -0.50018 -0.40601 -0.50018 -0.41826 E">
                                      <p:cBhvr>
                                        <p:cTn id="12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4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21 -0.00439 0.01007 -0.00809 0.01597 -0.01063 C 0.04462 -0.0393 0.00226 0.00139 0.02865 -0.01896 C 0.03056 -0.02034 0.03142 -0.02381 0.03333 -0.02543 C 0.04271 -0.03399 0.05642 -0.03815 0.06667 -0.04439 C 0.08924 -0.05826 0.10972 -0.07422 0.13021 -0.09295 C 0.14254 -0.10428 0.15903 -0.10543 0.17153 -0.1163 C 0.2066 -0.14774 0.23281 -0.19514 0.26354 -0.2326 C 0.27986 -0.25248 0.29549 -0.27306 0.31111 -0.29387 C 0.33125 -0.32069 0.3132 -0.29341 0.33333 -0.31722 C 0.35417 -0.34173 0.37379 -0.36855 0.38889 -0.39954 C 0.39097 -0.40855 0.4 -0.42289 0.4 -0.42289 C 0.40313 -0.43514 0.41042 -0.44647 0.4191 -0.45248 C 0.4217 -0.4541 0.42465 -0.4548 0.42708 -0.45665 C 0.43038 -0.45919 0.43663 -0.4652 0.43663 -0.4652 C 0.44306 -0.47815 0.44722 -0.47769 0.45556 -0.48624 C 0.45799 -0.48878 0.46198 -0.4948 0.46198 -0.4948 E">
                                      <p:cBhvr>
                                        <p:cTn id="13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44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900"/>
                            </p:stCondLst>
                            <p:childTnLst>
                              <p:par>
                                <p:cTn id="137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32000" y="692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那河畔的金柳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141300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是夕阳中的新娘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2060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波光里的艳影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2924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在我心头荡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2276640"/>
            <a:ext cx="5616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软泥上的青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油油的在水底招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在康河的柔波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我甘心做一条水草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2:41:19Z</dcterms:created>
  <dc:creator>网管中心</dc:creator>
  <dc:description/>
  <dc:language>en-US</dc:language>
  <cp:lastModifiedBy>微软用户</cp:lastModifiedBy>
  <dcterms:modified xsi:type="dcterms:W3CDTF">2009-10-08T00:54:20Z</dcterms:modified>
  <cp:revision>34</cp:revision>
  <dc:subject/>
  <dc:title>幻灯片 1</dc:title>
</cp:coreProperties>
</file>