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76B5-3260-4EA3-B2C2-091AA8796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8DAD-DCB4-4523-9739-0435C0691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A2F5-F520-45A2-BE89-D57B7A1FA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FFDB-8E7D-4A54-ABCF-0FECF75C4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A641C-B222-4007-9FED-896A9F811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4AF12-1139-4684-AFCA-4E31ED9E0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B4F9E-5AEE-48CD-9D3A-284EC33AC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B94F7-0860-45D2-9BA9-7127B8192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AD57F-33DB-46FF-A52D-1A25CDFE2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DED68-7ADE-4BE2-9DCC-F2496FB45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FF910-CAD8-456B-89CB-9EDCE8534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C05D-C7A9-4E0F-9242-30E721841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2511D-EE2A-4C9F-8260-DEE111C6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F37D3-ADF1-4218-818F-A7B9E5C2E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0F46E-26D7-473D-8D4B-D5A3C36F0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3D6EE-4BC1-4524-BF80-D7F5014DC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D33C1-EDFB-453C-AF7A-20727E272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8204-7B96-4EB4-8511-C055F09DF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45ED-3CF3-402C-B223-425F75C9D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8252-AE39-4810-BF02-1FEF4A77F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9AFA-4ED8-447A-8176-7D30D228B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60D2-ED20-4FED-BEA3-161E088C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116A-51F9-4611-815C-7605D87BF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6FF8-5B03-40F6-ACDC-F07CFB507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3F6A2-8230-41E6-A899-9CC9C17536B9}" type="slidenum">
              <a:rPr b="0" lang="zh-CN" sz="1400" spc="-1" strike="noStrike">
                <a:solidFill>
                  <a:srgbClr val="0033c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700B3-0D60-402E-9FA2-3FD06D5689D3}" type="slidenum">
              <a:rPr b="0" lang="zh-CN" sz="1400" spc="-1" strike="noStrike">
                <a:solidFill>
                  <a:srgbClr val="0033c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623952051&amp;tn=baiduimagedetail&amp;word=&#39038;&#22478;&amp;in=1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685560" y="620640"/>
            <a:ext cx="200916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  <a:ea typeface="楷体_GB2312"/>
              </a:rPr>
              <a:t>致  橡  树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8560" y="4724280"/>
            <a:ext cx="152100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舒  婷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826920" y="476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8009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39640" y="69228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否  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8360" y="1844640"/>
            <a:ext cx="14396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楷体_GB2312"/>
              </a:rPr>
              <a:t>凌霄花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楷体_GB2312"/>
              </a:rPr>
              <a:t>鸟儿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楷体_GB2312"/>
              </a:rPr>
              <a:t>泉源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楷体_GB2312"/>
              </a:rPr>
              <a:t>险峰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楷体_GB2312"/>
              </a:rPr>
              <a:t>日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楷体_GB2312"/>
              </a:rPr>
              <a:t>春雨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835280" y="2133720"/>
            <a:ext cx="215640" cy="3240000"/>
          </a:xfrm>
          <a:custGeom>
            <a:avLst/>
            <a:gdLst>
              <a:gd name="textAreaLeft" fmla="*/ 0 w 215640"/>
              <a:gd name="textAreaRight" fmla="*/ 77760 w 215640"/>
              <a:gd name="textAreaTop" fmla="*/ 84240 h 3240000"/>
              <a:gd name="textAreaBottom" fmla="*/ 3155760 h 32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68360" y="2997360"/>
            <a:ext cx="4175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684880" y="1484280"/>
            <a:ext cx="16822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我必须是你近旁的一株木棉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作为树的形象和你站在一起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300720" y="69228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肯  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724360" y="1844640"/>
            <a:ext cx="280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根，紧握在地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叶，相触在云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3141720"/>
            <a:ext cx="392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分担寒潮、风雷、霹雳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共享雾霭、流岚、虹霓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40360" y="4437000"/>
            <a:ext cx="252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仿佛永远分离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却又终身相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61480" y="1989000"/>
            <a:ext cx="911880" cy="36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体现慰藉与依附的意象群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076720" y="2133720"/>
            <a:ext cx="216000" cy="3240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84240 h 3240000"/>
              <a:gd name="textAreaBottom" fmla="*/ 3155760 h 32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987640" y="62064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观点提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00000" y="1268280"/>
            <a:ext cx="433440" cy="505080"/>
          </a:xfrm>
          <a:prstGeom prst="downArrow">
            <a:avLst>
              <a:gd name="adj1" fmla="val 50000"/>
              <a:gd name="adj2" fmla="val 29132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32720" y="1268280"/>
            <a:ext cx="431640" cy="505080"/>
          </a:xfrm>
          <a:prstGeom prst="downArrow">
            <a:avLst>
              <a:gd name="adj1" fmla="val 50000"/>
              <a:gd name="adj2" fmla="val 29254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00360" y="3429000"/>
            <a:ext cx="576360" cy="576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56000" y="3429000"/>
            <a:ext cx="647640" cy="647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771640" y="333360"/>
            <a:ext cx="34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象征的运用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1197000"/>
            <a:ext cx="50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Arial"/>
                <a:ea typeface="宋体"/>
              </a:rPr>
              <a:t>※</a:t>
            </a:r>
            <a:r>
              <a:rPr b="1" lang="zh-CN" sz="2800" spc="-1" strike="noStrike">
                <a:solidFill>
                  <a:srgbClr val="663300"/>
                </a:solidFill>
                <a:latin typeface="Arial"/>
                <a:ea typeface="楷体_GB2312"/>
              </a:rPr>
              <a:t>凌霄花、鸟儿、泉源、险峰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4360" y="184464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楷体_GB2312"/>
              </a:rPr>
              <a:t>以作为慰藉、依附的意象出现，象征着传统婚恋观中女性对男性的依附和顺从</a:t>
            </a: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270828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Arial"/>
                <a:ea typeface="楷体_GB2312"/>
              </a:rPr>
              <a:t>※</a:t>
            </a:r>
            <a:r>
              <a:rPr b="1" lang="zh-CN" sz="2800" spc="-1" strike="noStrike">
                <a:solidFill>
                  <a:srgbClr val="663300"/>
                </a:solidFill>
                <a:latin typeface="Arial"/>
                <a:ea typeface="楷体_GB2312"/>
              </a:rPr>
              <a:t>橡树、木棉、铜枝铁干、红硕的花朵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3357720"/>
            <a:ext cx="50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楷体_GB2312"/>
              </a:rPr>
              <a:t>以铜枝铁干的橡树象征男性的阳刚之气，以开满红硕的花朵的木棉象征女性的阴柔之美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0920" y="4724280"/>
            <a:ext cx="57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Arial"/>
                <a:ea typeface="楷体_GB2312"/>
              </a:rPr>
              <a:t>※</a:t>
            </a:r>
            <a:r>
              <a:rPr b="1" lang="zh-CN" sz="2800" spc="-1" strike="noStrike">
                <a:solidFill>
                  <a:srgbClr val="663300"/>
                </a:solidFill>
                <a:latin typeface="Arial"/>
                <a:ea typeface="楷体_GB2312"/>
              </a:rPr>
              <a:t>像沉重的叹息，又像英勇的火炬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5300640"/>
            <a:ext cx="79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楷体_GB2312"/>
              </a:rPr>
              <a:t>象征着女性既表现出脆弱的一面，同样也拥有坚强独立的内心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50920" y="260280"/>
            <a:ext cx="25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  <a:ea typeface="楷体_GB2312"/>
              </a:rPr>
              <a:t>总结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112536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爱情诗的内容，非常容易流于一般。但舒婷的这首诗却抛开了一般爱情诗直抒胸臆，表达或热烈或悲伤的感情的老套，以比喻的手法，表达了自己独特的爱情观。诗歌第一层以一组意象否定了传统婚恋中女性总是依附、顺从于男性而丧失自己的尊严和地位的观念，激昂强烈的感情如大江之水一泻行千里，不可阻挡，仿佛吐尽千年以来积压在女性心中愤恨不平的块垒。表现了诗人对旧观念的反抗。第二层感情趋于平缓，表达了自己理想的爱情是建立在男女平等，互相尊重，互相关怀的基础上，在漫长的岁月中相依相伴，只有这样爱情才能更加具有生命力。而这样的爱情才是作者追求的。舒婷以她的敏感、清醒和深刻喊出了女性对独立人格、健全心智、男女平等的向往和追求。她不被世俗所羁绊，表达了一个成熟的知识女性对理想爱情的憧憬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5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619280" y="1700280"/>
            <a:ext cx="471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16000" y="476280"/>
            <a:ext cx="295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一代人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-973080" y="1557360"/>
            <a:ext cx="6913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黑夜给了我黑色的眼睛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我却用它寻找光明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0" y="620640"/>
            <a:ext cx="4176720" cy="4896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219640" y="573408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作者：顾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12840" y="0"/>
            <a:ext cx="30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朦 胧 诗 人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907920"/>
            <a:ext cx="8497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91203"/>
                </a:solidFill>
                <a:latin typeface="楷体_GB2312"/>
                <a:ea typeface="楷体_GB2312"/>
              </a:rPr>
              <a:t>20</a:t>
            </a:r>
            <a:r>
              <a:rPr b="0" lang="zh-CN" sz="2800" spc="-1" strike="noStrike">
                <a:solidFill>
                  <a:srgbClr val="d91203"/>
                </a:solidFill>
                <a:latin typeface="楷体_GB2312"/>
                <a:ea typeface="楷体_GB2312"/>
              </a:rPr>
              <a:t>世纪</a:t>
            </a:r>
            <a:r>
              <a:rPr b="0" lang="zh-CN" sz="2800" spc="-1" strike="noStrike">
                <a:solidFill>
                  <a:srgbClr val="d91203"/>
                </a:solidFill>
                <a:latin typeface="楷体_GB2312"/>
                <a:ea typeface="楷体_GB2312"/>
              </a:rPr>
              <a:t>80</a:t>
            </a:r>
            <a:r>
              <a:rPr b="0" lang="zh-CN" sz="2800" spc="-1" strike="noStrike">
                <a:solidFill>
                  <a:srgbClr val="d91203"/>
                </a:solidFill>
                <a:latin typeface="楷体_GB2312"/>
                <a:ea typeface="楷体_GB2312"/>
              </a:rPr>
              <a:t>年代以后</a:t>
            </a:r>
            <a:r>
              <a:rPr b="0" lang="zh-CN" sz="2800" spc="-1" strike="noStrike">
                <a:solidFill>
                  <a:srgbClr val="d91203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d91203"/>
                </a:solidFill>
                <a:latin typeface="楷体_GB2312"/>
                <a:ea typeface="楷体_GB2312"/>
              </a:rPr>
              <a:t>中国诗坛上出现了一个新的诗歌流派，打破了现实主义诗歌一统天下的局面，给文坛带来了新的气息，它就是“朦胧诗”。其带有鲜明的“异类”色彩和新的美学原则，向诗坛发起了强烈的冲击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91203"/>
                </a:solidFill>
                <a:latin typeface="楷体_GB2312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d91203"/>
                </a:solidFill>
                <a:latin typeface="楷体_GB2312"/>
                <a:ea typeface="楷体_GB2312"/>
              </a:rPr>
              <a:t>朦胧诗”在诗歌内涵上追求自我价值，以现代意识思考人的本质，在当时特定历史背景下往往具有批判意识和忧患意识，表现出冷色调。注重主题的创造和个人内心情感的抒发，表现自我意识的闪念和幻觉，诗歌意象往往带有多义性和不确定性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91203"/>
                </a:solidFill>
                <a:latin typeface="楷体_GB2312"/>
                <a:ea typeface="楷体_GB2312"/>
              </a:rPr>
              <a:t>代表诗人：</a:t>
            </a:r>
            <a:r>
              <a:rPr b="0" lang="zh-CN" sz="2800" spc="-1" strike="noStrike" u="sng">
                <a:solidFill>
                  <a:srgbClr val="d91203"/>
                </a:solidFill>
                <a:uFillTx/>
                <a:latin typeface="楷体_GB2312"/>
                <a:ea typeface="楷体_GB2312"/>
              </a:rPr>
              <a:t>舒婷、北岛和顾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1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50920" y="692280"/>
            <a:ext cx="504036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0066"/>
                </a:solidFill>
                <a:uFillTx/>
                <a:latin typeface="楷体_GB2312"/>
                <a:ea typeface="楷体_GB2312"/>
                <a:hlinkClick r:id="rId2" action="ppaction://hlinksldjump"/>
              </a:rPr>
              <a:t>舒婷：</a:t>
            </a:r>
            <a:r>
              <a:rPr b="1" lang="zh-CN" sz="2800" spc="-1" strike="noStrike">
                <a:solidFill>
                  <a:srgbClr val="007572"/>
                </a:solidFill>
                <a:latin typeface="楷体_GB2312"/>
                <a:ea typeface="楷体_GB2312"/>
              </a:rPr>
              <a:t>当代著名女诗人，原名龚佩瑜。</a:t>
            </a:r>
            <a:r>
              <a:rPr b="1" lang="zh-CN" sz="2800" spc="-1" strike="noStrike">
                <a:solidFill>
                  <a:srgbClr val="007572"/>
                </a:solidFill>
                <a:latin typeface="楷体_GB2312"/>
                <a:ea typeface="楷体_GB2312"/>
              </a:rPr>
              <a:t>1952</a:t>
            </a:r>
            <a:r>
              <a:rPr b="1" lang="zh-CN" sz="2800" spc="-1" strike="noStrike">
                <a:solidFill>
                  <a:srgbClr val="007572"/>
                </a:solidFill>
                <a:latin typeface="楷体_GB2312"/>
                <a:ea typeface="楷体_GB2312"/>
              </a:rPr>
              <a:t>年生于福建，初中未毕业便下乡插队，回城后做过多种临时工。</a:t>
            </a:r>
            <a:r>
              <a:rPr b="1" lang="zh-CN" sz="2800" spc="-1" strike="noStrike">
                <a:solidFill>
                  <a:srgbClr val="007572"/>
                </a:solidFill>
                <a:latin typeface="楷体_GB2312"/>
                <a:ea typeface="楷体_GB2312"/>
              </a:rPr>
              <a:t>1969</a:t>
            </a:r>
            <a:r>
              <a:rPr b="1" lang="zh-CN" sz="2800" spc="-1" strike="noStrike">
                <a:solidFill>
                  <a:srgbClr val="007572"/>
                </a:solidFill>
                <a:latin typeface="楷体_GB2312"/>
                <a:ea typeface="楷体_GB2312"/>
              </a:rPr>
              <a:t>年开始写作，</a:t>
            </a:r>
            <a:r>
              <a:rPr b="1" lang="zh-CN" sz="2800" spc="-1" strike="noStrike">
                <a:solidFill>
                  <a:srgbClr val="007572"/>
                </a:solidFill>
                <a:latin typeface="楷体_GB2312"/>
                <a:ea typeface="楷体_GB2312"/>
              </a:rPr>
              <a:t>1979</a:t>
            </a:r>
            <a:r>
              <a:rPr b="1" lang="zh-CN" sz="2800" spc="-1" strike="noStrike">
                <a:solidFill>
                  <a:srgbClr val="007572"/>
                </a:solidFill>
                <a:latin typeface="楷体_GB2312"/>
                <a:ea typeface="楷体_GB2312"/>
              </a:rPr>
              <a:t>年开始在民间刊物《今天》发表诗作。其诗歌构思独特，情调婉约，复活了中国新诗中表达个人内心情感的那一线索，拓展了崭新的审美视野，具有较高的艺术水平。代表诗作有《致橡树》《双桅船》《会唱歌的鸢尾花》等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5219640" y="836640"/>
            <a:ext cx="37134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187280" y="1773360"/>
            <a:ext cx="6769440" cy="45370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556000" y="765000"/>
            <a:ext cx="48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舒  婷  近  影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80360" y="476280"/>
            <a:ext cx="936720" cy="504720"/>
          </a:xfrm>
          <a:custGeom>
            <a:avLst/>
            <a:gdLst>
              <a:gd name="textAreaLeft" fmla="*/ 32400 w 936720"/>
              <a:gd name="textAreaRight" fmla="*/ 904320 w 936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0075" h="21600">
                <a:moveTo>
                  <a:pt x="0" y="0"/>
                </a:moveTo>
                <a:lnTo>
                  <a:pt x="40075" y="0"/>
                </a:lnTo>
                <a:lnTo>
                  <a:pt x="40075" y="21600"/>
                </a:lnTo>
                <a:lnTo>
                  <a:pt x="0" y="21600"/>
                </a:lnTo>
                <a:close/>
              </a:path>
              <a:path fill="lightenLess" w="40075" h="21600">
                <a:moveTo>
                  <a:pt x="0" y="0"/>
                </a:moveTo>
                <a:lnTo>
                  <a:pt x="40075" y="0"/>
                </a:lnTo>
                <a:lnTo>
                  <a:pt x="38675" y="1400"/>
                </a:lnTo>
                <a:lnTo>
                  <a:pt x="1400" y="1400"/>
                </a:lnTo>
                <a:close/>
              </a:path>
              <a:path fill="darken" w="40075" h="21600">
                <a:moveTo>
                  <a:pt x="40075" y="0"/>
                </a:moveTo>
                <a:lnTo>
                  <a:pt x="40075" y="21600"/>
                </a:lnTo>
                <a:lnTo>
                  <a:pt x="38675" y="20200"/>
                </a:lnTo>
                <a:lnTo>
                  <a:pt x="38675" y="1400"/>
                </a:lnTo>
                <a:close/>
              </a:path>
              <a:path fill="darkenLess" w="40075" h="21600">
                <a:moveTo>
                  <a:pt x="40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75" y="20200"/>
                </a:lnTo>
                <a:close/>
              </a:path>
              <a:path fill="lighten" w="40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075" h="21600">
                <a:moveTo>
                  <a:pt x="13031" y="7301"/>
                </a:moveTo>
                <a:lnTo>
                  <a:pt x="13945" y="7301"/>
                </a:lnTo>
                <a:lnTo>
                  <a:pt x="14328" y="7667"/>
                </a:lnTo>
                <a:lnTo>
                  <a:pt x="23536" y="7667"/>
                </a:lnTo>
                <a:lnTo>
                  <a:pt x="24093" y="8224"/>
                </a:lnTo>
                <a:lnTo>
                  <a:pt x="24093" y="8772"/>
                </a:lnTo>
                <a:lnTo>
                  <a:pt x="25938" y="8772"/>
                </a:lnTo>
                <a:lnTo>
                  <a:pt x="26304" y="8224"/>
                </a:lnTo>
                <a:lnTo>
                  <a:pt x="27044" y="8224"/>
                </a:lnTo>
                <a:lnTo>
                  <a:pt x="27044" y="13376"/>
                </a:lnTo>
                <a:lnTo>
                  <a:pt x="26304" y="13376"/>
                </a:lnTo>
                <a:lnTo>
                  <a:pt x="25938" y="12828"/>
                </a:lnTo>
                <a:lnTo>
                  <a:pt x="24093" y="12828"/>
                </a:lnTo>
                <a:lnTo>
                  <a:pt x="24093" y="14107"/>
                </a:lnTo>
                <a:lnTo>
                  <a:pt x="14510" y="14107"/>
                </a:lnTo>
                <a:lnTo>
                  <a:pt x="14510" y="9877"/>
                </a:lnTo>
                <a:lnTo>
                  <a:pt x="14328" y="9877"/>
                </a:lnTo>
                <a:lnTo>
                  <a:pt x="13945" y="10243"/>
                </a:lnTo>
                <a:lnTo>
                  <a:pt x="13031" y="10243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思考题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这首诗歌可以分为几层 ？概括各层大意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以“不，这些都还不够 ”为分界线分为前后两层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第一层：宣告了自己不愿意为男性的附庸，表达了对世俗的爱情观的否定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第二层：表达了诗人新型的现代爱情价值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思考题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第一层诗人用了哪些意象来表情达意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凌霄花”、“痴情的鸟儿” 、“泉源”、“险峰”、“日光”、“春雨”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这些意象有哪些特点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均表现出依附橡树或无偿付出自己的特点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诗人通过哪些词语来表明自己对上述意象的态度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不像” “不学” “不止”，表现了诗人对旧观念旧伦理的强烈否定和坚决反叛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思考题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诗中的“橡树”有何深刻的含义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橡树——铜枝铁干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男性的阳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3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8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思考题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547200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诗中的 “木棉”有何深刻的含义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木棉——红硕的花朵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   ——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女性的阴柔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876920" y="2060640"/>
            <a:ext cx="426708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思考题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中有几组对偶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请在文中找出来并思考这些句子表现了诗人怎样的爱情观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根，紧握在地下；叶，相触在云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们分担寒潮、风雷、霹雳；我们共享雾霭、流岚、虹霓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仿佛永远分离，却有终身相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相知相依相恋、相互平等独立的基础上，共建新型的爱情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3T03:04:29Z</dcterms:created>
  <dc:creator>xhbox</dc:creator>
  <dc:description/>
  <dc:language>en-US</dc:language>
  <cp:lastModifiedBy>微软用户</cp:lastModifiedBy>
  <dcterms:modified xsi:type="dcterms:W3CDTF">2010-05-26T03:00:21Z</dcterms:modified>
  <cp:revision>52</cp:revision>
  <dc:subject/>
  <dc:title>幻灯片 1</dc:title>
</cp:coreProperties>
</file>