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F5E-507A-47C6-92D7-6A6DE2D2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9DCF-24F4-4376-900C-54D029CA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F8AA-AEA1-47C1-827D-01D3A375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2C70-E6A3-428D-878E-45ABDAED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BA4A-E846-4603-91A7-C7E9022C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7504-409C-429D-8A6F-9C037705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FDFF-1411-41CE-99FB-67D49E8A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0741-8D2E-47DD-8BE6-6030A43E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4A15-228D-4FCB-B229-CE502988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75D6-F6F8-446E-B84D-FF6ABF3A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5499-CCE4-47F3-9249-95F71AC0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7509-29AF-4BDC-BC1D-AE8F82CC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F933-4DDD-4EC6-9F80-75590795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5504-E92E-4DB5-8FF9-49B1B993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7660-8B2B-41E7-9B5E-3E582990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0D93-B6CD-4FD4-96FD-0D7BDA06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52F7-D870-445B-8E2C-2E3857CD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AA9-24B6-4375-B7EE-C506F27E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4E8-5A2F-4FF5-B8AE-89AD2BD2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9729-9AA6-47E4-8003-D3B81F43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F2C-8C5B-44FD-8EEB-2878A1B1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84EF-D610-477A-A20F-B426B38B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4947-90CE-454F-B2B3-E9F98601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EC3-D039-4B71-AFAF-1F42F331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EAAA-9D72-4B8C-B0E5-9F6F7455E335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C9B4-9534-4A75-97C8-A0E95CAD055A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623952051&amp;tn=baiduimagedetail&amp;word=&#39038;&#22478;&amp;in=1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685560" y="620640"/>
            <a:ext cx="2009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致  橡  树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560" y="4724280"/>
            <a:ext cx="1521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舒  婷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2692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009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692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否  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844640"/>
            <a:ext cx="1439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凌霄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鸟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泉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险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日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春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2133720"/>
            <a:ext cx="215640" cy="3240000"/>
          </a:xfrm>
          <a:custGeom>
            <a:avLst/>
            <a:gdLst>
              <a:gd name="textAreaLeft" fmla="*/ 0 w 215640"/>
              <a:gd name="textAreaRight" fmla="*/ 77760 w 21564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299736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84880" y="1484280"/>
            <a:ext cx="1682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必须是你近旁的一株木棉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作为树的形象和你站在一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00720" y="692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肯  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24360" y="184464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根，紧握在地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叶，相触在云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3141720"/>
            <a:ext cx="392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担寒潮、风雷、霹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共享雾霭、流岚、虹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4437000"/>
            <a:ext cx="252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仿佛永远分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却又终身相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1480" y="1989000"/>
            <a:ext cx="91188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体现慰藉与依附的意象群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2133720"/>
            <a:ext cx="216000" cy="32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620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观点提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268280"/>
            <a:ext cx="433440" cy="505080"/>
          </a:xfrm>
          <a:prstGeom prst="downArrow">
            <a:avLst>
              <a:gd name="adj1" fmla="val 50000"/>
              <a:gd name="adj2" fmla="val 2913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2720" y="1268280"/>
            <a:ext cx="431640" cy="505080"/>
          </a:xfrm>
          <a:prstGeom prst="downArrow">
            <a:avLst>
              <a:gd name="adj1" fmla="val 50000"/>
              <a:gd name="adj2" fmla="val 29254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3429000"/>
            <a:ext cx="576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342900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71640" y="33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象征的运用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19700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宋体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凌霄花、鸟儿、泉源、险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1844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以作为慰藉、依附的意象出现，象征着传统婚恋观中女性对男性的依附和顺从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708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橡树、木棉、铜枝铁干、红硕的花朵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35772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以铜枝铁干的橡树象征男性的阳刚之气，以开满红硕的花朵的木棉象征女性的阴柔之美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472428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像沉重的叹息，又像英勇的火炬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象征着女性既表现出脆弱的一面，同样也拥有坚强独立的内心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26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总结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125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爱情诗的内容，非常容易流于一般。但舒婷的这首诗却抛开了一般爱情诗直抒胸臆，表达或热烈或悲伤的感情的老套，以比喻的手法，表达了自己独特的爱情观。诗歌第一层以一组意象否定了传统婚恋中女性总是依附、顺从于男性而丧失自己的尊严和地位的观念，激昂强烈的感情如大江之水一泻行千里，不可阻挡，仿佛吐尽千年以来积压在女性心中愤恨不平的块垒。表现了诗人对旧观念的反抗。第二层感情趋于平缓，表达了自己理想的爱情是建立在男女平等，互相尊重，互相关怀的基础上，在漫长的岁月中相依相伴，只有这样爱情才能更加具有生命力。而这样的爱情才是作者追求的。舒婷以她的敏感、清醒和深刻喊出了女性对独立人格、健全心智、男女平等的向往和追求。她不被世俗所羁绊，表达了一个成熟的知识女性对理想爱情的憧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19280" y="1700280"/>
            <a:ext cx="47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47628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代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973080" y="1557360"/>
            <a:ext cx="691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黑夜给了我黑色的眼睛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却用它寻找光明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620640"/>
            <a:ext cx="4176720" cy="489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19640" y="57340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者：顾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12840" y="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朦 胧 诗 人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90792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20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世纪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80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年代以后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中国诗坛上出现了一个新的诗歌流派，打破了现实主义诗歌一统天下的局面，给文坛带来了新的气息，它就是“朦胧诗”。其带有鲜明的“异类”色彩和新的美学原则，向诗坛发起了强烈的冲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朦胧诗”在诗歌内涵上追求自我价值，以现代意识思考人的本质，在当时特定历史背景下往往具有批判意识和忧患意识，表现出冷色调。注重主题的创造和个人内心情感的抒发，表现自我意识的闪念和幻觉，诗歌意象往往带有多义性和不确定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代表诗人：</a:t>
            </a:r>
            <a:r>
              <a:rPr b="0" lang="zh-CN" sz="2800" spc="-1" strike="noStrike" u="sng">
                <a:solidFill>
                  <a:srgbClr val="d91203"/>
                </a:solidFill>
                <a:uFillTx/>
                <a:latin typeface="楷体_GB2312"/>
                <a:ea typeface="楷体_GB2312"/>
              </a:rPr>
              <a:t>舒婷、北岛和顾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692280"/>
            <a:ext cx="504036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舒婷：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当代著名女诗人，原名龚佩瑜。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52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生于福建，初中未毕业便下乡插队，回城后做过多种临时工。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69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开始写作，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79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开始在民间刊物《今天》发表诗作。其诗歌构思独特，情调婉约，复活了中国新诗中表达个人内心情感的那一线索，拓展了崭新的审美视野，具有较高的艺术水平。代表诗作有《致橡树》《双桅船》《会唱歌的鸢尾花》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19640" y="836640"/>
            <a:ext cx="3713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7280" y="1773360"/>
            <a:ext cx="6769440" cy="453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56000" y="76500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舒  婷  近  影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80360" y="476280"/>
            <a:ext cx="936720" cy="50472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75" h="21600">
                <a:moveTo>
                  <a:pt x="0" y="0"/>
                </a:moveTo>
                <a:lnTo>
                  <a:pt x="40075" y="0"/>
                </a:lnTo>
                <a:lnTo>
                  <a:pt x="40075" y="21600"/>
                </a:lnTo>
                <a:lnTo>
                  <a:pt x="0" y="21600"/>
                </a:lnTo>
                <a:close/>
              </a:path>
              <a:path fill="lightenLess" w="40075" h="21600">
                <a:moveTo>
                  <a:pt x="0" y="0"/>
                </a:moveTo>
                <a:lnTo>
                  <a:pt x="40075" y="0"/>
                </a:lnTo>
                <a:lnTo>
                  <a:pt x="38675" y="1400"/>
                </a:lnTo>
                <a:lnTo>
                  <a:pt x="1400" y="1400"/>
                </a:lnTo>
                <a:close/>
              </a:path>
              <a:path fill="darken" w="40075" h="21600">
                <a:moveTo>
                  <a:pt x="40075" y="0"/>
                </a:moveTo>
                <a:lnTo>
                  <a:pt x="40075" y="21600"/>
                </a:lnTo>
                <a:lnTo>
                  <a:pt x="38675" y="20200"/>
                </a:lnTo>
                <a:lnTo>
                  <a:pt x="38675" y="1400"/>
                </a:lnTo>
                <a:close/>
              </a:path>
              <a:path fill="darkenLess" w="40075" h="21600">
                <a:moveTo>
                  <a:pt x="40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75" y="20200"/>
                </a:lnTo>
                <a:close/>
              </a:path>
              <a:path fill="lighten" w="40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75" h="21600">
                <a:moveTo>
                  <a:pt x="13031" y="7301"/>
                </a:moveTo>
                <a:lnTo>
                  <a:pt x="13945" y="7301"/>
                </a:lnTo>
                <a:lnTo>
                  <a:pt x="14328" y="7667"/>
                </a:lnTo>
                <a:lnTo>
                  <a:pt x="23536" y="7667"/>
                </a:lnTo>
                <a:lnTo>
                  <a:pt x="24093" y="8224"/>
                </a:lnTo>
                <a:lnTo>
                  <a:pt x="24093" y="8772"/>
                </a:lnTo>
                <a:lnTo>
                  <a:pt x="25938" y="8772"/>
                </a:lnTo>
                <a:lnTo>
                  <a:pt x="26304" y="8224"/>
                </a:lnTo>
                <a:lnTo>
                  <a:pt x="27044" y="8224"/>
                </a:lnTo>
                <a:lnTo>
                  <a:pt x="27044" y="13376"/>
                </a:lnTo>
                <a:lnTo>
                  <a:pt x="26304" y="13376"/>
                </a:lnTo>
                <a:lnTo>
                  <a:pt x="25938" y="12828"/>
                </a:lnTo>
                <a:lnTo>
                  <a:pt x="24093" y="12828"/>
                </a:lnTo>
                <a:lnTo>
                  <a:pt x="24093" y="14107"/>
                </a:lnTo>
                <a:lnTo>
                  <a:pt x="14510" y="14107"/>
                </a:lnTo>
                <a:lnTo>
                  <a:pt x="14510" y="9877"/>
                </a:lnTo>
                <a:lnTo>
                  <a:pt x="14328" y="9877"/>
                </a:lnTo>
                <a:lnTo>
                  <a:pt x="13945" y="10243"/>
                </a:lnTo>
                <a:lnTo>
                  <a:pt x="13031" y="10243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这首诗歌可以分为几层 ？概括各层大意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以“不，这些都还不够 ”为分界线分为前后两层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一层：宣告了自己不愿意为男性的附庸，表达了对世俗的爱情观的否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二层：表达了诗人新型的现代爱情价值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第一层诗人用了哪些意象来表情达意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凌霄花”、“痴情的鸟儿” 、“泉源”、“险峰”、“日光”、“春雨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这些意象有哪些特点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均表现出依附橡树或无偿付出自己的特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诗人通过哪些词语来表明自己对上述意象的态度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不像” “不学” “不止”，表现了诗人对旧观念旧伦理的强烈否定和坚决反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中的“橡树”有何深刻的含义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橡树——铜枝铁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性的阳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54720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中的 “木棉”有何深刻的含义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木棉——红硕的花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——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女性的阴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76920" y="2060640"/>
            <a:ext cx="42670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中有几组对偶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在文中找出来并思考这些句子表现了诗人怎样的爱情观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，紧握在地下；叶，相触在云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分担寒潮、风雷、霹雳；我们共享雾霭、流岚、虹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仿佛永远分离，却有终身相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相知相依相恋、相互平等独立的基础上，共建新型的爱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3:04:29Z</dcterms:created>
  <dc:creator>xhbox</dc:creator>
  <dc:description/>
  <dc:language>en-US</dc:language>
  <cp:lastModifiedBy>微软用户</cp:lastModifiedBy>
  <dcterms:modified xsi:type="dcterms:W3CDTF">2010-05-26T03:00:21Z</dcterms:modified>
  <cp:revision>52</cp:revision>
  <dc:subject/>
  <dc:title>幻灯片 1</dc:title>
</cp:coreProperties>
</file>