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3.gif" ContentType="image/gif"/>
  <Override PartName="/ppt/media/image8.jpeg" ContentType="image/jpeg"/>
  <Override PartName="/ppt/media/image5.png" ContentType="image/png"/>
  <Override PartName="/ppt/media/image29.jpeg" ContentType="image/jpeg"/>
  <Override PartName="/ppt/media/image28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19.jpeg" ContentType="image/jpeg"/>
  <Override PartName="/ppt/media/image25.gif" ContentType="image/gif"/>
  <Override PartName="/ppt/media/image6.jpeg" ContentType="image/jpeg"/>
  <Override PartName="/ppt/media/chimes.wav" ContentType="audio/x-wav"/>
  <Override PartName="/ppt/media/image23.gif" ContentType="image/gif"/>
  <Override PartName="/ppt/media/image16.png" ContentType="image/png"/>
  <Override PartName="/ppt/media/image30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2.gif" ContentType="image/gif"/>
  <Override PartName="/ppt/media/image10.png" ContentType="image/png"/>
  <Override PartName="/ppt/media/image1.jpeg" ContentType="image/jpeg"/>
  <Override PartName="/ppt/media/image13.jpeg" ContentType="image/jpeg"/>
  <Override PartName="/ppt/media/image18.gif" ContentType="image/gif"/>
  <Override PartName="/ppt/media/image14.jpeg" ContentType="image/jpeg"/>
  <Override PartName="/ppt/media/image15.jpeg" ContentType="image/jpeg"/>
  <Override PartName="/ppt/media/image27.jpeg" ContentType="image/jpeg"/>
  <Override PartName="/ppt/media/image17.gif" ContentType="image/gif"/>
  <Override PartName="/ppt/media/image26.gif" ContentType="image/gif"/>
  <Override PartName="/ppt/media/image20.jpeg" ContentType="image/jpeg"/>
  <Override PartName="/ppt/media/image21.gif" ContentType="image/gi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C74A-1DA2-4C54-96E8-9768E1D8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3E9-DA82-40FD-833F-61D5AD9C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2E00B-FC1C-4358-B275-D6024B38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979B2-43F4-4C4D-9CBF-1CBE35B9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F32EC-9DC1-47D5-9F6C-29B4F7C1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D85F0-00E2-43CA-8AD8-763D05C0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14798-6369-4F58-9C8B-46405306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1AD41-12D0-4249-9346-BCF60D35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F599D-6F82-48D3-8DD7-0CAFB2A2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EFAD9-F0C8-4743-98DF-340371CC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E2D17-B877-48AF-97CF-E3D6D3A9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F1C802-CAFF-447D-8821-BD39395B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0DC7-0A3C-444E-A240-37935B37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7C398E-253F-4816-901C-08096F0B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6B2A01-CF7E-41A3-B533-20C1A086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113415-CC98-47F4-A103-23A5513A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729BC1-1020-4F45-B565-609CE524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99B394-EE4A-4B34-8383-F8ED3656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B61EBB-B821-43B9-9E53-B3679B92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4EC832-032B-41B3-B36D-063E7423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DE8488-D0A0-4906-9A11-6FC1B1E4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307660-7646-4B82-B123-F25D966A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4B6CCC-B892-4C3B-9371-5661F3F0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ED06-CA65-4251-8E14-18226379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737D23-E800-4D10-878D-CFB3EC5C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494E-78C3-42E8-A32D-52128A0E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5E42-7591-488A-9973-00C98FBD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A372-C97A-41F9-BB85-AE13D76C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9C1D-EFA7-4B3B-8506-8506D6BC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167F-6D4C-47F2-8D03-91C47469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802F-F117-48A5-92A5-D0FFFDAB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C691-5759-454E-81E1-2FE0DA8D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BEFC-1D70-4510-AEEA-06F9B3BF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7AE0-80AC-4421-8395-6C7CBF9E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3C47-CE9F-4EA7-9D7C-8B1869A0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971A-124F-4403-8692-EA718DD3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F7A1-B857-4A1E-A08C-709DB118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F3AB-683D-462E-AE39-8F1291B5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E616F-9D8F-4B40-B179-DD68558F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38E6A-F2CB-4280-9D62-0A20A6F7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5D5D8-0A89-4E96-A46E-239C8281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BA226-573E-4488-BEBA-99779542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EC0B1-C1CB-4FDD-A6A6-71B17238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BCA3-9320-4DB0-A4F3-88D845F0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C744B-2E5F-46A6-A35D-7FFBD389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DB6A3-7C9C-4680-921D-FDE934B0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F6004-46BC-4855-81FB-787F5A20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0382E-47C6-4DA2-B776-CBA756F9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D7A17-1163-46E8-89F3-0968EC07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2ECA4-66B9-48DE-9143-3C217792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4AB40-F742-4DD3-9944-62AAA21F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C6452-6A00-46BE-9BCA-4C08D2A6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0E2E3-2CDF-42CC-A0C1-15BC2669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DA66F-06F8-4B11-B960-D9113CB9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8059-7494-41B5-A351-88B1D1DC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6C726-6F57-46EB-B2B8-E3C42AD8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638B5-D06D-4252-B078-21836360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31BFF-9DCE-4C9E-9FBD-3AEF864D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25116-A5FC-4963-84E2-A3C47B4C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93E2A-243D-4D1D-AA3A-1B5D4AC2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3F9CA-78E6-44D9-93B8-53DD2F10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B9979-D069-4EDB-9746-809CFDBB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166B4-48B7-4101-A661-11F1D815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F53B2-B9D9-4EEA-81B2-A6C7A57F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4D81B-F209-4FFE-A9C7-87AB5312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4CCC-BD52-448C-B1F1-6B0D05EF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74219-72FB-4A95-9482-720D1113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92408-C7D0-4D65-95E6-B69C94BC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7EC5C-E654-431F-B889-0F06C813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2D7D9-3E34-4EEB-982C-A9DDD73A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2F6A1-3249-4ECD-99E7-AE73C2A9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09723-C472-448C-A689-A088D59B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B0C82-6352-42D1-9E52-1D8FDAA8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28D06-DA84-4388-B9C1-F9550932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56CE3-ADDC-4832-B721-021E269E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60681-F640-4B59-92E1-CABA677D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348-BF26-4D09-A94F-AC1E2907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01D4E-21D0-46E8-85AB-3BF0486D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236C3-9AD2-488B-A81D-FCDFD433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08A65-58A1-4191-B48C-59EEE803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A85BB-D5B4-4851-A4DE-228481E3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DD876-63F0-4000-B281-BDC3D281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3E55B-5CC7-452E-B713-7817F880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CADDB-1242-46CF-977B-7F455B72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AD9C3-7799-44A2-A14C-75033649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DD70E-91F4-4F28-ACCE-15D384F6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BD64D-032A-425A-9DA7-06F170B4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714B-30D1-485A-B3FB-53E9E5AC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AF126-E0BC-4063-9EEC-6DEDECA5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00A78-9D62-48E1-A3F5-1C4702F0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28384-7C1F-4D3C-A8D0-75C978D4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57317-6B85-4265-85E2-614D9A22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E2FF8-7459-4610-B624-4603F5A9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95A72-E3BB-49EA-95F9-4F8A6DF1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08033-00C9-4B07-8B8D-2C02993A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E1DFE-2399-4B29-B1F2-17265039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AA174-FC13-4AFF-B5D1-DD16564D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19ABD-0289-4DD9-BE57-6F7AE2B4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943D-B115-4278-AB9E-34F3606A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3DC99-648F-4678-BC2B-B54A133B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9B814-C23E-4DC1-86F4-EC969728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DCD74-449D-4EE9-A11F-A69AE787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B8E8D-9D23-4572-A87E-033FB2E2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41C7C-B4C8-4C8E-923B-18A5F795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69CE8-77ED-4A49-AA01-D2FDA1B6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C82D3-4F9F-4673-8690-CAF49E52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6EF82-C3FF-4E1F-BE6C-9FF21CFD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FE48F-3B8F-4790-848F-D2432CDD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176D9-CAEE-48AF-9C37-2DA19A30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9A37-99A7-457F-A029-951DB7AD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18510-BFDD-4445-989E-6A131470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049DC-B2AB-48B5-8807-A15A9359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C1C92-96CB-4CA5-9A4F-8D0F574D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D7E05-DC3E-40D7-8BA6-6E0E0747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9FB76-216D-4B26-8004-3BA1BB32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2E95E-FEE3-4B18-960E-F3F349DE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94289-D6E2-49BE-8D17-B123228F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555D0-4C49-4A03-8120-F909D9D1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80DA0-72A4-42F1-A86A-341C3532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89D38-553B-45AC-9E54-3CCC6CEE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D70F-8AA7-4618-A4EB-EF0056584193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F2F9-21AB-461A-BD7A-80766D76CF3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CEF6-2D5E-4DFC-A6CF-B7444ECC64C9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67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8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7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9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1CEA-03BB-4815-B00B-F7E9EE5FB52C}" type="slidenum"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265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275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5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60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2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473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479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5D0B-92D2-4E75-9890-7F4C18A2C57C}" type="slidenum"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4429080" y="3352680"/>
            <a:ext cx="324000" cy="3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F1E3-AF22-4DCC-962A-DFC2B8FDAB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8DF5-2DAD-453C-8672-A72E861950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B9D4-0BF1-45B1-A3AB-BB9B670EF3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8FBD-59F0-45C2-A49F-3887059511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7274-2296-457B-B0E1-5EF2695691C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7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35.xml"/><Relationship Id="rId7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4479840" y="3048120"/>
            <a:ext cx="2530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136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1371600" y="1752480"/>
            <a:ext cx="6934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义务教育课程标准实验教科书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600200" y="373392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2743200" y="2438280"/>
            <a:ext cx="331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语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97" name=""/>
          <p:cNvSpPr/>
          <p:nvPr/>
        </p:nvSpPr>
        <p:spPr>
          <a:xfrm>
            <a:off x="2895480" y="3733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七年级下册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700360" y="486900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制作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35880" cy="66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、第一段写了件什么事？体现了包拯的什么性格？在写法上有何特点？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Verdana"/>
              </a:rPr>
              <a:t>   </a:t>
            </a:r>
            <a:r>
              <a:rPr b="1" lang="zh-CN" sz="3600" spc="-1" strike="noStrike">
                <a:solidFill>
                  <a:srgbClr val="00cc00"/>
                </a:solidFill>
                <a:latin typeface="方正姚体"/>
                <a:ea typeface="方正姚体"/>
              </a:rPr>
              <a:t>任知县时破获的一起割他人牛舌案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方正姚体"/>
                <a:ea typeface="方正姚体"/>
              </a:rPr>
              <a:t>   </a:t>
            </a:r>
            <a:r>
              <a:rPr b="1" lang="zh-CN" sz="3600" spc="-1" strike="noStrike">
                <a:solidFill>
                  <a:srgbClr val="00cc00"/>
                </a:solidFill>
                <a:latin typeface="方正姚体"/>
                <a:ea typeface="方正姚体"/>
              </a:rPr>
              <a:t>聪明机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方正姚体"/>
                <a:ea typeface="方正姚体"/>
              </a:rPr>
              <a:t>   </a:t>
            </a:r>
            <a:r>
              <a:rPr b="1" lang="zh-CN" sz="3600" spc="-1" strike="noStrike">
                <a:solidFill>
                  <a:srgbClr val="00cc00"/>
                </a:solidFill>
                <a:latin typeface="方正姚体"/>
                <a:ea typeface="方正姚体"/>
              </a:rPr>
              <a:t>语言简洁，运用语言描写体现人物性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、语言描写写出了他办事的什么特点？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Verdana"/>
              </a:rPr>
              <a:t>   </a:t>
            </a: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第一句：表现出包拯成竹在胸；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第二句：写他看穿盗贼伎俩，并先发制人，使其惊恐万分，顺利破案</a:t>
            </a:r>
            <a:r>
              <a:rPr b="1" lang="zh-CN" sz="2400" spc="-1" strike="noStrike">
                <a:solidFill>
                  <a:srgbClr val="00cc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Verdana"/>
                <a:ea typeface="方正姚体"/>
              </a:rPr>
              <a:t>古判断句的形式，翻译时加判断词“是”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包拯字希仁，是庐州合肥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今安徽合肥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人。……当天长县知县。有个盗贼割了别人家耕牛的舌头，牛主人来到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县衙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告状。包拯说：“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你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只管回家去，杀了牛卖了它。”不久又有一人来到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县衙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告别人私自宰杀耕牛，包拯说：“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你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为什么割了别人家耕牛的舌头，又来告他的状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这个盗贼感到很震惊，也很服气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31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徙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知端州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迁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殿中丞。端土产砚，前守缘贡率取数十倍以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遗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权贵。拯命制者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才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足贡数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岁满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不持一砚归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-324000" y="1916280"/>
            <a:ext cx="2087640" cy="431640"/>
          </a:xfrm>
          <a:prstGeom prst="wedgeRoundRectCallout">
            <a:avLst>
              <a:gd name="adj1" fmla="val 1101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调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516720" y="1989000"/>
            <a:ext cx="1081080" cy="432000"/>
          </a:xfrm>
          <a:prstGeom prst="wedgeRoundRectCallout">
            <a:avLst>
              <a:gd name="adj1" fmla="val 48680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趁着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300720" y="404640"/>
            <a:ext cx="1081080" cy="432000"/>
          </a:xfrm>
          <a:prstGeom prst="wedgeRoundRectCallout">
            <a:avLst>
              <a:gd name="adj1" fmla="val 149263"/>
              <a:gd name="adj2" fmla="val 1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大都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556000" y="3357720"/>
            <a:ext cx="1081080" cy="431640"/>
          </a:xfrm>
          <a:prstGeom prst="wedgeRoundRectCallout">
            <a:avLst>
              <a:gd name="adj1" fmla="val -63800"/>
              <a:gd name="adj2" fmla="val -145953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赠送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435640" y="3573360"/>
            <a:ext cx="2233440" cy="432000"/>
          </a:xfrm>
          <a:prstGeom prst="wedgeRoundRectCallout">
            <a:avLst>
              <a:gd name="adj1" fmla="val 49361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当政满一年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708360" y="4005360"/>
            <a:ext cx="1513080" cy="360360"/>
          </a:xfrm>
          <a:prstGeom prst="wedgeRoundRectCallout">
            <a:avLst>
              <a:gd name="adj1" fmla="val 63115"/>
              <a:gd name="adj2" fmla="val -360574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仅仅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包拯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转到端州当知府，升为殿中丞。端州出产砚台，此前的知府趁着进贡大都敛取是贡数几十倍的砚台，来赠送给当朝权贵。包拯命令制造的砚台仅仅满足贡数，当政满一年没拿一方砚台回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/>
          </p:nvPr>
        </p:nvSpPr>
        <p:spPr>
          <a:xfrm>
            <a:off x="755280" y="260280"/>
            <a:ext cx="7993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、第二段写了件什么事？和第一段比较，本段有何特点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写他在端州任职期间严格控制上贡端砚的数量，并没有接受一方砚台的馈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写得比较概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、包拯为官廉洁表现在哪两个方面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他坚决、有效地堵死了官吏用来趋炎附势的源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、“从我做起”“岁满不持一砚归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90000"/>
              </a:lnSpc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使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契丹，契丹令典客谓拯曰：“雄州新开便门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乃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欲诱我叛人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刺疆事耶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拯曰：“涿州亦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尝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开门矣，刺疆事何必开便门哉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其人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遂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无以对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50920" y="2060640"/>
            <a:ext cx="1944720" cy="431640"/>
          </a:xfrm>
          <a:prstGeom prst="wedgeRoundRectCallout">
            <a:avLst>
              <a:gd name="adj1" fmla="val -21018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出使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708360" y="1989000"/>
            <a:ext cx="1584360" cy="432000"/>
          </a:xfrm>
          <a:prstGeom prst="wedgeRoundRectCallout">
            <a:avLst>
              <a:gd name="adj1" fmla="val 26453"/>
              <a:gd name="adj2" fmla="val -226472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对…说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39640" y="3500280"/>
            <a:ext cx="1081080" cy="432000"/>
          </a:xfrm>
          <a:prstGeom prst="wedgeRoundRectCallout">
            <a:avLst>
              <a:gd name="adj1" fmla="val 48680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就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95280" y="5157720"/>
            <a:ext cx="1081080" cy="432000"/>
          </a:xfrm>
          <a:prstGeom prst="wedgeRoundRectCallout">
            <a:avLst>
              <a:gd name="adj1" fmla="val 142657"/>
              <a:gd name="adj2" fmla="val -223162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曾今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124000" y="4724280"/>
            <a:ext cx="1871640" cy="432000"/>
          </a:xfrm>
          <a:prstGeom prst="wedgeRoundRectCallout">
            <a:avLst>
              <a:gd name="adj1" fmla="val -69930"/>
              <a:gd name="adj2" fmla="val 263236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于是，就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708360" y="3645000"/>
            <a:ext cx="1081080" cy="431640"/>
          </a:xfrm>
          <a:prstGeom prst="wedgeRoundRectCallout">
            <a:avLst>
              <a:gd name="adj1" fmla="val 48680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来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包拯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出使契丹，契丹命令典客对包拯说：“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你们国家的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雄州城最近开了便门，就是想引诱我国的叛徒，以便刺探边疆的情报吧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包拯说：“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你们国家的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涿州城曾经也开过便门，刺探边疆的情报为何一定要开便门呢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那个人便无言以对了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/>
          </p:nvPr>
        </p:nvSpPr>
        <p:spPr>
          <a:xfrm>
            <a:off x="468000" y="141264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这段写了件什么事？与前两段相比，本段有何特点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写他奉命出使契丹，驳倒契丹的荒谬论点，写出了他</a:t>
            </a: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巧言善辩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不辱使命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的爱国之心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写法上与第一段相同，描写具体，通过人物语言突出人物性格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060720" y="49860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华文琥珀"/>
                <a:ea typeface="华文琥珀"/>
              </a:rPr>
              <a:t>阅读第三段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70000"/>
              </a:lnSpc>
              <a:spcBef>
                <a:spcPts val="700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召权知开封府，迁右司郎中。拯立朝刚毅，贵戚宦官为之敛手，闻者皆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惮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之。人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包拯笑比黄河清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童稚妇女，亦知其名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，呼日“包待制”。京师为之语曰：“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关节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不到，有阎罗包老。”旧制，凡讼诉不得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径造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庭下。拯开正门，使得至前陈曲直，吏不敢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979640" y="2492280"/>
            <a:ext cx="1081080" cy="432000"/>
          </a:xfrm>
          <a:prstGeom prst="wedgeRoundRectCallout">
            <a:avLst>
              <a:gd name="adj1" fmla="val 48680"/>
              <a:gd name="adj2" fmla="val -15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畏惧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635280" y="2708280"/>
            <a:ext cx="1081080" cy="360360"/>
          </a:xfrm>
          <a:prstGeom prst="wedgeRoundRectCallout">
            <a:avLst>
              <a:gd name="adj1" fmla="val 35462"/>
              <a:gd name="adj2" fmla="val -22180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把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708360" y="3645000"/>
            <a:ext cx="3168720" cy="431640"/>
          </a:xfrm>
          <a:prstGeom prst="wedgeRoundRectCallout">
            <a:avLst>
              <a:gd name="adj1" fmla="val 101402"/>
              <a:gd name="adj2" fmla="val -142648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暗中行贿串通关系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364000" y="4724280"/>
            <a:ext cx="1657440" cy="432000"/>
          </a:xfrm>
          <a:prstGeom prst="wedgeRoundRectCallout">
            <a:avLst>
              <a:gd name="adj1" fmla="val 36782"/>
              <a:gd name="adj2" fmla="val -11286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直接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380360" y="5013360"/>
            <a:ext cx="1081080" cy="431640"/>
          </a:xfrm>
          <a:prstGeom prst="wedgeRoundRectCallout">
            <a:avLst>
              <a:gd name="adj1" fmla="val -58370"/>
              <a:gd name="adj2" fmla="val -1974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-181080" y="1413000"/>
            <a:ext cx="1081080" cy="431640"/>
          </a:xfrm>
          <a:prstGeom prst="wedgeRoundRectCallout">
            <a:avLst>
              <a:gd name="adj1" fmla="val 17986"/>
              <a:gd name="adj2" fmla="val -144486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下诏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700360" y="189000"/>
            <a:ext cx="2050920" cy="360360"/>
          </a:xfrm>
          <a:prstGeom prst="wedgeRoundRectCallout">
            <a:avLst>
              <a:gd name="adj1" fmla="val -134828"/>
              <a:gd name="adj2" fmla="val 152643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暂时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859280" y="2637000"/>
            <a:ext cx="2954520" cy="360360"/>
          </a:xfrm>
          <a:prstGeom prst="wedgeRoundRectCallout">
            <a:avLst>
              <a:gd name="adj1" fmla="val 56879"/>
              <a:gd name="adj2" fmla="val -242069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成语：妇孺皆知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包拯被朝廷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召令暂时代理开封府尹，升为右司郎中。包拯在朝廷为人刚强坚毅，贵戚宦官因此而大为收敛，听说的人都很害怕他。人们把包拯笑比做黄河水清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一样极难发生的事情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。小孩和妇女，也知道他的名声，叫他“包待制”。京城里的人因此说：“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暗中行贿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疏不通关系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的人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，有阎罗王和包老头。”按旧规矩，凡是诉讼都不能直接到官署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递交状子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。包拯打开官署正门，使告状的人能够到跟前陈述是非，办事小吏因此不敢欺瞒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900000" y="69228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ff"/>
                </a:solidFill>
                <a:latin typeface="Arial"/>
              </a:rPr>
              <a:t>27 </a:t>
            </a:r>
            <a:r>
              <a:rPr b="1" lang="zh-CN" sz="6000" spc="-1" strike="noStrike">
                <a:solidFill>
                  <a:srgbClr val="00ffff"/>
                </a:solidFill>
                <a:latin typeface="Arial"/>
              </a:rPr>
              <a:t>．</a:t>
            </a:r>
            <a:r>
              <a:rPr b="1" lang="zh-CN" sz="8000" spc="-1" strike="noStrike">
                <a:solidFill>
                  <a:srgbClr val="00ffff"/>
                </a:solidFill>
                <a:latin typeface="Arial"/>
              </a:rPr>
              <a:t>包  拯</a:t>
            </a:r>
            <a:endParaRPr b="0" lang="en-US" sz="8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2"/>
          <a:stretch/>
        </p:blipFill>
        <p:spPr>
          <a:xfrm>
            <a:off x="0" y="2610000"/>
            <a:ext cx="471636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325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3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拯性峭直，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恶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吏苛刻，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务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敦厚，虽甚嫉恶，而未尝不推以忠恕也。与人不苟合，不伪辞色悦人，平居无私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书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，故人、亲党皆绝之。虽贵，衣服、器用、饮食如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布衣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时。尝曰：“后世子孙仕宦，有犯赃者，不得放归本家，死不得葬大茔中。不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从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吾志，非吾子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若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孙也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68360" y="1341360"/>
            <a:ext cx="2160720" cy="432000"/>
          </a:xfrm>
          <a:prstGeom prst="wedgeRoundRectCallout">
            <a:avLst>
              <a:gd name="adj1" fmla="val 39935"/>
              <a:gd name="adj2" fmla="val -159189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憎恶，讨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635280" y="1413000"/>
            <a:ext cx="1081080" cy="431640"/>
          </a:xfrm>
          <a:prstGeom prst="wedgeRoundRectCallout">
            <a:avLst>
              <a:gd name="adj1" fmla="val 48680"/>
              <a:gd name="adj2" fmla="val -15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追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187280" y="5734080"/>
            <a:ext cx="1081080" cy="431640"/>
          </a:xfrm>
          <a:prstGeom prst="wedgeRoundRectCallout">
            <a:avLst>
              <a:gd name="adj1" fmla="val 140013"/>
              <a:gd name="adj2" fmla="val 58453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885080" y="6426360"/>
            <a:ext cx="1081080" cy="431640"/>
          </a:xfrm>
          <a:prstGeom prst="wedgeRoundRectCallout">
            <a:avLst>
              <a:gd name="adj1" fmla="val 42217"/>
              <a:gd name="adj2" fmla="val -294486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听从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258920" y="3429000"/>
            <a:ext cx="1081080" cy="431640"/>
          </a:xfrm>
          <a:prstGeom prst="wedgeRoundRectCallout">
            <a:avLst>
              <a:gd name="adj1" fmla="val 48680"/>
              <a:gd name="adj2" fmla="val -15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信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419640" y="3357720"/>
            <a:ext cx="1081080" cy="431640"/>
          </a:xfrm>
          <a:prstGeom prst="wedgeRoundRectCallout">
            <a:avLst>
              <a:gd name="adj1" fmla="val 264537"/>
              <a:gd name="adj2" fmla="val -94851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虽然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268360" y="4653000"/>
            <a:ext cx="1081440" cy="431640"/>
          </a:xfrm>
          <a:prstGeom prst="wedgeRoundRectCallout">
            <a:avLst>
              <a:gd name="adj1" fmla="val 48680"/>
              <a:gd name="adj2" fmla="val -15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平名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包拯性情严峻刚直，憎恶办事小吏苛杂刻薄，务求忠诚厚道，虽然非常憎恨厌恶，但从来没有不施行忠恕之道的。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他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跟人交往不随意附和，不以巧言令色取悦人，平常没有私人信件，连朋友、亲戚也断绝往来。虽然地位高贵，但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穿的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衣服、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用的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器物、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吃的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饮食跟当百姓时一样。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他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曾经说：“后代子孙当官从政，假若贪赃枉法，不得放回老家，死了不得葬入家族墓地。假若不听从我的意志，就不是我的子孙。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1680" y="345960"/>
            <a:ext cx="85406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阅读 第 </a:t>
            </a: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4-5</a:t>
            </a: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段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20560" y="1666440"/>
            <a:ext cx="8299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隶书"/>
              </a:rPr>
              <a:t>这两段分别写了什么内容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第四段：写人们对他的看法和评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第五段：写他</a:t>
            </a:r>
            <a:r>
              <a:rPr b="1" i="1" lang="zh-CN" sz="3600" spc="-1" strike="noStrike">
                <a:solidFill>
                  <a:srgbClr val="ff0066"/>
                </a:solidFill>
                <a:latin typeface="Arial"/>
              </a:rPr>
              <a:t>为官刚直不阿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，不巧言令色，对亲人朋友</a:t>
            </a:r>
            <a:r>
              <a:rPr b="1" i="1" lang="zh-CN" sz="3600" spc="-1" strike="noStrike">
                <a:solidFill>
                  <a:srgbClr val="ff0066"/>
                </a:solidFill>
                <a:latin typeface="Arial"/>
              </a:rPr>
              <a:t>不结党营私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，在生活上从不奢侈，</a:t>
            </a:r>
            <a:r>
              <a:rPr b="1" i="1" lang="zh-CN" sz="3600" spc="-1" strike="noStrike">
                <a:solidFill>
                  <a:srgbClr val="ff0066"/>
                </a:solidFill>
                <a:latin typeface="Arial"/>
              </a:rPr>
              <a:t>保持朴素之风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，最后写他对后世子孙的训诫。言语中肯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685800" y="91440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99"/>
                </a:solidFill>
                <a:latin typeface="Arial"/>
                <a:ea typeface="华文琥珀"/>
              </a:rPr>
              <a:t>二、品读感悟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143000" y="2743200"/>
            <a:ext cx="70866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99"/>
                </a:solidFill>
                <a:latin typeface="Arial"/>
                <a:ea typeface="华文行楷"/>
              </a:rPr>
              <a:t>     </a:t>
            </a:r>
            <a:r>
              <a:rPr b="0" lang="zh-CN" sz="5400" spc="-1" strike="noStrike">
                <a:solidFill>
                  <a:srgbClr val="006699"/>
                </a:solidFill>
                <a:latin typeface="华文行楷"/>
                <a:ea typeface="华文行楷"/>
              </a:rPr>
              <a:t>文章记叙了包拯的哪几件事？分别体现了包拯的什么品质</a:t>
            </a:r>
            <a:r>
              <a:rPr b="0" lang="zh-CN" sz="5400" spc="-1" strike="noStrike">
                <a:solidFill>
                  <a:srgbClr val="006699"/>
                </a:solidFill>
                <a:latin typeface="华文行楷"/>
                <a:ea typeface="华文行楷"/>
              </a:rPr>
              <a:t>?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7236000" y="765000"/>
            <a:ext cx="19080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971640" y="30492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小结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: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文章写了包拯的哪几件事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?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分别体现了包拯的什么品质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11280" y="1773360"/>
            <a:ext cx="36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、智断割牛舌案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403280" y="378936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276720" y="38098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572000" y="1773360"/>
            <a:ext cx="44197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机智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官清廉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巧言善辩，不辱使命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官刚正、执法严峻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克己奉公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57200" y="30481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、出使契丹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-533520" y="3809880"/>
            <a:ext cx="5321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buClr>
                <a:srgbClr val="ffffcc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、不畏权贵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体恤百姓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80880" y="55627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、家教严格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80880" y="2438280"/>
            <a:ext cx="36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、不持一砚归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12240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 flipH="1">
            <a:off x="7236000" y="1413000"/>
            <a:ext cx="142560" cy="3673440"/>
          </a:xfrm>
          <a:custGeom>
            <a:avLst/>
            <a:gdLst>
              <a:gd name="textAreaLeft" fmla="*/ 91080 w 142560"/>
              <a:gd name="textAreaRight" fmla="*/ 142920 w 1425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640" y="1341360"/>
            <a:ext cx="4321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知天长县  断盗割牛舌案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任端州府  做官不持一砚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出使契丹  辩驳典客诘难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知开封府  除弊“阎罗包老”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平日为人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580000" y="148428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39640" y="1484280"/>
            <a:ext cx="216000" cy="3457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90000 h 3457440"/>
              <a:gd name="textAreaBottom" fmla="*/ 3367440 h 34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556000" y="4292640"/>
            <a:ext cx="144360" cy="863640"/>
          </a:xfrm>
          <a:custGeom>
            <a:avLst/>
            <a:gdLst>
              <a:gd name="textAreaLeft" fmla="*/ 92160 w 144360"/>
              <a:gd name="textAreaRight" fmla="*/ 144360 w 1443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012000" y="1700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正面描写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6084720" y="2997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侧面描写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5651640" y="429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796000" y="4365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正面描写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308720" y="1268280"/>
            <a:ext cx="16192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机智聪明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公正廉洁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不辱使命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铁面无私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克己奉公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700360" y="4149720"/>
            <a:ext cx="23763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80808"/>
                </a:solidFill>
                <a:latin typeface="Arial"/>
                <a:ea typeface="楷体_GB2312"/>
              </a:rPr>
              <a:t>对人对己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80808"/>
                </a:solidFill>
                <a:latin typeface="Arial"/>
                <a:ea typeface="楷体_GB2312"/>
              </a:rPr>
              <a:t>对后世子孙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811040" y="1413000"/>
            <a:ext cx="99180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详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略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详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略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略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7" name="">
            <a:hlinkClick r:id="" action="ppaction://hlinkshowjump?jump=previousslide"/>
          </p:cNvPr>
          <p:cNvSpPr/>
          <p:nvPr/>
        </p:nvSpPr>
        <p:spPr>
          <a:xfrm>
            <a:off x="5796000" y="1557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8" name="">
            <a:hlinkClick r:id="" action="ppaction://hlinkshowjump?jump=previousslide"/>
          </p:cNvPr>
          <p:cNvSpPr/>
          <p:nvPr/>
        </p:nvSpPr>
        <p:spPr>
          <a:xfrm>
            <a:off x="5796000" y="220500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9" name="">
            <a:hlinkClick r:id="" action="ppaction://hlinkshowjump?jump=previousslide"/>
          </p:cNvPr>
          <p:cNvSpPr/>
          <p:nvPr/>
        </p:nvSpPr>
        <p:spPr>
          <a:xfrm>
            <a:off x="5796000" y="2781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0" name="">
            <a:hlinkClick r:id="" action="ppaction://hlinkshowjump?jump=previousslide"/>
          </p:cNvPr>
          <p:cNvSpPr/>
          <p:nvPr/>
        </p:nvSpPr>
        <p:spPr>
          <a:xfrm>
            <a:off x="5796000" y="342900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1" name="">
            <a:hlinkClick r:id="" action="ppaction://hlinkshowjump?jump=previousslide"/>
          </p:cNvPr>
          <p:cNvSpPr/>
          <p:nvPr/>
        </p:nvSpPr>
        <p:spPr>
          <a:xfrm>
            <a:off x="5796000" y="436572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8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8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395280" y="3213000"/>
            <a:ext cx="806616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236fa"/>
                </a:solidFill>
                <a:latin typeface="Arial"/>
              </a:rPr>
              <a:t>要求</a:t>
            </a: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:1</a:t>
            </a: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、语言符合人物的身份</a:t>
            </a: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、动作神态体现人物的特点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2124000" y="765000"/>
            <a:ext cx="4680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本剧表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2"/>
          <a:stretch/>
        </p:blipFill>
        <p:spPr>
          <a:xfrm>
            <a:off x="6300720" y="5229360"/>
            <a:ext cx="936720" cy="129672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3"/>
          <a:stretch/>
        </p:blipFill>
        <p:spPr>
          <a:xfrm>
            <a:off x="395280" y="765000"/>
            <a:ext cx="1512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0" y="1676520"/>
            <a:ext cx="883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6699"/>
                </a:solidFill>
                <a:latin typeface="华文行楷"/>
                <a:ea typeface="华文行楷"/>
              </a:rPr>
              <a:t>      </a:t>
            </a:r>
            <a:r>
              <a:rPr b="0" lang="zh-CN" sz="6600" spc="-1" strike="noStrike">
                <a:solidFill>
                  <a:srgbClr val="006699"/>
                </a:solidFill>
                <a:latin typeface="华文行楷"/>
                <a:ea typeface="华文行楷"/>
              </a:rPr>
              <a:t>作者 怎样塑造包拯这个人物形象的？</a:t>
            </a: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0" y="3733920"/>
            <a:ext cx="4038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正面描写：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侧面描写：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352680" y="3733920"/>
            <a:ext cx="4038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（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5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657600" y="4572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（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4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533520" y="380880"/>
            <a:ext cx="30319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8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二、问题探究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84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1" name=""/>
          <p:cNvSpPr/>
          <p:nvPr/>
        </p:nvSpPr>
        <p:spPr>
          <a:xfrm>
            <a:off x="609480" y="5334120"/>
            <a:ext cx="289584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概括描写：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具体描写：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505320" y="5410080"/>
            <a:ext cx="41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（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、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4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5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971800" y="62164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（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1"/>
          <a:stretch/>
        </p:blipFill>
        <p:spPr>
          <a:xfrm>
            <a:off x="8317080" y="620640"/>
            <a:ext cx="4759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/>
          </p:nvPr>
        </p:nvSpPr>
        <p:spPr>
          <a:xfrm>
            <a:off x="-305280" y="404640"/>
            <a:ext cx="9448920" cy="691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纵观全文，看一看作者在结构安排和表现方法上有什么特点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结构：全文共五段，每段重点写人物的一个性格特点，有详有略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概括描写：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（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、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4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5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具体描写   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（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3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表现方法：从不同的角度刻画人物鲜明性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正面描写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侧面描写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ahoma"/>
                <a:ea typeface="方正舒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方正舒体"/>
              </a:rPr>
              <a:t>相互配合，富于变化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3490920" y="30402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590920" y="50292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971800" y="55627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97" fill="hold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97" fill="hold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97" fill="hold"/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97" fill="hold"/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97" fill="hold"/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97" fill="hold"/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97" fill="hold"/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说说下列语句表现了人物的哪种性格特征或优秀品质？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）拯命制者才足贡数，岁满不持一砚归。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2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）京师为之语曰：“关节不到，有阎罗包老”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3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）虽贵，衣服、器用、饮食如布衣时。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348000" y="314172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官廉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067280" y="4365720"/>
            <a:ext cx="388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官刚正，执法严峻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700360" y="5805360"/>
            <a:ext cx="32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克己奉公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352680" y="228600"/>
            <a:ext cx="2667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随堂练习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684360" y="1557360"/>
            <a:ext cx="8064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006699"/>
                </a:solidFill>
                <a:latin typeface="Arial"/>
                <a:ea typeface="华文隶书"/>
              </a:rPr>
              <a:t>        </a:t>
            </a:r>
            <a:r>
              <a:rPr b="1" lang="zh-CN" sz="6600" spc="-1" strike="noStrike">
                <a:solidFill>
                  <a:srgbClr val="00cc00"/>
                </a:solidFill>
                <a:latin typeface="宋体"/>
              </a:rPr>
              <a:t>廉者，民之表也；贪者，民之贼也。</a:t>
            </a: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00cc00"/>
                </a:solidFill>
                <a:latin typeface="宋体"/>
              </a:rPr>
              <a:t>                     </a:t>
            </a:r>
            <a:r>
              <a:rPr b="1" lang="zh-CN" sz="5000" spc="-1" strike="noStrike">
                <a:solidFill>
                  <a:srgbClr val="00cc00"/>
                </a:solidFill>
                <a:latin typeface="宋体"/>
              </a:rPr>
              <a:t>——</a:t>
            </a:r>
            <a:r>
              <a:rPr b="1" lang="zh-CN" sz="5000" spc="-1" strike="noStrike">
                <a:solidFill>
                  <a:srgbClr val="00cc00"/>
                </a:solidFill>
                <a:latin typeface="宋体"/>
              </a:rPr>
              <a:t>包拯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179280" y="2421000"/>
            <a:ext cx="865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包拯作为历史上有名的清官，他能做到别人所不能，为什么包拯会这样做？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2700360" y="228600"/>
            <a:ext cx="48434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8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三、合作探究，深化理解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84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1224000" cy="136836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3"/>
          <a:stretch/>
        </p:blipFill>
        <p:spPr>
          <a:xfrm>
            <a:off x="7308720" y="4437000"/>
            <a:ext cx="7621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380880" y="1700280"/>
            <a:ext cx="876312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还知道古今中外有哪些清官</a:t>
            </a:r>
            <a:r>
              <a:rPr b="0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说他们的事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228600" y="0"/>
            <a:ext cx="3200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8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四、语文活动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84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 txBox="1"/>
          <p:nvPr/>
        </p:nvSpPr>
        <p:spPr>
          <a:xfrm>
            <a:off x="990720" y="533520"/>
            <a:ext cx="68580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历史上的清官</a:t>
            </a:r>
            <a:endParaRPr b="0" lang="en-US" sz="6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31" name=""/>
          <p:cNvSpPr/>
          <p:nvPr/>
        </p:nvSpPr>
        <p:spPr>
          <a:xfrm>
            <a:off x="755640" y="4581360"/>
            <a:ext cx="3505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海瑞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971800" y="4648320"/>
            <a:ext cx="2895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于成龙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248520" y="4648320"/>
            <a:ext cx="2895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耶律楚材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/>
          <p:nvPr/>
        </p:nvSpPr>
        <p:spPr>
          <a:xfrm>
            <a:off x="826920" y="0"/>
            <a:ext cx="756144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明朝时候的海瑞是中国历史上有名的清官。他铁面无私，明察秋毫，人称“海青天”。一天，他带着几个衙役微服出巡，在街上看见一群人慌慌张张地走过来，两个身强力壮的小伙子用一块木板抬着一个人，身上盖着被子，插着珠钗的头露在被子外面。另几个男人在旁边跟着，不时有人去掖掖被子。走了一会儿，他们在路旁休息一会儿，再换两个人抬着木板走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海瑞觉得蹊跷，便上去攀谈，得知是这家的妹妹身染恶疾，特地找来几个同村的小伙子抬她去外地看医生的。海瑞派一个衙役暗中跟踪，看到这群人来到一个村子最西头的房屋前，两个人把他们接了过去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海瑞回府后迅速派人去将那伙人抓了起来，从那间屋里搜出了大量金银财宝，后来经审讯得知他们是一伙强盗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826920" y="54936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于成龙，字北溟，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1617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年生于我县下昔乡来堡村。清顺治十八年（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1661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），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45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岁的于成龙以副榜贡生出任广西罗城县令，后迁任知州、知府、巡抚、两江总督等职。在二十多年的宦海生涯中，他关心百姓疾苦，敢于为民请命，生活清苦，廉政勤政，深受百姓爱戴和康熙皇帝赞誉，三次被举“卓异”，成为清初廉政官员的典范。康熙二十三（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1684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），于成龙在两江总督任上病逝，江南民众“巷哭罢市，绘像祀之”。康熙亲撰碑文，称他为“天下廉吏第一”。作为封建官吏，于成龙的思想道德、人生信条固然有着历史的局限性，但他清正廉明、关怀民众的事迹，到今天仍有着重要的借鉴和教育意义。</a:t>
            </a: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826920" y="0"/>
            <a:ext cx="756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84360" y="339840"/>
            <a:ext cx="72738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耶律楚材是历史上有名的清官。成吉思汗攻打西夏时，将领们纷纷抢夺金玉财宝，他却收集、保存了许多文集和大量的药材。后来军中疫病流行，这些药材救活了好几万人。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1227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年，他奉命到燕京整顿秩序。当时京畿之内，许多权势人家的子弟，一到黄昏便驾着牛车出来结伙抢劫，行凶杀人。耶律楚材不畏强暴，不为利害所动，秉公而断，公开斩了十六名这类罪犯，为社会除了大害。他病死后，有人诬陷他藏有私囊，检查以后，发现除了琴阮书画金石遗文之外，别无所有，足见他的清廉。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826920" y="386064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如果你做了官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你会做个什么样的官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900000" y="1628640"/>
            <a:ext cx="4751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假如我做了官……</a:t>
            </a:r>
            <a:endParaRPr b="0" i="1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34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　　　　　　　　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为题写一篇小作文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1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充分发挥想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详略得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层次分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2627280" y="549360"/>
            <a:ext cx="374508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8892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　业</a:t>
            </a:r>
            <a:endParaRPr b="0" lang="en-US" sz="1800" spc="1" strike="noStrike">
              <a:ln w="8892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1042920" y="2492280"/>
            <a:ext cx="3392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假如我当了官……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0000"/>
                </a:solidFill>
                <a:latin typeface="Arial"/>
                <a:ea typeface="华文琥珀"/>
              </a:rPr>
              <a:t>包拯知多少？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042920" y="278136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042920" y="1413000"/>
            <a:ext cx="6408720" cy="61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开封有个包青天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铁面无私辨忠奸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江湖豪杰来相助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王朝和马汉在身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钻天鼠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身轻如燕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彻地鼠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是条好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穿山鼠铁臂神拳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翻江鼠身手不凡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锦毛鼠一身是胆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这五鼠义结金兰侠和五义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留传在民间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805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805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85891" fill="hold"/>
                                        <p:tgtEl>
                                          <p:spTgt spid="8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3132000" y="1628640"/>
            <a:ext cx="3183120" cy="396108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-252360" y="2997360"/>
            <a:ext cx="3200400" cy="386064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395280" y="44280"/>
            <a:ext cx="2376360" cy="336600"/>
          </a:xfrm>
          <a:prstGeom prst="rect">
            <a:avLst/>
          </a:prstGeom>
          <a:solidFill>
            <a:srgbClr val="ccffcc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3"/>
          <a:stretch/>
        </p:blipFill>
        <p:spPr>
          <a:xfrm>
            <a:off x="-757080" y="0"/>
            <a:ext cx="9685080" cy="343692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4"/>
          <a:stretch/>
        </p:blipFill>
        <p:spPr>
          <a:xfrm>
            <a:off x="3780000" y="3537000"/>
            <a:ext cx="4427280" cy="3321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evt="end">
                                        <p:tn val="26"/>
                                      </p:cond>
                                    </p:stCondLst>
                                  </p:cTn>
                                  <p:tgtEl>
                                    <p:spTgt spid="8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" dur="3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" presetSubtype="6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465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150"/>
                            </p:stCondLst>
                            <p:childTnLst>
                              <p:par>
                                <p:cTn id="55" nodeType="afterEffect" fill="hold" presetClass="entr" presetID="31" repeatCount="indefinite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1150"/>
                            </p:stCondLst>
                            <p:childTnLst>
                              <p:par>
                                <p:cTn id="62" nodeType="afterEffect" fill="hold" presetClass="entr" presetID="17" presetSubtype="1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evt="end">
                                        <p:tn val="62"/>
                                      </p:cond>
                                    </p:stCondLst>
                                  </p:cTn>
                                  <p:tgtEl>
                                    <p:spTgt spid="8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0" y="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包拯（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999-1062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）自希仁，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庐州合肥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人（安徽合肥），北宋天圣五年（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1027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）进士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       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中进士后，因父母年事已高，不忍远去为官，直到双亲相继去世，守孝完毕，才在亲友的劝说下为官，期间长达十年之久，故以孝闻于乡里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201924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嘉佑元年（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1056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）年十二月，朝廷任包拯权知开封府，他于次年三月正式上任，至三年六月离任，前后只有一年有余。但在这短短的时间内，把号称难治的开封府，治理得井井有条。敢于惩治权贵们的不法行为，坚决抑制开封府吏的骄横之势，并能够及时惩办诬赖刁民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       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由于包拯在开封府执法严明，铁面无私，敢于碰硬，贵戚宦官也不得不有所收敛，听到包拯的名字就感到害怕。儿童妇孺们都知道包拯之名，亲切称呼他为「包待制」。开封府广泛流传着这样的话「关节不到，有阎罗包老。」用阎罗比喻包拯的铁面无私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       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宋嘉佑六年（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1061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），他官至枢密副使，次年五月病逝，「京师吏民，莫不感伤，叹息之声，大街小巷都可听得到。」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朝廷赠官吏部上书，有「奏仪」十五卷传于世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cc00"/>
                </a:solidFill>
                <a:latin typeface="Arial"/>
                <a:ea typeface="华文隶书"/>
              </a:rPr>
              <a:t>生字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2436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356000" y="907920"/>
            <a:ext cx="2521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稚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讼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恶吏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嫉恶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苟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赃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茔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124000" y="1052640"/>
            <a:ext cx="2232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ǐ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à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w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è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zhu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ō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hu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à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à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308720" y="981000"/>
            <a:ext cx="2087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zh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ì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s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ò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w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è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g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ǒ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z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ā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í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684360" y="0"/>
            <a:ext cx="6912000" cy="718560"/>
          </a:xfrm>
          <a:prstGeom prst="rect">
            <a:avLst/>
          </a:prstGeom>
          <a:solidFill>
            <a:srgbClr val="7499d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   </a:t>
            </a:r>
            <a:r>
              <a:rPr b="1" lang="zh-CN" sz="41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“</a:t>
            </a:r>
            <a:r>
              <a:rPr b="1" lang="zh-CN" sz="41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传”：是正史的重要组成部分。主要叙述传主的生卒、地望、官职、生平事迹内容。</a:t>
            </a:r>
            <a:endParaRPr b="0" lang="en-US" sz="4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340000" y="4221000"/>
            <a:ext cx="5832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cc00"/>
                </a:solidFill>
                <a:latin typeface="Arial"/>
                <a:ea typeface="楷体_GB2312"/>
              </a:rPr>
              <a:t>自传  ——自述生平</a:t>
            </a:r>
            <a:endParaRPr b="0" lang="en-US" sz="3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cc00"/>
                </a:solidFill>
                <a:latin typeface="Arial"/>
                <a:ea typeface="楷体_GB2312"/>
              </a:rPr>
              <a:t>传、评传  ——由别人撰写</a:t>
            </a:r>
            <a:endParaRPr b="0" lang="en-US" sz="3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411280" y="4365720"/>
            <a:ext cx="144720" cy="595080"/>
          </a:xfrm>
          <a:custGeom>
            <a:avLst/>
            <a:gdLst>
              <a:gd name="textAreaLeft" fmla="*/ 92520 w 144720"/>
              <a:gd name="textAreaRight" fmla="*/ 145080 w 144720"/>
              <a:gd name="textAreaTop" fmla="*/ 15480 h 595080"/>
              <a:gd name="textAreaBottom" fmla="*/ 579600 h 59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631880" y="43657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cc00"/>
                </a:solidFill>
                <a:latin typeface="Arial"/>
                <a:ea typeface="楷体_GB2312"/>
              </a:rPr>
              <a:t>传记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33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包拯字希仁，庐州合肥人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也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。……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知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天长县。有盗割人牛舌者，主来诉。拯曰：“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第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归，杀而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鬻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之”。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寻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复有来告私杀牛者，拯曰：“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何为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割牛舌而又告之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盗惊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95280" y="1916280"/>
            <a:ext cx="3025800" cy="431640"/>
          </a:xfrm>
          <a:prstGeom prst="wedgeRoundRectCallout">
            <a:avLst>
              <a:gd name="adj1" fmla="val 106347"/>
              <a:gd name="adj2" fmla="val -202203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判断句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580000" y="1700280"/>
            <a:ext cx="1944720" cy="431640"/>
          </a:xfrm>
          <a:prstGeom prst="wedgeRoundRectCallout">
            <a:avLst>
              <a:gd name="adj1" fmla="val 12694"/>
              <a:gd name="adj2" fmla="val -165074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主持，掌管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076720" y="3716280"/>
            <a:ext cx="1800360" cy="432000"/>
          </a:xfrm>
          <a:prstGeom prst="wedgeRoundRectCallout">
            <a:avLst>
              <a:gd name="adj1" fmla="val 21074"/>
              <a:gd name="adj2" fmla="val -240074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但，只管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062920" y="3716280"/>
            <a:ext cx="1081080" cy="432000"/>
          </a:xfrm>
          <a:prstGeom prst="wedgeRoundRectCallout">
            <a:avLst>
              <a:gd name="adj1" fmla="val 1541"/>
              <a:gd name="adj2" fmla="val -240074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卖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95280" y="5157720"/>
            <a:ext cx="1081080" cy="432000"/>
          </a:xfrm>
          <a:prstGeom prst="wedgeRoundRectCallout">
            <a:avLst>
              <a:gd name="adj1" fmla="val 48680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不久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59640" y="6021360"/>
            <a:ext cx="1585800" cy="432000"/>
          </a:xfrm>
          <a:prstGeom prst="wedgeRoundRectCallout">
            <a:avLst>
              <a:gd name="adj1" fmla="val -15166"/>
              <a:gd name="adj2" fmla="val -407351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为什么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0T12:56:54Z</dcterms:created>
  <dc:creator>教师</dc:creator>
  <dc:description/>
  <dc:language>en-US</dc:language>
  <cp:lastModifiedBy>MC SYSTEM</cp:lastModifiedBy>
  <dcterms:modified xsi:type="dcterms:W3CDTF">2010-05-04T05:57:51Z</dcterms:modified>
  <cp:revision>81</cp:revision>
  <dc:subject/>
  <dc:title>幻灯片 1</dc:title>
</cp:coreProperties>
</file>