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20.gif" ContentType="image/gif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159-FE5E-4920-BB23-69E915E1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C5B-6A19-4C20-B234-6098FEC8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655-9F09-4DC6-A37E-4CD09BDE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B03-460A-4EA6-B472-F5FEBB7C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F2D0-D9E4-4C19-AC6F-D6C46296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F38E-821A-42BC-B442-C79C03C5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DFAA-D78E-49EA-93AA-537F8799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CA61-6EC5-497D-A3B4-3DFBF973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4F12-E7ED-41D3-B343-052CFBEC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1922-1013-4C3E-A133-1B0A309E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A2DB-9A3A-4B1A-8D02-367E261A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A24-EE43-4840-9A24-0D85F59A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2044-5B55-414E-A16B-309C0036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9B8E-B7D2-452C-9F3A-14B96709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AE3F-6288-4EF6-978F-72818761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8D84-421B-401F-AADB-1842A1F2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BC5A-A94A-4131-A4D2-B19FAE1E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C8A0D-0B91-4B0A-800F-9203AD72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51985-92FC-4331-B72B-E9056D48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DE659-C7FB-4E8C-A858-62F02A01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495E0-F446-43F7-8F77-AB8078C8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C8C43-29E0-4CE2-8E71-6178657D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718-4D59-4CDF-B530-A4B79D13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3C4E1-0ADB-4A0D-9103-49200223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89463-0AD8-42A0-8AEA-9099C1EB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9ED87-ED5B-49A3-9839-47EEC55C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11A75-8C5B-4AE3-82E1-A268C531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FA67B-B102-4452-AC3E-D01B55BC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F71B8-742C-4B83-92BB-D6622060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D8C1F-30C5-436F-92FB-088069FC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62CF6-E2E1-42AE-9C61-A84FD092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6905F-DDAD-44CC-8232-F2A260F4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EAC62-AA41-4DF1-B1DD-39C6891C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7D3-C964-40D1-892C-C4BC66C7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E49FE-496E-4D7A-849E-E8792B42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B9DDC-E97F-45F8-A803-07161925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E80E6-6FC3-476A-B0A9-07B6EC09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94B07-9309-4268-83E3-82FC6CDE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CC197-8C46-420F-A357-4427B8DB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0FE8C-B2CB-4C9B-88DE-FC9FF0E3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8C14E-9AF1-44C1-B2C2-F47487C8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671AC-A39D-4C44-B561-144EC086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D1177-A686-4D70-AC94-B25AD99A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9C481-4609-4038-9E20-3B42CDCF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E96-18A8-44FD-AD0F-9738FC32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7BE6A1-F518-4AF1-BB5B-CE7453E3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F3755-788A-4477-86A3-475012A8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87C1C-A1C7-4136-A1A4-A6E2A9E6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4FC15-D5D5-4B7E-9788-18451E35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32B1D-25AF-4E2E-B8E6-9336666E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8D971C-FBDE-41D2-9BDC-A2A7CF27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E18E4-4420-4F82-BA85-437AE074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108F2-55F5-4FB7-9DBF-20F9BAF4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438EC-C20A-4F49-8C46-B6332D51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09B76-2B3E-454C-AE14-92897586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CC4-57F3-4588-BB84-24C65D90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1D211-E956-49C3-9A33-698826F2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82775-7B64-47C6-8336-110C6F3D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86B6A-F69E-460A-A514-F385A6E4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41B1B-75AC-4AD2-8049-97B9EC37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D7B89-9B28-4ECC-A315-7E2E1DA3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EC81F-ECEF-4EE2-A79D-88D9B690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D4737-C0E3-4AC4-AEA4-12515A95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94AF3-EA46-4296-B912-C754BBDA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85A64-02DF-457E-9F2F-0A4691CC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927FE-4781-4A00-BE2D-84EAB285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BB0-E967-4334-8D35-08D09616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D2B2F-E7EF-4552-BAC7-98B9ECA5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5CDF1-6B89-4816-8DF7-C94427CB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93F90-FEE1-486E-9C3F-10EAB63D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28CA4-6547-4A75-A52D-3BFC7FC9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27C1D-325F-4E8D-BD10-1CFC2270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E698A-5B1B-4F5A-A258-6FFC49B3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8E2C9-B136-4DE5-8F62-ACB72D07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19A39-0FBE-4C30-B630-1151AE90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7AF5F-D3BF-4B9C-911D-642DF18E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B999C-6824-44A9-9764-C2E456C6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17C-7346-46DC-8E0E-73470687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627E5-17FE-4191-866D-EF88C456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1D3DB-8F8C-455B-A675-83FCDD0C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4CC58-0C7C-40CB-BB46-F0AB7F3D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832AD-764F-4CBB-91B9-6780B363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36D6B-0138-4D7F-94C6-8495EB6F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518-626D-4860-BA1B-2F4B096B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DEA7-2FB5-4D3B-9422-F501BC45DC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216B-853C-4F33-B52D-F94F25A854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5241-F4A7-47CD-BC11-1B532F78C7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6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B2B3-47E6-443A-97AF-4ABE0BFA73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2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2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B5B5-9C5E-4057-A9DF-60C81EAE76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1F2F-C822-4436-BEEC-B676F474B67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3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3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3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1A7A-A8F1-4869-9CD9-696086C9752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 rot="275400">
            <a:off x="2031480" y="5730840"/>
            <a:ext cx="3976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执教：先进初中 方维国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85" name=""/>
          <p:cNvSpPr/>
          <p:nvPr/>
        </p:nvSpPr>
        <p:spPr>
          <a:xfrm>
            <a:off x="3132000" y="2637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周素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627280" y="981000"/>
            <a:ext cx="352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一次真好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883908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045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842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嗅出柚子的味道了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40360" y="620640"/>
            <a:ext cx="5003640" cy="5092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宋体"/>
              </a:rPr>
              <a:t>5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宋体"/>
              </a:rPr>
              <a:t>、你能嗅出语言的味道了吗？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）沉甸甸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Times New Roman"/>
                <a:ea typeface="宋体"/>
              </a:rPr>
              <a:t>垂吊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在枝头（能换成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挂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”吗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）秋日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Times New Roman"/>
                <a:ea typeface="宋体"/>
              </a:rPr>
              <a:t>风情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画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（能换成“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风景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”吗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84720" y="2060640"/>
            <a:ext cx="431640" cy="431640"/>
          </a:xfrm>
          <a:custGeom>
            <a:avLst/>
            <a:gdLst>
              <a:gd name="textAreaLeft" fmla="*/ 204120 w 431640"/>
              <a:gd name="textAreaRight" fmla="*/ 227520 w 431640"/>
              <a:gd name="textAreaTop" fmla="*/ 204120 h 431640"/>
              <a:gd name="textAreaBottom" fmla="*/ 2275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224" y="10224"/>
                </a:lnTo>
                <a:lnTo>
                  <a:pt x="10800" y="0"/>
                </a:lnTo>
                <a:lnTo>
                  <a:pt x="11376" y="10224"/>
                </a:lnTo>
                <a:lnTo>
                  <a:pt x="21600" y="10800"/>
                </a:lnTo>
                <a:lnTo>
                  <a:pt x="11376" y="11376"/>
                </a:lnTo>
                <a:lnTo>
                  <a:pt x="10800" y="21600"/>
                </a:lnTo>
                <a:lnTo>
                  <a:pt x="10224" y="11376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84720" y="5157720"/>
            <a:ext cx="504720" cy="360360"/>
          </a:xfrm>
          <a:custGeom>
            <a:avLst/>
            <a:gdLst>
              <a:gd name="textAreaLeft" fmla="*/ 178920 w 504720"/>
              <a:gd name="textAreaRight" fmla="*/ 325800 w 504720"/>
              <a:gd name="textAreaTop" fmla="*/ 127800 h 360360"/>
              <a:gd name="textAreaBottom" fmla="*/ 2325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59" y="7659"/>
                </a:lnTo>
                <a:lnTo>
                  <a:pt x="10800" y="0"/>
                </a:lnTo>
                <a:lnTo>
                  <a:pt x="13941" y="7659"/>
                </a:lnTo>
                <a:lnTo>
                  <a:pt x="21600" y="10800"/>
                </a:lnTo>
                <a:lnTo>
                  <a:pt x="13941" y="13941"/>
                </a:lnTo>
                <a:lnTo>
                  <a:pt x="10800" y="21600"/>
                </a:lnTo>
                <a:lnTo>
                  <a:pt x="7659" y="13941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3141720"/>
            <a:ext cx="504720" cy="647640"/>
          </a:xfrm>
          <a:custGeom>
            <a:avLst/>
            <a:gdLst>
              <a:gd name="textAreaLeft" fmla="*/ 207720 w 504720"/>
              <a:gd name="textAreaRight" fmla="*/ 297000 w 504720"/>
              <a:gd name="textAreaTop" fmla="*/ 266400 h 647640"/>
              <a:gd name="textAreaBottom" fmla="*/ 3812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88" y="8888"/>
                </a:lnTo>
                <a:lnTo>
                  <a:pt x="10800" y="0"/>
                </a:lnTo>
                <a:lnTo>
                  <a:pt x="12712" y="8888"/>
                </a:lnTo>
                <a:lnTo>
                  <a:pt x="21600" y="10800"/>
                </a:lnTo>
                <a:lnTo>
                  <a:pt x="12712" y="12712"/>
                </a:lnTo>
                <a:lnTo>
                  <a:pt x="10800" y="21600"/>
                </a:lnTo>
                <a:lnTo>
                  <a:pt x="8888" y="1271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611280" y="26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彩云"/>
              </a:rPr>
              <a:t>合  作  探  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5923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96268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）你能说说“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雏形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”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具体而微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”的区别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（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）眼巴巴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地等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（能换用其它词吗？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(5)“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我喜爱他们又甚于那些老鸟”一句表达了作者怎样的思想感情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11280" y="333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彩云"/>
              </a:rPr>
              <a:t>合  作  探  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5923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50920" y="600120"/>
            <a:ext cx="2233440" cy="3078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332000" y="186624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任选其中三个词语写成一段话（顺序可变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不可磨灭　玲珑剔透　硕果累累  回味无穷　多姿多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8360" y="-1771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发挥想象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st" descr="st.jpg (14773 bytes)"/>
          <p:cNvPicPr/>
          <p:nvPr/>
        </p:nvPicPr>
        <p:blipFill>
          <a:blip r:embed="rId3"/>
          <a:stretch/>
        </p:blipFill>
        <p:spPr>
          <a:xfrm>
            <a:off x="395280" y="5229360"/>
            <a:ext cx="374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 rot="317400">
            <a:off x="539280" y="259920"/>
            <a:ext cx="367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体验与反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68360" y="1440000"/>
            <a:ext cx="4608360" cy="4762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84866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为什么第一次的经验不一定都愉快？感觉不愉快的第一次就不能尝试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回忆你有哪些难忘的第一次经历，谈谈它对你后来的发展产生了怎样的影响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6156360" y="260280"/>
            <a:ext cx="2736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295280" y="914400"/>
            <a:ext cx="518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228600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4360" y="2924280"/>
            <a:ext cx="78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你现在最想尝试的第一次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什么样的第一次不能尝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8360" y="260280"/>
            <a:ext cx="22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ahoma"/>
                <a:ea typeface="方正姚体"/>
              </a:rPr>
              <a:t>拓展迁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250920" y="846000"/>
            <a:ext cx="2305080" cy="2793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103640" cy="36036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18003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84360" y="619920"/>
            <a:ext cx="338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800b8"/>
                </a:solidFill>
                <a:latin typeface="Times New Roman"/>
              </a:rPr>
              <a:t>探究学法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79640" y="3553560"/>
            <a:ext cx="51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00b8"/>
                </a:solidFill>
                <a:latin typeface="Times New Roman"/>
              </a:rPr>
              <a:t>整体感知抓文眼　　　品味情理抓关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00b8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b800b8"/>
                </a:solidFill>
                <a:latin typeface="Times New Roman"/>
              </a:rPr>
              <a:t>悟读散文贵有“我”　形散神聚抓特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2195640" cy="2305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684360" y="47628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结束语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2808360" cy="432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755640" y="39394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学们：生命中每个人确实有许多第一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一次是令人难忘的，刻骨铭心的，给我们带来了莫大的新奇和刺激，使我们至今回味无穷。第一个吃螃蟹的人，被誉为具有改革和创新的人而载入史册。今后，有益的第一次我们要寻找机会、大胆尝试；不可预料的第一次我们要勇敢地面对；有害的、消极的第一次我们要主动地避免。愿同学们努力去尝试生命中有益的第一次，让万紫千红的第一次，织成我们五彩斑斓的人生，给社会带来进步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103640" cy="3603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95280" y="656280"/>
            <a:ext cx="54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课外兴趣题：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68360" y="282636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．积累词语（抄写、注音、造句）。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．回家后，听妈妈讲自己小时侯的第一次故事，然后写成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００字的课外练笔。</a:t>
            </a:r>
            <a:br>
              <a:rPr sz="3600"/>
            </a:br>
            <a:br>
              <a:rPr sz="3600"/>
            </a:b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53080" y="404640"/>
            <a:ext cx="7898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00b8"/>
                </a:solidFill>
                <a:latin typeface="华文新魏"/>
                <a:ea typeface="华文新魏"/>
              </a:rPr>
              <a:t>学步幼儿  第一次勇敢迈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429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0" y="3498840"/>
            <a:ext cx="4356000" cy="3352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788000" y="493560"/>
            <a:ext cx="403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1969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月，阿姆斯特朗代表人类第一次登上了月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06864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感言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这一小步，对一个人来说，是小小的一步；对整个人类来说，是巨大的飞跃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0" y="549360"/>
            <a:ext cx="2286000" cy="3050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国首位宇航员登上太空的感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是祖国历史上辉煌的一页，也是我生命中最伟大一天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0"/>
            <a:ext cx="52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800b8"/>
                </a:solidFill>
                <a:latin typeface="Times New Roman"/>
              </a:rPr>
              <a:t>中国人的骄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80880" y="404640"/>
            <a:ext cx="843912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</a:rPr>
              <a:t>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形        丰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硕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稀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时     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孵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鸟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妹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柚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子        沉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甸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甸     结实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累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累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玲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珑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剔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透</a:t>
            </a:r>
            <a:r>
              <a:rPr b="1" lang="zh-CN" sz="2400" spc="-1" strike="noStrike">
                <a:solidFill>
                  <a:srgbClr val="33cccc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cc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358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3581280"/>
            <a:ext cx="4114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弄懂下列词语的意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玲珑剔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具体而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不可磨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回味无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多姿多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0968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3200" y="1066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81520" y="1066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81720" y="1066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00320" y="1066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81760" y="1066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0240" y="22096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8880" y="2209680"/>
            <a:ext cx="6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80640" y="2133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51640" y="213372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1672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924680" y="21337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检查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43280" y="4437000"/>
            <a:ext cx="630072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形容器物精致通明，结构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整个形体都已具备了，只是比较微小而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指事迹言论等将始终保留在人们的记忆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比喻回想某一事物，越想越觉得有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文指生活丰富而充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3200" y="1066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81520" y="1066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81720" y="1066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00320" y="1066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81760" y="1066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240" y="22096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28880" y="2209680"/>
            <a:ext cx="6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80640" y="2133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51640" y="213372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1672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200" y="1066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81520" y="1066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81720" y="1066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00320" y="1066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81760" y="1066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0240" y="22096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28880" y="2209680"/>
            <a:ext cx="6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80640" y="2133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51640" y="213372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51672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280" y="10526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3440" y="1052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73800" y="1066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4520" y="10526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7348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9080" y="22050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29240" y="2209680"/>
            <a:ext cx="6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681720" y="2133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47680" y="2133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16720" y="213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      ——</a:t>
            </a: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读懂文意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          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      ——</a:t>
            </a: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读清布局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      ——</a:t>
            </a: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读出意境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692360" y="195840"/>
            <a:ext cx="5904000" cy="15152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  <a:ea typeface="楷体_GB2312"/>
              </a:rPr>
              <a:t>朗读课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  <a:ea typeface="楷体_GB2312"/>
              </a:rPr>
              <a:t>初步感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0" y="6093000"/>
            <a:ext cx="9144000" cy="711000"/>
          </a:xfrm>
          <a:prstGeom prst="rect">
            <a:avLst/>
          </a:prstGeom>
          <a:solidFill>
            <a:srgbClr val="339933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0" y="6093000"/>
            <a:ext cx="9143280" cy="765000"/>
            <a:chOff x="0" y="6093000"/>
            <a:chExt cx="9143280" cy="765000"/>
          </a:xfrm>
        </p:grpSpPr>
        <p:sp>
          <p:nvSpPr>
            <p:cNvPr id="450" name=""/>
            <p:cNvSpPr/>
            <p:nvPr/>
          </p:nvSpPr>
          <p:spPr>
            <a:xfrm>
              <a:off x="0" y="6093000"/>
              <a:ext cx="9143280" cy="765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1" name="" descr=""/>
            <p:cNvPicPr/>
            <p:nvPr/>
          </p:nvPicPr>
          <p:blipFill>
            <a:blip r:embed="rId2"/>
            <a:stretch/>
          </p:blipFill>
          <p:spPr>
            <a:xfrm>
              <a:off x="222120" y="6121080"/>
              <a:ext cx="8697600" cy="70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012000" y="3357720"/>
            <a:ext cx="3132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042920" y="162864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为什么说第一次真好，好在哪里？“文眼”是哪句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作者写了她的哪些“第一次”经历？感受如何？（请划出原文词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这些第一次，作者是如何安排详略的？为什么要这样安排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0"/>
            <a:ext cx="216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ahoma"/>
                <a:ea typeface="方正姚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2087640" cy="2872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8172360" y="4581360"/>
            <a:ext cx="12589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08000" y="1562040"/>
            <a:ext cx="45720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第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次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华文新魏"/>
              </a:rPr>
              <a:t>看柚子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华文新魏"/>
              </a:rPr>
              <a:t>看孵小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去露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动手做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坐火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坐飞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看见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看到自已的作品用铅字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出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32000" y="67932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00b8"/>
                </a:solidFill>
                <a:latin typeface="Arial"/>
                <a:ea typeface="隶书"/>
              </a:rPr>
              <a:t>观察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00b8"/>
                </a:solidFill>
                <a:latin typeface="Arial"/>
                <a:ea typeface="隶书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48000" y="1628640"/>
            <a:ext cx="136836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新魏"/>
              </a:rPr>
              <a:t>植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新魏"/>
              </a:rPr>
              <a:t>动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08720" y="765000"/>
            <a:ext cx="180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00b8"/>
                </a:solidFill>
                <a:latin typeface="Times New Roman"/>
                <a:ea typeface="隶书"/>
              </a:rPr>
              <a:t>当时感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19640" y="37162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284720" y="1628640"/>
            <a:ext cx="3887280" cy="576360"/>
            <a:chOff x="4284720" y="1628640"/>
            <a:chExt cx="3887280" cy="576360"/>
          </a:xfrm>
        </p:grpSpPr>
        <p:sp>
          <p:nvSpPr>
            <p:cNvPr id="465" name=""/>
            <p:cNvSpPr/>
            <p:nvPr/>
          </p:nvSpPr>
          <p:spPr>
            <a:xfrm>
              <a:off x="4284720" y="1773360"/>
              <a:ext cx="750240" cy="215640"/>
            </a:xfrm>
            <a:prstGeom prst="rightArrow">
              <a:avLst>
                <a:gd name="adj1" fmla="val 50000"/>
                <a:gd name="adj2" fmla="val 86978"/>
              </a:avLst>
            </a:prstGeom>
            <a:solidFill>
              <a:srgbClr val="66ff33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02280" y="1628640"/>
              <a:ext cx="3069720" cy="576360"/>
            </a:xfrm>
            <a:prstGeom prst="flowChartAlternateProcess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喜悦与新奇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静态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284720" y="2421000"/>
            <a:ext cx="3960360" cy="2087640"/>
            <a:chOff x="4284720" y="2421000"/>
            <a:chExt cx="3960360" cy="2087640"/>
          </a:xfrm>
        </p:grpSpPr>
        <p:sp>
          <p:nvSpPr>
            <p:cNvPr id="468" name=""/>
            <p:cNvSpPr/>
            <p:nvPr/>
          </p:nvSpPr>
          <p:spPr>
            <a:xfrm>
              <a:off x="4284720" y="2565360"/>
              <a:ext cx="751320" cy="216000"/>
            </a:xfrm>
            <a:prstGeom prst="rightArrow">
              <a:avLst>
                <a:gd name="adj1" fmla="val 50000"/>
                <a:gd name="adj2" fmla="val 86958"/>
              </a:avLst>
            </a:prstGeom>
            <a:solidFill>
              <a:srgbClr val="66ff33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03360" y="2421000"/>
              <a:ext cx="3141720" cy="2087640"/>
            </a:xfrm>
            <a:prstGeom prst="flowChartAlternateProcess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眼巴巴地等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吃不下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喜爱</a:t>
              </a:r>
              <a:r>
                <a:rPr b="1" lang="zh-CN" sz="2400" spc="-1" strike="noStrike">
                  <a:solidFill>
                    <a:srgbClr val="ff99cc"/>
                  </a:solidFill>
                  <a:latin typeface="Times New Roman"/>
                </a:rPr>
                <a:t>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动态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8244000" y="1844640"/>
            <a:ext cx="360360" cy="1562040"/>
          </a:xfrm>
          <a:custGeom>
            <a:avLst/>
            <a:gdLst>
              <a:gd name="textAreaLeft" fmla="*/ 0 w 360360"/>
              <a:gd name="textAreaRight" fmla="*/ 129960 w 360360"/>
              <a:gd name="textAreaTop" fmla="*/ 40680 h 1562040"/>
              <a:gd name="textAreaBottom" fmla="*/ 1521360 h 15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16360" y="3645000"/>
            <a:ext cx="513000" cy="2519280"/>
          </a:xfrm>
          <a:custGeom>
            <a:avLst/>
            <a:gdLst>
              <a:gd name="textAreaLeft" fmla="*/ 0 w 513000"/>
              <a:gd name="textAreaRight" fmla="*/ 185040 w 513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8461440" y="2421000"/>
            <a:ext cx="68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8748000" y="3213000"/>
            <a:ext cx="144360" cy="1295640"/>
          </a:xfrm>
          <a:prstGeom prst="downArrow">
            <a:avLst>
              <a:gd name="adj1" fmla="val 50000"/>
              <a:gd name="adj2" fmla="val 2243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32360" y="479736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Times New Roman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6699"/>
                </a:solidFill>
                <a:latin typeface="Times New Roman"/>
                <a:ea typeface="宋体"/>
              </a:rPr>
              <a:t>详写是为了更好地突出中心；略写部分是对详写部分的补充，旨在以小见大地表现“第一次真好”的普遍意义，同时，使文章内容更加充实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0"/>
            <a:ext cx="216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方正姚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324000" y="569880"/>
            <a:ext cx="25923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78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0" y="5084640"/>
            <a:ext cx="9144000" cy="1852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珍重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第一次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让生命多姿多彩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不断向新的领域进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87640" y="981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文中最后一句说“第一次愈多，生命愈益多姿多彩。愿你珍重第一次”的含义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2592360" cy="287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539640" y="0"/>
            <a:ext cx="216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方正姚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11:54:36Z</dcterms:created>
  <dc:creator>fj</dc:creator>
  <dc:description/>
  <dc:language>en-US</dc:language>
  <cp:lastModifiedBy>jufeng</cp:lastModifiedBy>
  <dcterms:modified xsi:type="dcterms:W3CDTF">2010-11-12T07:50:06Z</dcterms:modified>
  <cp:revision>152</cp:revision>
  <dc:subject/>
  <dc:title>第一次真好</dc:title>
</cp:coreProperties>
</file>