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B53-DD94-4A75-B4E6-A03D90B8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D56-A9E6-4B70-BF2F-EDB66710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113-7E11-48C7-B172-00BB5B26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D90-1230-44EC-9272-C90C97ED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6100-6F0E-4F20-AF44-129436D9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E17E-F616-4560-BEC5-AF9B3D83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4FC3-D034-4AE4-8FFA-C406849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F275-3749-4D19-90B2-7A58E005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9DB1-7AF8-45BF-9A7B-B2A6F646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C4CC-042C-4247-A032-17F12819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7E66-B390-405B-BAF5-6098EF75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B86-51DF-4531-91C2-D88B8B3F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FA17-1532-457C-A302-80329A49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93F7-7B95-4BDD-803F-78DD05B9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419F-C9EE-4AAB-80CA-BCDF278D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F284-CF84-4743-BA2D-BAE588FD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064F-82B4-4B25-91A1-F14A79AE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CD3-D341-4EDD-ACBB-E7D4A595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47A-1DF3-4156-8CEA-EB54970C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CD3-47C5-413A-9CC6-1CC389B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158-F6C1-4D4D-AD56-80A23CBB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CF0-4CDF-4795-A023-94DBCA7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81A-5D4A-44F8-B344-96306E67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894-E607-4A69-A4E2-BCD384C0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AD1F-538B-4D2E-AB0A-793D94D70D6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CED8-163E-4DD5-B234-9AD125C842C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情势危急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268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魏兵来速快，出乎意料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忽然”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气势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蜂拥而来”，“尘土冲天”，“分两路望西城县杀来”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双方力量极其悬殊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司马懿引大军十五万”，“孔明身边别无大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只剩二千五百军在城中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58972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众官表情侧面烘托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从官尽皆失色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课文的发展部分与高潮部分都写到“空城计”，是否重复？为什么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不重复。这两次写空城计，虽内容大体相同，但描写时有区别。第一次是写孔明传令，是孔明的具体部署，突出他的大智大勇。而第二次是司马懿眼中看到的，更加入了一些生动的细节描写。如：孔明“笑容可掬”；“旁若无人”，这些描写渲染了一种安闲、镇定的气氛，使得“空城计“的场面更加生动、逼真。使得司马懿”大疑“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700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司马懿和孔明都对空城计做了解释，叙说的内容一致，甚至用词也多有相同，作者这样描写的用意是什么？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49360"/>
            <a:ext cx="86421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司马懿对空城计的解释：“亮平生谨慎，不曾弄险”说明司马懿十分的了解诸葛亮，所以退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孔明对空城计的解释：“此人料吾平生谨慎，必不弄险”，说明孔明了解自己，又了解司马懿，更知道司马懿对自己的认识，可谓是“知己知彼”。他正是利用了司马懿对自己平时的认识，施“空城计”，解了西城之围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讨论：诸葛亮弄险成功，主要原因是什么？司马懿失败原因是什么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诸葛亮弄险成功的原因包括两方面，但主要原因在于诸葛亮知己知彼，他对司马懿可以说是了如指掌，甚至对司马懿见到空城之后怎么想、怎么说、怎么做都事先想到了，故此能险中取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司马懿虽是魏之名将，并与诸葛亮打过多次交道，了解诸葛亮的性格，但他对诸葛亮的了解不够全面，加上他刚愎自用，导致他中计失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072720" cy="5946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03280" y="98100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空城计之险让人惊叹，诸葛亮之智让人折服。毛主席曾说：“生子如仲谋，交友如鲁达，信心如唐僧，读书就读四大名著”。让我们多一些阅读，这样会还给我们更多的感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介绍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三国演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三国演义</a:t>
            </a: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是我国四大名著之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是我国第一部长篇小说作品。主要写了魏、蜀、吴三国的兴衰历程，塑造了一系列生动鲜明的人物形象。在中国文学史上和人民生活中具有不可估量的影响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作者罗贯中，元末明初小说家、戏曲家。名本，字贯中，号湖海散人。山西太原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25360"/>
            <a:ext cx="922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在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三国演义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众多的人物中，你最喜欢谁？喜欢他的什么？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92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说三要素：人物     情节    环境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  节：  开端  发展  高潮  结局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阅读小说的主要方法：通过环境、情节的分析来理解和把握人物形象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    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4312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75d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请用一句话                              概括这篇课文的主要内容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628640"/>
            <a:ext cx="2895480" cy="792360"/>
          </a:xfrm>
          <a:prstGeom prst="wedgeEllipseCallout">
            <a:avLst>
              <a:gd name="adj1" fmla="val -44625"/>
              <a:gd name="adj2" fmla="val 12915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方法指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3141720"/>
          <a:ext cx="8381880" cy="1843200"/>
        </p:xfrm>
        <a:graphic>
          <a:graphicData uri="http://schemas.openxmlformats.org/drawingml/2006/table">
            <a:tbl>
              <a:tblPr/>
              <a:tblGrid>
                <a:gridCol w="2209680"/>
                <a:gridCol w="3124080"/>
                <a:gridCol w="3048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谁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干什么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怎么样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主页</a:t>
            </a:r>
            <a:endParaRPr b="0" lang="en-US" sz="1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分析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找出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组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再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提炼压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2286000" cy="4495680"/>
          </a:xfrm>
          <a:prstGeom prst="wedgeEllipseCallout">
            <a:avLst>
              <a:gd name="adj1" fmla="val 36597"/>
              <a:gd name="adj2" fmla="val -5572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司马懿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十五万大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望西城而来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孔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只剩二千五百人在城中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590920"/>
            <a:ext cx="3124440" cy="1828800"/>
          </a:xfrm>
          <a:prstGeom prst="wedgeRoundRectCallout">
            <a:avLst>
              <a:gd name="adj1" fmla="val -28861"/>
              <a:gd name="adj2" fmla="val -92537"/>
              <a:gd name="adj3" fmla="val 1666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司马懿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十五万大军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1981080"/>
            <a:ext cx="1219320" cy="3353040"/>
          </a:xfrm>
          <a:prstGeom prst="wedgeEllipseCallout">
            <a:avLst>
              <a:gd name="adj1" fmla="val -39194"/>
              <a:gd name="adj2" fmla="val -60462"/>
            </a:avLst>
          </a:prstGeom>
          <a:solidFill>
            <a:srgbClr val="75df7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581280"/>
            <a:ext cx="838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505320"/>
            <a:ext cx="1218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04920"/>
            <a:ext cx="1447920" cy="914400"/>
          </a:xfrm>
          <a:prstGeom prst="wedgeEllipseCallout">
            <a:avLst>
              <a:gd name="adj1" fmla="val -151865"/>
              <a:gd name="adj2" fmla="val 4566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方法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4724280"/>
            <a:ext cx="297180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第一部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557360"/>
            <a:ext cx="739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开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发展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高潮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结局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4560" y="1557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兵临城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24210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临危施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0560" y="3352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3-4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司马中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365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5-6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孔明释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60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分析故事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70028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诸葛亮为何施用空城计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411280" cy="147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80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141720"/>
            <a:ext cx="81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从何处看出当时的情势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十分的危急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番茄花园</cp:lastModifiedBy>
  <dcterms:modified xsi:type="dcterms:W3CDTF">2010-05-07T06:24:02Z</dcterms:modified>
  <cp:revision>1</cp:revision>
  <dc:subject>www.dearedu.com</dc:subject>
  <dc:title>www.dearedu.com</dc:title>
</cp:coreProperties>
</file>