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84D-9178-4837-A123-3FC21227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1C4-AD0A-4293-BF78-1DD86347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F2A-DE91-41D0-A79A-067D506A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C03-34B8-451B-ABF2-3E72A546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FE56-2803-4B89-9143-E1C00D54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05FB-E85C-4853-875B-375CC4EE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DBE9-0E89-4F71-9EE7-6DD3DF6D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95CD-31C9-4E49-AF1F-CD297F0F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0337-250E-4B63-A908-3FF8E280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C052-2E6C-450C-A91F-2EE436A4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4D1C-AEDE-4611-8B85-A8E91B71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EF9-81F4-46AC-B819-60978976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67E5-F11B-4973-BEAC-C376571B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7FDF-D66C-4F81-B936-086176DC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DECB-88A0-435C-9719-D90CD5AD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EFF0-CCCE-4E15-987C-F1FEF166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3E5C-0CCA-443F-84A4-E1F69181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52B34-E727-4AFE-9D92-30C16539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FF08-04CD-453B-BF3E-DEE8ED9B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3EE67-7E35-4A0A-BF24-7B6556ED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0960-E53A-4C8B-AEE4-E3B3EDA1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C118C-A311-4D31-AE12-E1105A78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087-96AF-4A13-9895-6F7A2BB3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28D1-9F76-49C0-877B-FCBE6233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65004-8BCC-43B5-80B3-89DBFA4F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79C6-1216-49C4-A2F9-0B175623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07496-9615-4E59-86A6-A5BEC31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C59C-6012-4515-BF0E-28AC3A74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B541-25F6-4F7D-9025-70625B41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70BA-5EF2-4258-9F75-4B02FB70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CA750-7F72-4566-8C9B-87B83EC7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1C82F-4B8F-408F-96C8-608150AF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A3ADE-DE45-45F8-B253-AA81DEB1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DE4-0B92-41C0-93BF-8C13C16F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C005-6C93-4B12-912A-DB7E7ABA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AFC37-B8C8-40E1-8019-4FD31A5C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986CE-1727-46BA-B1FB-8ECB64D2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411DD-8E96-4E0B-831F-DF770FD0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F3B6-8AF4-4DBD-B551-5CEAF0DA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DF02C-8EC0-4867-9BFA-791D81B6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E1D85-AE5D-4A75-A637-977B7636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23FDF-18F2-4A47-B5F5-A4F664DC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6DD6-D305-45B6-8D41-D9742EFB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D77-3558-43A1-8D83-1C2796AD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271-D28B-4BD7-BB8C-650B0352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E87-1F10-4D37-85D8-906F2CAC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870-51F6-453E-834F-7ED11E92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8E6-EBD0-4EEF-BBBE-97295081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A09B-743C-479C-BCE5-EDA201FB61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BB82-227D-4432-A5ED-B9BB4ADA03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1A34-3461-4EFF-AFF3-D0E8C90BD7F5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83A-F603-4F29-A379-053438A244FE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6920" y="765000"/>
            <a:ext cx="71280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诗词复习大比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1638360" y="5740560"/>
            <a:ext cx="75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制作：黑龙江鹤岗英华中学  赵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第四组必答题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请接上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五十弦翻塞外声，沙场秋兵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弓如霹雳弦惊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赢得生前身后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在河之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似曾相识燕归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8842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明朝散发弄扁舟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山色有无中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欲上青天揽明月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波澜动远空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中间小谢又清发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荆门九派通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君子好逑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</a:rPr>
              <a:t>抢答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题打出后就可举手，先举手者为抢答者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必须全答对，答对每组题加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分，有一道答错扣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每组题为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道。答错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道就倒扣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友情提示：请先看好题目，有了把握再举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6630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了却君王天下事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安得广厦千方间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浣溪沙》中写出作者对时光流逝的惋惜和对生命珍视之情的语句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汉江临眺》 中以苍茫山色烘托水势的浩瀚，如电影境头般展现出汉江的山光水色的句子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宣州谢朓楼饯别校书叔云》中诗人借用比喻，抒发内心愁苦、愤懑之情的句子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　密州出猎》中化用典故表达自己希望得到朝廷信任和重用之情的句子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汉江临眺》 中 写江水汹涌的句子是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破阵子》抒发词人一生中的事业与抱负，并发尽无尽感叹的句子是：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君子于役》一诗中统领全诗的中心句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人生在世不称意，</a:t>
            </a:r>
            <a:r>
              <a:rPr b="1" lang="zh-CN" sz="36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僵卧孤村不自哀， </a:t>
            </a:r>
            <a:r>
              <a:rPr b="1" lang="zh-CN" sz="36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《宣州谢朓楼饯别校书叔云》表现作者不甘陈沦、豁达乐观精神的句子是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59328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在《行路难》中最能表现李白面对挫折积极向上，对理想执着追求的诗句是：（                        ） 但是与之相反的是《宣州谢楼饯别校书叔云》中（                  ）却又表现出他面对困难消极避世的思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汉江临眺》中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写出山光水色，“诗中有画”的句子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醉里挑灯看剑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密州出猎》中作者写出回报人们倾城而来观看其守猎盛情的语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关雎》中统领全诗的句子是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：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51832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破阵子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为陈同甫赋壮词以寄之》中写出战斗之激烈和顺利的语句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人生在世不称意，</a:t>
            </a:r>
            <a:r>
              <a:rPr b="1" lang="zh-CN" sz="32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。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君子于役》中用侧面烘托手法表现对久役不归的丈夫思念心情的诗句是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浣溪沙》一词的上片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(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，              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两句构成“新”与“旧”的对比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江城子　密州出猎》抒写人到中年的主人公，壮志未酬的感叹的诗句是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《宣州谢楼饯别校书叔云》诗人借前人之能称许李云和自己才能的语句是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创新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931760"/>
            <a:ext cx="837396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题打出后就可举手，先举手者抢先回答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必须全答对，全答对每题加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，答错扣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每组题为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友情提示：请先看好题目，有了把握再举手。举手前可以互相商量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猜谜语（猜诗中涉及的人物典故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125000"/>
            <a:ext cx="854064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此地别燕丹，壮士发冲冠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昔时人已没，今日水犹寒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寄书元有雁，食雪不离羊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施尽风霜节，心悬日月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岁岁金河复玉关，朝朝马策与刀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三春白雪归青冢，万里黄河绕黑山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答案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荆轲刺秦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苏武牧羊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昭君出塞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必答题（一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要求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如果每组有说话或其它违反纪律者扣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每组的裁判请公正并及时打好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每组从后面蛇行轮答，每人答一题，不许空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限定时间为：每组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c0c"/>
                </a:solidFill>
                <a:latin typeface="Arial"/>
              </a:rPr>
              <a:t>分钟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54064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你从下面所罗列的作者中任选两位，分别写出一则课文中表达他们的志趣，追求，或展现他们的胸怀、抱负的名言警句，意思要相对完整。作者：孟子、王勃、范仲淹、周敦颐、苏轼、诸葛亮、文天祥。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620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孟子：生，亦无所欲也，义，亦我所欲也；二者不可得兼，舍生而取义者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王勃：海内存知己，天涯若比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范仲淹：先天下之忧而忧，后天下之乐而乐。   （不以物喜，不以己悲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周敦颐：予独爱莲之出淤泥而不染，濯清涟而不妖，中通外直，不蔓不枝，香远益清，亭亭净植，可远观而不可亵玩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苏轼：但愿人长久，千里共婵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c0c"/>
                </a:solidFill>
                <a:latin typeface="Arial"/>
              </a:rPr>
              <a:t>诸葛亮：苟全性命于乱世，不求闻达于诸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用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旧瓶装新酒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的方法会为你的作文增彩，不信你看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41468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c0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清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清明时节雨纷纷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路上行人欲断魂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借问酒家何处有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牧童遥指杏花村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81968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仿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清明时节沙纷纷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路上行人满面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借问青山何处有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牧童遥指盆景中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采用此法让旧瓶装上新酒吗？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要求：改后的诗要与环保有关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2028960"/>
            <a:ext cx="84690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登幽州台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唐  陈子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前不见古人，后不见来者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念天地之悠悠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我也能让酒瓶装上新酒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登幽州台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前不见古人，后不见来者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5900"/>
                </a:solidFill>
                <a:latin typeface="Arial"/>
              </a:rPr>
              <a:t>念天地之悠悠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前不见青山，后不见绿水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c0c"/>
                </a:solidFill>
                <a:latin typeface="Arial"/>
              </a:rPr>
              <a:t>念天地之污染，独怆然而涕下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2090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总结：古典诗词是中华民族文化的精髓。我们不应只是为此而骄傲，更应学为我用，让它发扬光大。所以背诵、积累是途径，运用是关键。希望同学们学习古诗词能真正做到勤学、爱学、会学、巧学、妙学。祝同学们在各种考试中能有个满意的结果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2492280"/>
            <a:ext cx="914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请分别说出有关春、夏、秋、冬的诗句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132600" y="4221000"/>
            <a:ext cx="533160" cy="16084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818400" y="4221000"/>
            <a:ext cx="533160" cy="1608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627280" y="4221000"/>
            <a:ext cx="533520" cy="1608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941480" y="4221000"/>
            <a:ext cx="555480" cy="1600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268360" y="1844640"/>
            <a:ext cx="4464360" cy="16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3203640" y="4581360"/>
            <a:ext cx="2879640" cy="8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第一组必答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请接下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人生在世不称意 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持节云中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？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无可奈何花落去 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 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蓬莱文章建安骨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马作的卢飞快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000c0c"/>
                </a:solidFill>
                <a:uFillTx/>
                <a:latin typeface="Arial"/>
              </a:rPr>
              <a:t>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窈窕淑女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抽刀断水水更流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俱怀逸兴壮思飞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郡邑浮前浦 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楚塞三湘接， 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江流天地外 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乱我心者，</a:t>
            </a:r>
            <a:r>
              <a:rPr b="1" lang="zh-CN" sz="4800" spc="-1" strike="noStrike" u="sng">
                <a:solidFill>
                  <a:srgbClr val="000c0c"/>
                </a:solidFill>
                <a:uFillTx/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406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必答题（二）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组先由下一组指定主答者和帮助者各一名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组选手根据题目背原诗，注意一定要说出作者否则扣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每题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分，答错不扣分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c0c"/>
                </a:solidFill>
                <a:latin typeface="Arial"/>
              </a:rPr>
              <a:t>第二组必答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91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请接上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对此可以酣高楼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鬓微霜，又何妨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西北望，射天狼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亲射虎，看孙郎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梦回吹角连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423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苟无饥渴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留醉与山翁 。  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赢得生前身后名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左牵黄，右擎苍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昨日之日不可留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去年天气旧亭台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400" spc="-1" strike="noStrike" u="sng">
                <a:solidFill>
                  <a:srgbClr val="000c0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荆门九派通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组必答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请接下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无可奈何花落去 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蓬莱文章建安骨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会挽雕弓如满月 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求之不得，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马作的卢飞快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2400" y="647280"/>
            <a:ext cx="88423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6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关关雎鸠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7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蒹葭苍苍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8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襄阳好风日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9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为报倾城随太守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0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酒酣胸胆尚开张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1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为报倾城随太守，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，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12.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了却君王天下事， </a:t>
            </a:r>
            <a:r>
              <a:rPr b="1" lang="zh-CN" sz="4000" spc="-1" strike="noStrike" u="sng">
                <a:solidFill>
                  <a:srgbClr val="000c0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。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8:18:04Z</dcterms:created>
  <dc:creator>Legend User</dc:creator>
  <dc:description/>
  <dc:language>en-US</dc:language>
  <cp:lastModifiedBy>y</cp:lastModifiedBy>
  <dcterms:modified xsi:type="dcterms:W3CDTF">2008-05-05T02:23:08Z</dcterms:modified>
  <cp:revision>44</cp:revision>
  <dc:subject/>
  <dc:title>幻灯片 1</dc:title>
</cp:coreProperties>
</file>