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CF066-EA66-425B-8E09-C59A7C91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C58F7-2D27-4E18-B37E-EC77CF8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14FE0-A779-44E7-9413-3D39C867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4699E-16DF-4A7D-95C1-3E1816FD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12D87-AC1B-4B90-B03F-60F0D000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891CB-4F97-4A07-8A7D-2896BAD3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BD445-37A2-433B-9B5B-E23FA82D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09E2B-AD1F-4870-8D27-21C23E6C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25222-9297-44B8-8289-C2B1DFDF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ACB20-C77A-439A-A546-2CB09D08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0A276-9EC3-4036-9F6E-54022669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E77DD-3F48-48DC-AE65-F15A8A1A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6D1A-91EA-44DA-A0CC-8006EC0B0811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&#35838;&#20214;/&#12298;&#23385;&#26435;&#21149;&#23398;&#12299;&#36319;&#35835;&#35838;&#20214;.sw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080" y="45075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书对于智慧也像体操对于身体一样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爱迪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442800"/>
            <a:ext cx="445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95080" y="117000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一本好书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就如同和一个高尚的人在谈话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歌德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23520" y="2754360"/>
            <a:ext cx="3998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读书给人以快乐，给人以光彩，给人以才干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培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59280" y="3333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ff"/>
                </a:solidFill>
                <a:latin typeface="Arial"/>
              </a:rPr>
              <a:t>小结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6320" y="2347920"/>
            <a:ext cx="729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7400" y="1987560"/>
            <a:ext cx="7290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行楷"/>
              </a:rPr>
              <a:t>非复吴下阿蒙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421000"/>
            <a:ext cx="484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429000"/>
            <a:ext cx="4751640" cy="1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59120" y="2425680"/>
            <a:ext cx="131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349360"/>
            <a:ext cx="45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9120" y="24256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421000"/>
            <a:ext cx="16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ff"/>
                </a:solidFill>
                <a:latin typeface="Arial"/>
              </a:rPr>
              <a:t>学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35733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ff"/>
                </a:solidFill>
                <a:latin typeface="Arial"/>
              </a:rPr>
              <a:t>习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916280"/>
            <a:ext cx="860436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吴下阿蒙</a:t>
            </a:r>
            <a:endParaRPr b="0" lang="en-US" sz="6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士别三日，刮目相看　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有个成语是说读书对人们大有益处，它能够概括本文的内容，试问是哪个成语？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81200" y="3053880"/>
            <a:ext cx="496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Times New Roman"/>
              </a:rPr>
              <a:t>开卷有益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ffff00"/>
                </a:solidFill>
                <a:latin typeface="Times New Roman"/>
              </a:rPr>
              <a:t>再见</a:t>
            </a:r>
            <a:endParaRPr b="0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3800" y="2276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  <a:ea typeface="黑体"/>
              </a:rPr>
              <a:t>孙 权 劝 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目标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3055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揣摩重点词语及句子的含义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出自本文的成语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领悟读书有益于人的发展和完善的道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500280"/>
            <a:ext cx="18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284640"/>
            <a:ext cx="105951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重   点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掌握重点字、词、句的含义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三位人物说话时的口吻、神态、心理的体会。   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、读书有益之道理的领悟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284004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13372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司马光（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19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086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，字君实，北宋政治家，史学家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《资治通鉴》是司马光主持编纂的一部编年体通史。记载了从战国到五代共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1362</a:t>
            </a:r>
            <a:r>
              <a:rPr b="0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年间的史事。内容以军事政治为主，略与经济文化。书名“资治”，说明本书编撰的目的是为封建统治阶级提供政治借鉴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784080"/>
            <a:ext cx="3816360" cy="520560"/>
          </a:xfrm>
          <a:prstGeom prst="rect">
            <a:avLst/>
          </a:prstGeom>
          <a:solidFill>
            <a:srgbClr val="cc9900">
              <a:alpha val="45000"/>
            </a:srgbClr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9900"/>
                </a:solidFill>
                <a:latin typeface="Times New Roman"/>
                <a:ea typeface="黑体"/>
              </a:rPr>
              <a:t>司马光与《资治通鉴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>
            <a:hlinkClick r:id="rId3"/>
          </p:cNvPr>
          <p:cNvSpPr/>
          <p:nvPr/>
        </p:nvSpPr>
        <p:spPr>
          <a:xfrm>
            <a:off x="7740720" y="55389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课文，注意人物对话的语气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当涂掌事，不可不学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孤岂欲卿治经为博士邪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言多务，孰若孤？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者才略，非复吴下阿蒙！”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大兄何见事之晚乎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8960" y="1133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语重心长，谆谆告诫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5800" y="213372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强调并不是吕蒙研究儒家经典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当专享经学传授的学官，而是有别的目的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12600" y="3859200"/>
            <a:ext cx="4569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反问句，否定吕蒙辞以多条的理由。要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读强调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6040" y="5334120"/>
            <a:ext cx="3838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要读出惊讶不解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2360" y="62784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感叹句，指责中带有自豪的语气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</a:t>
            </a:r>
            <a:r>
              <a:rPr b="0" lang="zh-CN" sz="6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翻译五字法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                                                                                   </a:t>
            </a:r>
            <a:r>
              <a:rPr b="0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留</a:t>
            </a:r>
            <a:r>
              <a:rPr b="0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号、国号、地名、官名、人名、书名可照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替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现代汉语词语替换古义词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调整倒装句的语序，使之符合现代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补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补出省略句中省略的内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           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删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删去没有实在意义的词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2120" y="4065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语的习惯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2880" y="1530360"/>
            <a:ext cx="11559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录不翻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0920" y="5473800"/>
            <a:ext cx="44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6755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卿今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涂掌事  （动词，掌管。）                        ② 但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涉猎  （动词，应当、应该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蒙辞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军中多务（介词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用、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自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为大有所益（和“为”组成一个词，认为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往事耳    （动词，知道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大兄何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事之晚乎（动词，认清、识别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①自以为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有所益（副词，非常，很。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兄何见事之晚乎（形容词，年长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重点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卿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掌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岂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欲卿治经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博士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邪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但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涉猎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往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耳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辞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以军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蒙乃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大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何见事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之晚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士别三日，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更刮目相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及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鲁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寻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当道，当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728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难道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482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7280" y="2060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专掌经学传授的学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86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只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868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粗略的阅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74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历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584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0000" y="306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推托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000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从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220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712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清事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6856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重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4760" y="4653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另眼相看，用新的眼光看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9920" y="5157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……的时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5084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43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重点句子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蒙辞以军中多务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孤岂欲卿治经为博士邪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但当涉猎，见往事耳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4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士别三日，即更刮目相待，大兄何见事之晚乎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5</a:t>
            </a: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、卿言多务，孰若孤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3:51Z</dcterms:created>
  <dc:creator>huyumei</dc:creator>
  <dc:description/>
  <dc:language>en-US</dc:language>
  <cp:lastModifiedBy>rds</cp:lastModifiedBy>
  <dcterms:modified xsi:type="dcterms:W3CDTF">2006-09-01T13:45:29Z</dcterms:modified>
  <cp:revision>43</cp:revision>
  <dc:subject/>
  <dc:title>幻灯片 1</dc:title>
</cp:coreProperties>
</file>