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7EE-4EB4-469E-A1BF-3B4A71CC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508-ECDF-4A7B-B453-9ABB52CB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8C8-8CA8-4107-98A6-2E11D77E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B2A-837D-45E1-B5EA-92BCED78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0D16-219B-4F40-BBF3-13C50408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88AB-C421-4FF1-BE5D-23A748BC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BDBA-194D-44B1-86A7-0B17829B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530D-8664-42E0-9B43-1AFFD797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BA6F-29C8-4AEB-96E5-E45CD4E1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36CE-5F50-49D3-8795-E50FD946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B630-1B5B-4DFA-BAB1-9E968D7E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D5F-C778-4CBD-B328-B6162823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DCEE-FE2D-47CD-9026-43E26E26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A18-20DC-4FF3-902B-7AE17AEA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5B0A-E29A-438C-9632-83C69877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7386-886A-4D1F-A102-42FC2F23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49D7-5148-4094-B102-E0D65D9D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35A-7444-4729-B49F-3F190FF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A1C-6EB9-4556-9439-8488020C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7BC-F27B-486A-A1B1-1F6B151B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02F-C944-4B9D-B69D-CD196B49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3FC-3A34-436E-9F0B-8DDE94B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7B2-F0C4-4859-B55F-AF276AB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BF6-DA43-4A62-B5ED-3E438F4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107F-D380-4601-8281-C70DF7E79CB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F630-3750-4106-80EC-1737AAC568C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  <a:ea typeface="华文隶书"/>
              </a:rPr>
              <a:t>欢迎指导：           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细黑"/>
              </a:rPr>
              <a:t>江苏省赣榆高级中学：张永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  <a:ea typeface="楷体_GB2312"/>
              </a:rPr>
              <a:t>读李贺作品有感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风吹地百草干，华容碧影生晚寒。携盘独出月荒凉，茵草冷烛露幽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云中谁人骑碧驴，一心愁谢无君怜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烟花无物结同心，无情有恨何曾见？雨冷香魂吊书客，忆君清泪水如铅。纵有长歌哭短歌，青筒书虫何以堪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探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仿宋_GB2312"/>
              </a:rPr>
              <a:t>宋代诗论家严羽在《沧浪诗话》中说：“太白仙才，长吉鬼才”，后人称李白为诗仙，李贺为诗鬼，请思考：诗鬼与诗仙的区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5202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将进酒 </a:t>
            </a:r>
            <a:br>
              <a:rPr sz="5400"/>
            </a:b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李贺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5400"/>
            </a:br>
            <a:br>
              <a:rPr sz="54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琉璃钟，琥珀浓， 小槽酒滴真珠红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烹龙炮凤玉脂泣， 罗帏绣幕围香风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吹龙笛，击鼍鼓； 皓齿歌，细腰舞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况是青春日将暮， 桃花乱落如红雨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劝君终日酩酊醉， 酒不到刘伶坟上土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524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天才的第一声啼哭，</a:t>
            </a:r>
            <a:br>
              <a:rPr sz="6000"/>
            </a:b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也决不是一首音乐。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行楷"/>
              </a:rPr>
              <a:t>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天才与勤奋嫁接才能结出最灿烂的果实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-2289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隶书"/>
              </a:rPr>
              <a:t>天   上   谣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李   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天 上 谣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河夜转漂回星， 银浦流云学水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东指羲和能走马， 海尘新生石山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面一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月桂飘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月宫里的桂树啊，永不枯萎，那袭人的馨香也不会销歇。看吧，那踏香而来的仙女们正在采摘你的美丽，她们要把你的花朵装进香囊，她们要用你的馨香装点衣带上最美的饰物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二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秦妃望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晨光熹微，弄玉慢慢卷起窗帘，当窗眺望，那窗外的晨景，清新而明净，咦！窗前的那棵梧桐树上，怎么会立着一只小巧的青凤，难道它就是当年引导我和萧史升天的那只神鸟吗？时间过的真快啊，弹指千余年，而我红颜未老，那青凤也娇小如故。天宫真好啊！任凭时间推移，也没有在我们的身上留下任何痕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三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龙耕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仙人王子晋又抚起了他那细长的笙管，轻轻一吹，依然是那熟悉的凤凰鸣，在那熟悉的旋律中，只见一条条神龙翻耕着烟云，播种着玉芝草，多么悠闲自在！多么潇洒飘逸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四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仙女寻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系着粉霞色的丝带，穿着藕丝色的长裙，仙女们漫步小洲，踏着一地青翠。她们指顾言谈，走过林木的茂密，她们采摘兰花，享尽山川的秀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钱  钟  书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皆深有感于日月逾迈，沧桑改换，而人事之代谢不与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y</cp:lastModifiedBy>
  <dcterms:modified xsi:type="dcterms:W3CDTF">2008-12-24T02:39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