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3.gif" ContentType="image/gif"/>
  <Override PartName="/ppt/media/image8.jpeg" ContentType="image/jpeg"/>
  <Override PartName="/ppt/media/image5.png" ContentType="image/png"/>
  <Override PartName="/ppt/media/image29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9.jpeg" ContentType="image/jpeg"/>
  <Override PartName="/ppt/media/image25.gif" ContentType="image/gif"/>
  <Override PartName="/ppt/media/image6.jpeg" ContentType="image/jpeg"/>
  <Override PartName="/ppt/media/chimes.wav" ContentType="audio/x-wav"/>
  <Override PartName="/ppt/media/image23.gif" ContentType="image/gif"/>
  <Override PartName="/ppt/media/image16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2.gif" ContentType="image/gif"/>
  <Override PartName="/ppt/media/image10.png" ContentType="image/png"/>
  <Override PartName="/ppt/media/image1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1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267-969A-4E13-B2B1-7EA9601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78D-22F5-49D4-A7ED-4F656C9E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AAE0-DE95-4F57-BF97-F97893C5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C0B68-780E-423C-BE81-9CDFF237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8836D-4713-49C0-967E-8BC40F58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23834-2B07-47A4-959D-20FE79A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44FEE-A389-4F2C-8BD2-E040BFC2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CA30D-59D6-435D-9161-54ED3D0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F4703-A953-41F2-9F8F-32682721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F9EE0-D090-42C5-AC8A-17EDB4EE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D1E2C-9C7B-4DBC-AF04-ED96B9B3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E94E8C-C654-4BC3-B31C-962FFF5F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5B7-67F0-4B2A-81D5-8FE9E4E2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8F9381-2945-41A9-A883-E7ED436B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28D1BC-040C-4F61-9161-E127ED3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0128B8-AC39-47CD-9D19-38857562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D63BA2-4C57-42BD-B1C1-4EEFE61D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205CD9-237A-4B66-8250-9DD889D5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F3CADE-C112-4F23-AFA8-9B60A4C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BCE7E-44A4-40EE-8C6A-FF62E46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EFD70-40A3-4EAB-947B-FF8DDA4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F40E4E-3DD8-42E0-87B7-BA49FEA5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3CD87-FA0B-4C53-97CA-031D3D9F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CD9-0364-4924-A965-E39ADBB5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EA3330-EAEA-49CA-8E8C-28112F4E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7B5-A998-41CC-93D4-2890763B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71D1-E1D2-4821-AF8E-AFF2A6FF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141D-8427-4042-8FAF-4AE010D4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B446-70C3-40DB-8755-A362D543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B296-F55D-4766-8C2D-4A4A6A63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503-A43D-4AEC-82D7-8F5499DB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E6F3-1835-4178-99C6-ED3E7C57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75A-4993-4E25-A42C-C3144E7D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DDB-BE6E-4B8B-A945-65965D68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E4C1-18B5-4E81-B108-E3E35EA0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CA31-5C98-4428-89CF-DBE4C18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2B2D-8AE2-4CAA-B170-37CAE7C4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D728-AFF9-45CB-89B4-DF611C56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6E07-10C1-4441-9B53-801236E6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BA69-C639-498E-8C33-F57F76C9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8987-6829-4791-9C85-9326DAFC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19DB-1C8D-42C0-9EE1-F7571028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6E95-A018-4F92-9593-88CD1107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10B-9B60-43F7-86D0-A235971C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E187-1EF8-4838-AF37-41BAE8DA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8695-857D-4F5D-9E06-C2644F8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4F38-EC67-4221-9A40-DA78E6A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16E7-3ABA-4827-AD15-2C763F23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37CA-2A41-43E9-9587-6742F09C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51D2-F19B-45E1-95A8-6678574B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ACBA-5F0F-4BFF-BA90-75F68DC8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A9C99-BC2E-4F0E-8C8A-86023A9C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E52F-52B7-432F-8ABA-8DE3A464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171A-E15B-44AB-BA62-9557F8E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65D-5A7A-4C92-8766-2B2391F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5CC0-762C-4338-BBEF-DC8C228B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D56EC-8CE1-44D5-BD85-0761E91D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22D3-E302-43CC-95D4-50916965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80FE-EF33-4D19-A881-27B2D0D2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7862-1915-43BF-B1BF-29722E06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F4CF-F18E-46C8-9CBF-3FB777A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CEE2-A91F-4E1E-B4E2-95493CF1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0CC3-2300-4707-9358-7249D32A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C160-872C-477E-BFF0-4CC48CC4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A2AC-7810-422B-850F-BE420591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A61-585E-4AAF-B965-4ECB819E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BB361-B397-4DC1-93FB-6D605E2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04300-B29A-4AFB-AE67-EA946BCD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F5A6-38AD-4FAC-A01B-4E3011F5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BE21-A3D7-4FA4-B116-894BB210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D540-1CBE-423B-80BF-90B4E56C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D0320-9619-4EB8-B76D-F5CC7AB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B36B9-F45A-4090-AD0D-41A4DE9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8A0F-7F7C-4AD9-B8D2-A649979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C392-5321-47E0-8965-112B9353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1FE7A-F4FF-4250-9EE3-B735783E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C8F-BDC4-4870-BB9A-C0B33BF3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5C7AA-29C3-4E4E-9FCE-F2EDACFE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9DC11-2156-4A61-BB4A-AB11365B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92ED-3A90-4360-AB05-D06E615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CB23-6E90-4866-BBC9-E8E3237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BDF59-B1EF-4BFD-8C4D-8227B358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7394-03C0-48F0-A0D1-1901754F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E61A-D4B5-49C1-9953-29A7BA9C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0AC4-0F1E-4E4B-986F-1D767EAB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A573-43EB-4AD8-8FA9-E20A95D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9C347-2DBB-406D-BA91-D7344F42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609-0598-48A5-9532-2FEE0C4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FA0F-CFF9-467E-BA62-26ED555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50E8-B39E-4A8A-B1A4-A0C6760C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FFD4-27E6-4541-A9C7-A7069B4B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4462-8EE2-4AB7-9BBC-94B55992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4A05-3DCE-47EE-A9F3-51B218F5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0C72E-3EE3-4C4E-9AF0-451F7FDC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6DE51-10A4-4787-8E6A-26D45F25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2CEA-25B7-4559-BF84-C5B124B9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BDECF-1FC1-417F-BA85-0629164E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B3C4F-9FFC-4A36-AF2A-81E5E73A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10B-D47F-47E3-A4EF-0F6159D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36D8-DEE2-4AB2-9C40-7E803318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BB67E-612F-4FF0-AD93-27155EBF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6C3DC-AEF1-41B6-BBA4-EDE31299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07F7-2950-48D5-A947-A16AEC8D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70A66-28AB-4C63-A19E-A46F544A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C0848-ED64-4634-9DC3-61E4E2A6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CD3CE-5D98-458F-B309-C8C0772F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B1589-A6A8-4D51-AD85-A8F5B788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D1D8C-9206-4B58-B49C-B3B577BE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69338-D383-452D-9C40-3406D28D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A48-1995-4766-BE25-093D96AC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D1B5D-1774-4724-8E63-889C6D7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36652-16DB-4D20-8546-5FCF6396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BBDF5-A3A1-4804-846F-071D00C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9C890-B8D7-48A4-B586-C24B297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4A0A-3255-4EBC-A473-1E6FEF95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1823C-12CE-4E6B-8875-D5B443D0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C20D-F2F7-41B0-AD71-2AB51600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CB31E-FA07-43F0-946F-82B7ED5E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D27F5-8050-4E3E-96D0-E3DC8954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CB1F9-EB48-493D-8298-A1E280E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3348-76A2-4B30-810E-BE417263B02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1F4D-4FD1-4E3B-84FF-D2276652918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FE89-66DF-40E3-A698-C276D087220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67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1145-7ECB-4EFF-8DF0-D6D0E87605B1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265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473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BDD-7B80-4C13-BE76-724D4009167D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4429080" y="335268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0A05-721D-4E61-9E82-3460302F48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89E2-F9D4-46CA-8751-CED84D660E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36F8-4F05-4AF1-8836-118408E0B7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930A-7723-4CE1-892D-B60D1A8052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C8FC-743B-4712-987B-725A5652019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479840" y="3048120"/>
            <a:ext cx="253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1371600" y="17524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义务教育课程标准实验教科书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00200" y="3733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743200" y="2438280"/>
            <a:ext cx="33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语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7" name=""/>
          <p:cNvSpPr/>
          <p:nvPr/>
        </p:nvSpPr>
        <p:spPr>
          <a:xfrm>
            <a:off x="289548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七年级下册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00360" y="4869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制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358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第一段写了件什么事？体现了包拯的什么性格？在写法上有何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任知县时破获的一起割他人牛舌案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聪明机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语言简洁，运用语言描写体现人物性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语言描写写出了他办事的什么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一句：表现出包拯成竹在胸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二句：写他看穿盗贼伎俩，并先发制人，使其惊恐万分，顺利破案</a:t>
            </a:r>
            <a:r>
              <a:rPr b="1" lang="zh-CN" sz="2400" spc="-1" strike="noStrike">
                <a:solidFill>
                  <a:srgbClr val="00cc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Verdana"/>
                <a:ea typeface="方正姚体"/>
              </a:rPr>
              <a:t>古判断句的形式，翻译时加判断词“是”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字希仁，是庐州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今安徽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人。……当天长县知县。有个盗贼割了别人家耕牛的舌头，牛主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状。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只管回家去，杀了牛卖了它。”不久又有一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别人私自宰杀耕牛，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为什么割了别人家耕牛的舌头，又来告他的状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这个盗贼感到很震惊，也很服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1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知端州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殿中丞。端土产砚，前守缘贡率取数十倍以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权贵。拯命制者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才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足贡数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岁满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不持一砚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324000" y="1916280"/>
            <a:ext cx="2087640" cy="431640"/>
          </a:xfrm>
          <a:prstGeom prst="wedgeRoundRectCallout">
            <a:avLst>
              <a:gd name="adj1" fmla="val 110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调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16720" y="198900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趁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00720" y="404640"/>
            <a:ext cx="1081080" cy="432000"/>
          </a:xfrm>
          <a:prstGeom prst="wedgeRoundRectCallout">
            <a:avLst>
              <a:gd name="adj1" fmla="val 149263"/>
              <a:gd name="adj2" fmla="val 1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大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56000" y="3357720"/>
            <a:ext cx="1081080" cy="431640"/>
          </a:xfrm>
          <a:prstGeom prst="wedgeRoundRectCallout">
            <a:avLst>
              <a:gd name="adj1" fmla="val -63800"/>
              <a:gd name="adj2" fmla="val -1459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赠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35640" y="3573360"/>
            <a:ext cx="2233440" cy="432000"/>
          </a:xfrm>
          <a:prstGeom prst="wedgeRoundRectCallout">
            <a:avLst>
              <a:gd name="adj1" fmla="val 4936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当政满一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708360" y="4005360"/>
            <a:ext cx="1513080" cy="360360"/>
          </a:xfrm>
          <a:prstGeom prst="wedgeRoundRectCallout">
            <a:avLst>
              <a:gd name="adj1" fmla="val 63115"/>
              <a:gd name="adj2" fmla="val -3605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仅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转到端州当知府，升为殿中丞。端州出产砚台，此前的知府趁着进贡大都敛取是贡数几十倍的砚台，来赠送给当朝权贵。包拯命令制造的砚台仅仅满足贡数，当政满一年没拿一方砚台回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第二段写了件什么事？和第一段比较，本段有何特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他在端州任职期间严格控制上贡端砚的数量，并没有接受一方砚台的馈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得比较概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包拯为官廉洁表现在哪两个方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他坚决、有效地堵死了官吏用来趋炎附势的源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“从我做起”“岁满不持一砚归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契丹，契丹令典客谓拯曰：“雄州新开便门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欲诱我叛人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刺疆事耶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拯曰：“涿州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开门矣，刺疆事何必开便门哉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其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遂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无以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0920" y="2060640"/>
            <a:ext cx="1944720" cy="431640"/>
          </a:xfrm>
          <a:prstGeom prst="wedgeRoundRectCallout">
            <a:avLst>
              <a:gd name="adj1" fmla="val -21018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出使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08360" y="1989000"/>
            <a:ext cx="1584360" cy="432000"/>
          </a:xfrm>
          <a:prstGeom prst="wedgeRoundRectCallout">
            <a:avLst>
              <a:gd name="adj1" fmla="val 26453"/>
              <a:gd name="adj2" fmla="val -22647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对…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9640" y="350028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142657"/>
              <a:gd name="adj2" fmla="val -22316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曾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24000" y="4724280"/>
            <a:ext cx="1871640" cy="432000"/>
          </a:xfrm>
          <a:prstGeom prst="wedgeRoundRectCallout">
            <a:avLst>
              <a:gd name="adj1" fmla="val -69930"/>
              <a:gd name="adj2" fmla="val 26323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于是，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08360" y="3645000"/>
            <a:ext cx="1081080" cy="43164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出使契丹，契丹命令典客对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雄州城最近开了便门，就是想引诱我国的叛徒，以便刺探边疆的情报吧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州城曾经也开过便门，刺探边疆的情报为何一定要开便门呢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那个人便无言以对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这段写了件什么事？与前两段相比，本段有何特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他奉命出使契丹，驳倒契丹的荒谬论点，写出了他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巧言善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不辱使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的爱国之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法上与第一段相同，描写具体，通过人物语言突出人物性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60720" y="4986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琥珀"/>
                <a:ea typeface="华文琥珀"/>
              </a:rPr>
              <a:t>阅读第三段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召权知开封府，迁右司郎中。拯立朝刚毅，贵戚宦官为之敛手，闻者皆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惮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。人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包拯笑比黄河清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童稚妇女，亦知其名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，呼日“包待制”。京师为之语曰：“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关节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到，有阎罗包老。”旧制，凡讼诉不得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径造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庭下。拯开正门，使得至前陈曲直，吏不敢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79640" y="2492280"/>
            <a:ext cx="1081080" cy="43200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畏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35280" y="2708280"/>
            <a:ext cx="1081080" cy="360360"/>
          </a:xfrm>
          <a:prstGeom prst="wedgeRoundRectCallout">
            <a:avLst>
              <a:gd name="adj1" fmla="val 35462"/>
              <a:gd name="adj2" fmla="val -22180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08360" y="3645000"/>
            <a:ext cx="3168720" cy="431640"/>
          </a:xfrm>
          <a:prstGeom prst="wedgeRoundRectCallout">
            <a:avLst>
              <a:gd name="adj1" fmla="val 101402"/>
              <a:gd name="adj2" fmla="val -142648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暗中行贿串通关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64000" y="4724280"/>
            <a:ext cx="1657440" cy="432000"/>
          </a:xfrm>
          <a:prstGeom prst="wedgeRoundRectCallout">
            <a:avLst>
              <a:gd name="adj1" fmla="val 36782"/>
              <a:gd name="adj2" fmla="val -11286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直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380360" y="5013360"/>
            <a:ext cx="1081080" cy="431640"/>
          </a:xfrm>
          <a:prstGeom prst="wedgeRoundRectCallout">
            <a:avLst>
              <a:gd name="adj1" fmla="val -58370"/>
              <a:gd name="adj2" fmla="val -1974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81080" y="1413000"/>
            <a:ext cx="1081080" cy="431640"/>
          </a:xfrm>
          <a:prstGeom prst="wedgeRoundRectCallout">
            <a:avLst>
              <a:gd name="adj1" fmla="val 17986"/>
              <a:gd name="adj2" fmla="val -14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下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189000"/>
            <a:ext cx="2050920" cy="360360"/>
          </a:xfrm>
          <a:prstGeom prst="wedgeRoundRectCallout">
            <a:avLst>
              <a:gd name="adj1" fmla="val -134828"/>
              <a:gd name="adj2" fmla="val 15264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暂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59280" y="2637000"/>
            <a:ext cx="2954520" cy="360360"/>
          </a:xfrm>
          <a:prstGeom prst="wedgeRoundRectCallout">
            <a:avLst>
              <a:gd name="adj1" fmla="val 56879"/>
              <a:gd name="adj2" fmla="val -24206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成语：妇孺皆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被朝廷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召令暂时代理开封府尹，升为右司郎中。包拯在朝廷为人刚强坚毅，贵戚宦官因此而大为收敛，听说的人都很害怕他。人们把包拯笑比做黄河水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样极难发生的事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小孩和妇女，也知道他的名声，叫他“包待制”。京城里的人因此说：“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暗中行贿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疏不通关系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的人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有阎罗王和包老头。”按旧规矩，凡是诉讼都不能直接到官署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递交状子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包拯打开官署正门，使告状的人能够到跟前陈述是非，办事小吏因此不敢欺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900000" y="692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27 </a:t>
            </a: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．</a:t>
            </a:r>
            <a:r>
              <a:rPr b="1" lang="zh-CN" sz="8000" spc="-1" strike="noStrike">
                <a:solidFill>
                  <a:srgbClr val="00ffff"/>
                </a:solidFill>
                <a:latin typeface="Arial"/>
              </a:rPr>
              <a:t>包  拯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0" y="261000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拯性峭直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恶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吏苛刻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务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敦厚，虽甚嫉恶，而未尝不推以忠恕也。与人不苟合，不伪辞色悦人，平居无私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，故人、亲党皆绝之。虽贵，衣服、器用、饮食如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布衣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时。尝曰：“后世子孙仕宦，有犯赃者，不得放归本家，死不得葬大茔中。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吾志，非吾子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孙也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8360" y="1341360"/>
            <a:ext cx="2160720" cy="432000"/>
          </a:xfrm>
          <a:prstGeom prst="wedgeRoundRectCallout">
            <a:avLst>
              <a:gd name="adj1" fmla="val 39935"/>
              <a:gd name="adj2" fmla="val -15918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憎恶，讨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35280" y="1413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追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87280" y="5734080"/>
            <a:ext cx="1081080" cy="431640"/>
          </a:xfrm>
          <a:prstGeom prst="wedgeRoundRectCallout">
            <a:avLst>
              <a:gd name="adj1" fmla="val 140013"/>
              <a:gd name="adj2" fmla="val 584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85080" y="6426360"/>
            <a:ext cx="1081080" cy="431640"/>
          </a:xfrm>
          <a:prstGeom prst="wedgeRoundRectCallout">
            <a:avLst>
              <a:gd name="adj1" fmla="val 42217"/>
              <a:gd name="adj2" fmla="val -29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听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258920" y="3429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419640" y="3357720"/>
            <a:ext cx="1081080" cy="431640"/>
          </a:xfrm>
          <a:prstGeom prst="wedgeRoundRectCallout">
            <a:avLst>
              <a:gd name="adj1" fmla="val 264537"/>
              <a:gd name="adj2" fmla="val -948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虽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268360" y="4653000"/>
            <a:ext cx="108144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平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性情严峻刚直，憎恶办事小吏苛杂刻薄，务求忠诚厚道，虽然非常憎恨厌恶，但从来没有不施行忠恕之道的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跟人交往不随意附和，不以巧言令色取悦人，平常没有私人信件，连朋友、亲戚也断绝往来。虽然地位高贵，但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穿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衣服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用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器物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吃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饮食跟当百姓时一样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曾经说：“后代子孙当官从政，假若贪赃枉法，不得放回老家，死了不得葬入家族墓地。假若不听从我的意志，就不是我的子孙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45960"/>
            <a:ext cx="8540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阅读 第 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4-5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段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0560" y="1666440"/>
            <a:ext cx="8299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这两段分别写了什么内容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四段：写人们对他的看法和评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五段：写他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为官刚直不阿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不巧言令色，对亲人朋友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不结党营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在生活上从不奢侈，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保持朴素之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最后写他对后世子孙的训诫。言语中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85800" y="914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琥珀"/>
              </a:rPr>
              <a:t>二、品读感悟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43000" y="2743200"/>
            <a:ext cx="7086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行楷"/>
              </a:rPr>
              <a:t>     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文章记叙了包拯的哪几件事？分别体现了包拯的什么品质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908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971640" y="304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小结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文章写了包拯的哪几件事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别体现了包拯的什么品质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11280" y="177336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智断割牛舌案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0328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38098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0" y="1773360"/>
            <a:ext cx="4419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智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清廉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言善辩，不辱使命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刚正、执法严峻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3048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出使契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-533520" y="3809880"/>
            <a:ext cx="532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buClr>
                <a:srgbClr val="ffffcc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畏权贵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体恤百姓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88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家教严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880" y="2438280"/>
            <a:ext cx="36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持一砚归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 flipH="1">
            <a:off x="7236000" y="1413000"/>
            <a:ext cx="142560" cy="3673440"/>
          </a:xfrm>
          <a:custGeom>
            <a:avLst/>
            <a:gdLst>
              <a:gd name="textAreaLeft" fmla="*/ 91080 w 142560"/>
              <a:gd name="textAreaRight" fmla="*/ 142920 w 1425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640" y="1341360"/>
            <a:ext cx="4321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天长县  断盗割牛舌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任端州府  做官不持一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出使契丹  辩驳典客诘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开封府  除弊“阎罗包老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平日为人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580000" y="1484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9640" y="148428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429264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12000" y="17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084720" y="299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51640" y="429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96000" y="4365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308720" y="1268280"/>
            <a:ext cx="1619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机智聪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公正廉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不辱使命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铁面无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克己奉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0360" y="4149720"/>
            <a:ext cx="237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人对己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后世子孙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11040" y="1413000"/>
            <a:ext cx="9918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previousslide"/>
          </p:cNvPr>
          <p:cNvSpPr/>
          <p:nvPr/>
        </p:nvSpPr>
        <p:spPr>
          <a:xfrm>
            <a:off x="5796000" y="155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previousslide"/>
          </p:cNvPr>
          <p:cNvSpPr/>
          <p:nvPr/>
        </p:nvSpPr>
        <p:spPr>
          <a:xfrm>
            <a:off x="5796000" y="2205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579600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previousslide"/>
          </p:cNvPr>
          <p:cNvSpPr/>
          <p:nvPr/>
        </p:nvSpPr>
        <p:spPr>
          <a:xfrm>
            <a:off x="5796000" y="3429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5796000" y="4365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95280" y="3213000"/>
            <a:ext cx="8066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236fa"/>
                </a:solidFill>
                <a:latin typeface="Arial"/>
              </a:rPr>
              <a:t>要求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:1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语言符合人物的身份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动作神态体现人物的特点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24000" y="765000"/>
            <a:ext cx="468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本剧表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936720" cy="129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167652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      </a:t>
            </a: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作者 怎样塑造包拯这个人物形象的？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73392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正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侧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352680" y="3733920"/>
            <a:ext cx="40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5760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3520" y="380880"/>
            <a:ext cx="3031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、问题探究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1" name=""/>
          <p:cNvSpPr/>
          <p:nvPr/>
        </p:nvSpPr>
        <p:spPr>
          <a:xfrm>
            <a:off x="609480" y="5334120"/>
            <a:ext cx="28958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概括描写：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具体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10080"/>
            <a:ext cx="41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71800" y="6216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317080" y="620640"/>
            <a:ext cx="475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-305280" y="404640"/>
            <a:ext cx="9448920" cy="69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纵观全文，看一看作者在结构安排和表现方法上有什么特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结构：全文共五段，每段重点写人物的一个性格特点，有详有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概括描写：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具体描写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表现方法：从不同的角度刻画人物鲜明性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正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侧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  <a:ea typeface="方正舒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方正舒体"/>
              </a:rPr>
              <a:t>相互配合，富于变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490920" y="30402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90920" y="50292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71800" y="5562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97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7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97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97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97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7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97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说说下列语句表现了人物的哪种性格特征或优秀品质？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拯命制者才足贡数，岁满不持一砚归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京师为之语曰：“关节不到，有阎罗包老”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虽贵，衣服、器用、饮食如布衣时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48000" y="3141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廉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67280" y="4365720"/>
            <a:ext cx="38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刚正，执法严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00360" y="580536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352680" y="22860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堂练习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4360" y="1557360"/>
            <a:ext cx="806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6699"/>
                </a:solidFill>
                <a:latin typeface="Arial"/>
                <a:ea typeface="华文隶书"/>
              </a:rPr>
              <a:t>        </a:t>
            </a:r>
            <a:r>
              <a:rPr b="1" lang="zh-CN" sz="6600" spc="-1" strike="noStrike">
                <a:solidFill>
                  <a:srgbClr val="00cc00"/>
                </a:solidFill>
                <a:latin typeface="宋体"/>
              </a:rPr>
              <a:t>廉者，民之表也；贪者，民之贼也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cc00"/>
                </a:solidFill>
                <a:latin typeface="宋体"/>
              </a:rPr>
              <a:t>                     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——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包拯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79280" y="2421000"/>
            <a:ext cx="86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包拯作为历史上有名的清官，他能做到别人所不能，为什么包拯会这样做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700360" y="228600"/>
            <a:ext cx="484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三、合作探究，深化理解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7308720" y="4437000"/>
            <a:ext cx="762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7631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知道古今中外有哪些清官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他们的事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2860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四、语文活动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990720" y="533520"/>
            <a:ext cx="6858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历史上的清官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1" name=""/>
          <p:cNvSpPr/>
          <p:nvPr/>
        </p:nvSpPr>
        <p:spPr>
          <a:xfrm>
            <a:off x="755640" y="4581360"/>
            <a:ext cx="3505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海瑞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7180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于成龙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24852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耶律楚材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826920" y="0"/>
            <a:ext cx="7561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明朝时候的海瑞是中国历史上有名的清官。他铁面无私，明察秋毫，人称“海青天”。一天，他带着几个衙役微服出巡，在街上看见一群人慌慌张张地走过来，两个身强力壮的小伙子用一块木板抬着一个人，身上盖着被子，插着珠钗的头露在被子外面。另几个男人在旁边跟着，不时有人去掖掖被子。走了一会儿，他们在路旁休息一会儿，再换两个人抬着木板走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觉得蹊跷，便上去攀谈，得知是这家的妹妹身染恶疾，特地找来几个同村的小伙子抬她去外地看医生的。海瑞派一个衙役暗中跟踪，看到这群人来到一个村子最西头的房屋前，两个人把他们接了过去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回府后迅速派人去将那伙人抓了起来，从那间屋里搜出了大量金银财宝，后来经审讯得知他们是一伙强盗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26920" y="549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于成龙，字北溟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17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年生于我县下昔乡来堡村。清顺治十八年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61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岁的于成龙以副榜贡生出任广西罗城县令，后迁任知州、知府、巡抚、两江总督等职。在二十多年的宦海生涯中，他关心百姓疾苦，敢于为民请命，生活清苦，廉政勤政，深受百姓爱戴和康熙皇帝赞誉，三次被举“卓异”，成为清初廉政官员的典范。康熙二十三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84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于成龙在两江总督任上病逝，江南民众“巷哭罢市，绘像祀之”。康熙亲撰碑文，称他为“天下廉吏第一”。作为封建官吏，于成龙的思想道德、人生信条固然有着历史的局限性，但他清正廉明、关怀民众的事迹，到今天仍有着重要的借鉴和教育意义。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826920" y="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339840"/>
            <a:ext cx="72738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耶律楚材是历史上有名的清官。成吉思汗攻打西夏时，将领们纷纷抢夺金玉财宝，他却收集、保存了许多文集和大量的药材。后来军中疫病流行，这些药材救活了好几万人。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1227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年，他奉命到燕京整顿秩序。当时京畿之内，许多权势人家的子弟，一到黄昏便驾着牛车出来结伙抢劫，行凶杀人。耶律楚材不畏强暴，不为利害所动，秉公而断，公开斩了十六名这类罪犯，为社会除了大害。他病死后，有人诬陷他藏有私囊，检查以后，发现除了琴阮书画金石遗文之外，别无所有，足见他的清廉。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26920" y="386064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如果你做了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你会做个什么样的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900000" y="1628640"/>
            <a:ext cx="4751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假如我做了官……</a:t>
            </a:r>
            <a:endParaRPr b="0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为题写一篇小作文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1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发挥想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层次分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627280" y="549360"/>
            <a:ext cx="3745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889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　业</a:t>
            </a:r>
            <a:endParaRPr b="0" lang="en-US" sz="1800" spc="1" strike="noStrike">
              <a:ln w="889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042920" y="2492280"/>
            <a:ext cx="3392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假如我当了官……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华文琥珀"/>
              </a:rPr>
              <a:t>包拯知多少？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042920" y="278136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42920" y="1413000"/>
            <a:ext cx="640872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开封有个包青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铁面无私辨忠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江湖豪杰来相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王朝和马汉在身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钻天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身轻如燕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彻地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是条好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穿山鼠铁臂神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翻江鼠身手不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锦毛鼠一身是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五鼠义结金兰侠和五义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留传在民间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8589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3183120" cy="3961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-252360" y="2997360"/>
            <a:ext cx="3200400" cy="3860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95280" y="44280"/>
            <a:ext cx="2376360" cy="336600"/>
          </a:xfrm>
          <a:prstGeom prst="rect">
            <a:avLst/>
          </a:prstGeom>
          <a:solidFill>
            <a:srgbClr val="ccffc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-757080" y="0"/>
            <a:ext cx="9685080" cy="3436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3780000" y="3537000"/>
            <a:ext cx="4427280" cy="332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65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150"/>
                            </p:stCondLst>
                            <p:childTnLst>
                              <p:par>
                                <p:cTn id="55" nodeType="afterEffect" fill="hold" presetClass="entr" presetID="31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150"/>
                            </p:stCondLst>
                            <p:childTnLst>
                              <p:par>
                                <p:cTn id="62" nodeType="afterEffect" fill="hold" presetClass="entr" presetID="17" presetSubtype="1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包拯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999-1062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自希仁，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庐州合肥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人（安徽合肥），北宋天圣五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27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进士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中进士后，因父母年事已高，不忍远去为官，直到双亲相继去世，守孝完毕，才在亲友的劝说下为官，期间长达十年之久，故以孝闻于乡里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20192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嘉佑元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56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年十二月，朝廷任包拯权知开封府，他于次年三月正式上任，至三年六月离任，前后只有一年有余。但在这短短的时间内，把号称难治的开封府，治理得井井有条。敢于惩治权贵们的不法行为，坚决抑制开封府吏的骄横之势，并能够及时惩办诬赖刁民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由于包拯在开封府执法严明，铁面无私，敢于碰硬，贵戚宦官也不得不有所收敛，听到包拯的名字就感到害怕。儿童妇孺们都知道包拯之名，亲切称呼他为「包待制」。开封府广泛流传着这样的话「关节不到，有阎罗包老。」用阎罗比喻包拯的铁面无私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宋嘉佑六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61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，他官至枢密副使，次年五月病逝，「京师吏民，莫不感伤，叹息之声，大街小巷都可听得到。」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朝廷赠官吏部上书，有「奏仪」十五卷传于世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Arial"/>
                <a:ea typeface="华文隶书"/>
              </a:rPr>
              <a:t>生字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2436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56000" y="907920"/>
            <a:ext cx="25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恶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嫉恶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赃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茔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24000" y="1052640"/>
            <a:ext cx="223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308720" y="981000"/>
            <a:ext cx="208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ò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g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ǒ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84360" y="0"/>
            <a:ext cx="6912000" cy="718560"/>
          </a:xfrm>
          <a:prstGeom prst="rect">
            <a:avLst/>
          </a:prstGeom>
          <a:solidFill>
            <a:srgbClr val="7499d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“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传”：是正史的重要组成部分。主要叙述传主的生卒、地望、官职、生平事迹内容。</a:t>
            </a:r>
            <a:endParaRPr b="0" lang="en-US" sz="4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40000" y="4221000"/>
            <a:ext cx="583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自传  ——自述生平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传、评传  ——由别人撰写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11280" y="4365720"/>
            <a:ext cx="144720" cy="595080"/>
          </a:xfrm>
          <a:custGeom>
            <a:avLst/>
            <a:gdLst>
              <a:gd name="textAreaLeft" fmla="*/ 92520 w 144720"/>
              <a:gd name="textAreaRight" fmla="*/ 145080 w 144720"/>
              <a:gd name="textAreaTop" fmla="*/ 15480 h 595080"/>
              <a:gd name="textAreaBottom" fmla="*/ 579600 h 59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31880" y="4365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Arial"/>
                <a:ea typeface="楷体_GB2312"/>
              </a:rPr>
              <a:t>传记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包拯字希仁，庐州合肥人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也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。……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知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天长县。有盗割人牛舌者，主来诉。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归，杀而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之”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复有来告私杀牛者，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何为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割牛舌而又告之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盗惊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5280" y="1916280"/>
            <a:ext cx="3025800" cy="431640"/>
          </a:xfrm>
          <a:prstGeom prst="wedgeRoundRectCallout">
            <a:avLst>
              <a:gd name="adj1" fmla="val 106347"/>
              <a:gd name="adj2" fmla="val -20220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判断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80000" y="1700280"/>
            <a:ext cx="1944720" cy="431640"/>
          </a:xfrm>
          <a:prstGeom prst="wedgeRoundRectCallout">
            <a:avLst>
              <a:gd name="adj1" fmla="val 12694"/>
              <a:gd name="adj2" fmla="val -165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主持，掌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76720" y="3716280"/>
            <a:ext cx="1800360" cy="432000"/>
          </a:xfrm>
          <a:prstGeom prst="wedgeRoundRectCallout">
            <a:avLst>
              <a:gd name="adj1" fmla="val 21074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但，只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62920" y="3716280"/>
            <a:ext cx="1081080" cy="432000"/>
          </a:xfrm>
          <a:prstGeom prst="wedgeRoundRectCallout">
            <a:avLst>
              <a:gd name="adj1" fmla="val 1541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不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59640" y="6021360"/>
            <a:ext cx="1585800" cy="432000"/>
          </a:xfrm>
          <a:prstGeom prst="wedgeRoundRectCallout">
            <a:avLst>
              <a:gd name="adj1" fmla="val -15166"/>
              <a:gd name="adj2" fmla="val -4073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2:56:54Z</dcterms:created>
  <dc:creator>教师</dc:creator>
  <dc:description/>
  <dc:language>en-US</dc:language>
  <cp:lastModifiedBy>MC SYSTEM</cp:lastModifiedBy>
  <dcterms:modified xsi:type="dcterms:W3CDTF">2010-05-04T05:57:51Z</dcterms:modified>
  <cp:revision>81</cp:revision>
  <dc:subject/>
  <dc:title>幻灯片 1</dc:title>
</cp:coreProperties>
</file>