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50CA-ECF4-4E0A-AFE6-468DB09B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0278-D088-48C1-BD66-57C2E6FA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F3F9-A8DE-40BB-8FB8-D38AEAD5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4994-732D-48B0-9033-94976115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B01F-E5D1-4304-B6DB-7F9918CC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7292-0C81-4C03-A9FD-55490713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EABC-2F91-4633-B68A-A5E49DF8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62AD-75B4-4410-AC6B-4C8E4C72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E78B-C52F-490A-8B9F-6ED02284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0A7D-B2FE-4190-8608-BD24471D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A9A0-2DE6-4B31-9C10-44F4B1A3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E216-15F9-469C-89BF-9992CE1E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412B-B7C0-444A-9C16-EF0E9B60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BDB4-8DA0-4B14-9CB7-5F5A5743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3981-C35E-4CB0-BDB8-2E00D5B4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29CA-3D66-451C-B8EA-0376AAF20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F9E0-8301-48D9-AB1F-B2FF2A1B2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3D059-E2F7-447C-A38F-989FCBD25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5523A-CFD2-4835-8CD8-82DD0F99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C0301-041B-4C06-B09A-B1624C3D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83B16-B99A-44E7-96E5-AA1F0E5E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CD4C9-9973-45AA-A6B1-65722E15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2446-E522-4178-88F8-E1488CE3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EF47D-5BEA-4D22-ACBC-8A5EF6AA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0DE73-77E0-4B83-944E-3D1C4FA1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61A4B-1B38-4933-8F4C-4DBA4026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D1896-067C-4538-A517-14B2D970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934F2-E043-402C-861E-1B1461C6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82070-3A87-4816-884B-70E2230C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A2D35-5A2F-48C1-823C-5A829CF8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77D5E-94EF-4B68-8425-BC190C093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A4E34-C955-4122-B374-BA169FE4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D5CB9-B408-4DD9-B606-1D808096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2A58-28CA-455F-BA9E-77C2C8D9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89E90-A395-40B6-8921-2A46A12C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12915-05D9-4D31-8C84-87826D0B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BCCEB-73A0-4F3A-9DF1-170FDEEF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7CE12-5B88-4DC3-8081-EA92D7C4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40476-FADE-428D-96F1-63780A0C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606A4-7C9D-4F0D-BAF8-EA9CFB48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B32E4-046C-4D56-A8D2-D7EBFB76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F1FD7-0A5C-4B93-A317-9BFD08E8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1E819-B6D8-4EAA-BBCF-2C7B0D62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1C76-9913-44CC-9A19-6B81205F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720E-9B7C-42BD-8047-B0A2BDDD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CCAA-3942-4B95-91AD-A49BC002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0835-66CF-46FA-BB3A-3000044D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BD31-0C8E-4089-96B6-385ACA59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2077-CA58-4310-80D0-848752CAC3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1B01-7170-4781-B03A-4972DD0D79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5479-00A4-4BD0-A31F-167F799B65FD}" type="slidenum"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C939-C0C2-4386-A13F-4A31461C3C78}" type="slidenum"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26920" y="765000"/>
            <a:ext cx="71280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诗词复习大比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64" name=""/>
          <p:cNvSpPr/>
          <p:nvPr/>
        </p:nvSpPr>
        <p:spPr>
          <a:xfrm>
            <a:off x="1638360" y="5740560"/>
            <a:ext cx="75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制作：黑龙江鹤岗英华中学  赵毅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第四组必答题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5183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请接上句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五十弦翻塞外声，沙场秋兵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弓如霹雳弦惊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赢得生前身后名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4.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在河之洲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5.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似曾相识燕归来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0"/>
            <a:ext cx="8842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6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明朝散发弄扁舟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7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山色有无中。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8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欲上青天揽明月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9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波澜动远空。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10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中间小谢又清发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11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荆门九派通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12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君子好逑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99"/>
                </a:solidFill>
                <a:latin typeface="Arial"/>
              </a:rPr>
              <a:t>抢答题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题打出后就可举手，先举手者为抢答者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必须全答对，答对每组题加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25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分，有一道答错扣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10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分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每组题为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6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道。答错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道就倒扣分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友情提示：请先看好题目，有了把握再举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66304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了却君王天下事，</a:t>
            </a:r>
            <a:r>
              <a:rPr b="1" lang="zh-CN" sz="32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  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安得广厦千方间，</a:t>
            </a:r>
            <a:r>
              <a:rPr b="1" lang="zh-CN" sz="32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！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浣溪沙》中写出作者对时光流逝的惋惜和对生命珍视之情的语句是 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汉江临眺》 中以苍茫山色烘托水势的浩瀚，如电影境头般展现出汉江的山光水色的句子是 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宣州谢朓楼饯别校书叔云》中诗人借用比喻，抒发内心愁苦、愤懑之情的句子是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江城子　密州出猎》中化用典故表达自己希望得到朝廷信任和重用之情的句子 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360" y="260280"/>
            <a:ext cx="8893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《汉江临眺》 中 写江水汹涌的句子是 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《破阵子》抒发词人一生中的事业与抱负，并发尽无尽感叹的句子是：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《君子于役》一诗中统领全诗的中心句 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人生在世不称意，</a:t>
            </a:r>
            <a:r>
              <a:rPr b="1" lang="zh-CN" sz="36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僵卧孤村不自哀， </a:t>
            </a:r>
            <a:r>
              <a:rPr b="1" lang="zh-CN" sz="36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    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6.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《宣州谢朓楼饯别校书叔云》表现作者不甘陈沦、豁达乐观精神的句子是 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593280"/>
            <a:ext cx="85406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在《行路难》中最能表现李白面对挫折积极向上，对理想执着追求的诗句是：（                        ） 但是与之相反的是《宣州谢楼饯别校书叔云》中（                  ）却又表现出他面对困难消极避世的思想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汉江临眺》中</a:t>
            </a:r>
            <a:r>
              <a:rPr b="0" lang="zh-CN" sz="3200" spc="-1" strike="noStrike">
                <a:solidFill>
                  <a:srgbClr val="000c0c"/>
                </a:solidFill>
                <a:latin typeface="Arial"/>
              </a:rPr>
              <a:t>写出山光水色，“诗中有画”的句子是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醉里挑灯看剑，</a:t>
            </a:r>
            <a:r>
              <a:rPr b="1" lang="zh-CN" sz="32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           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江城子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密州出猎》中作者写出回报人们倾城而来观看其守猎盛情的语句是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关雎》中统领全诗的句子是</a:t>
            </a:r>
            <a:r>
              <a:rPr b="0" lang="zh-CN" sz="3200" spc="-1" strike="noStrike">
                <a:solidFill>
                  <a:srgbClr val="000c0c"/>
                </a:solidFill>
                <a:latin typeface="Arial"/>
              </a:rPr>
              <a:t>：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518320" cy="54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破阵子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为陈同甫赋壮词以寄之》中写出战斗之激烈和顺利的语句是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人生在世不称意，</a:t>
            </a:r>
            <a:r>
              <a:rPr b="1" lang="zh-CN" sz="32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。 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君子于役》中用侧面烘托手法表现对久役不归的丈夫思念心情的诗句是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浣溪沙》一词的上片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(      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，           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两句构成“新”与“旧”的对比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江城子　密州出猎》抒写人到中年的主人公，壮志未酬的感叹的诗句是 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宣州谢楼饯别校书叔云》诗人借前人之能称许李云和自己才能的语句是：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创新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000" y="1931760"/>
            <a:ext cx="837396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题打出后就可举手，先举手者抢先回答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必须全答对，全答对每题加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20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分，答错扣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分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每组题为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道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友情提示：请先看好题目，有了把握再举手。举手前可以互相商量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c0c"/>
                </a:solidFill>
                <a:latin typeface="Arial"/>
              </a:rPr>
              <a:t>猜谜语（猜诗中涉及的人物典故）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680" y="1125000"/>
            <a:ext cx="854064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此地别燕丹，壮士发冲冠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昔时人已没，今日水犹寒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寄书元有雁，食雪不离羊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施尽风霜节，心悬日月光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岁岁金河复玉关，朝朝马策与刀环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三春白雪归青冢，万里黄河绕黑山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答案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荆轲刺秦王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苏武牧羊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昭君出塞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必答题（一）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要求 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如果每组有说话或其它违反纪律者扣</a:t>
            </a: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每组的裁判请公正并及时打好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每组从后面蛇行轮答，每人答一题，不许空题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限定时间为：每组</a:t>
            </a: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分钟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691920"/>
            <a:ext cx="854064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你从下面所罗列的作者中任选两位，分别写出一则课文中表达他们的志趣，追求，或展现他们的胸怀、抱负的名言警句，意思要相对完整。作者：孟子、王勃、范仲淹、周敦颐、苏轼、诸葛亮、文天祥。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620640"/>
            <a:ext cx="85406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孟子：生，亦无所欲也，义，亦我所欲也；二者不可得兼，舍生而取义者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王勃：海内存知己，天涯若比邻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范仲淹：先天下之忧而忧，后天下之乐而乐。   （不以物喜，不以己悲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周敦颐：予独爱莲之出淤泥而不染，濯清涟而不妖，中通外直，不蔓不枝，香远益清，亭亭净植，可远观而不可亵玩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苏轼：但愿人长久，千里共婵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诸葛亮：苟全性命于乱世，不求闻达于诸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54064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用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旧瓶装新酒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的方法会为你的作文增彩，不信你看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4414680" cy="39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c0c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清明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清明时节雨纷纷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路上行人欲断魂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借问酒家何处有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牧童遥指杏花村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81968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仿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清明时节沙纷纷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路上行人满面尘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借问青山何处有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牧童遥指盆景中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你能采用此法让旧瓶装上新酒吗？</a:t>
            </a: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要求：改后的诗要与环保有关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3640" y="2028960"/>
            <a:ext cx="84690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1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c0c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登幽州台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唐  陈子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前不见古人，后不见来者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念天地之悠悠，独怆然而涕下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我也能让酒瓶装上新酒！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dc5900"/>
                </a:solidFill>
                <a:latin typeface="Arial"/>
              </a:rPr>
              <a:t>登幽州台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dc5900"/>
                </a:solidFill>
                <a:latin typeface="Arial"/>
              </a:rPr>
              <a:t>前不见古人，后不见来者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dc5900"/>
                </a:solidFill>
                <a:latin typeface="Arial"/>
              </a:rPr>
              <a:t>念天地之悠悠，独怆然而涕下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c0c"/>
                </a:solidFill>
                <a:latin typeface="Arial"/>
              </a:rPr>
              <a:t>前不见青山，后不见绿水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c0c"/>
                </a:solidFill>
                <a:latin typeface="Arial"/>
              </a:rPr>
              <a:t>念天地之污染，独怆然而涕下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4920" y="549000"/>
            <a:ext cx="820908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总结：古典诗词是中华民族文化的精髓。我们不应只是为此而骄傲，更应学为我用，让它发扬光大。所以背诵、积累是途径，运用是关键。希望同学们学习古诗词能真正做到勤学、爱学、会学、巧学、妙学。祝同学们在各种考试中能有个满意的结果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0" y="2492280"/>
            <a:ext cx="9144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隶书"/>
              </a:rPr>
              <a:t>请分别说出有关春、夏、秋、冬的诗句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6132600" y="4221000"/>
            <a:ext cx="533160" cy="16084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6818400" y="4221000"/>
            <a:ext cx="533160" cy="16084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2627280" y="4221000"/>
            <a:ext cx="533520" cy="16084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1941480" y="4221000"/>
            <a:ext cx="555480" cy="1600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2268360" y="1844640"/>
            <a:ext cx="4464360" cy="166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再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3203640" y="4581360"/>
            <a:ext cx="2879640" cy="8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第一组必答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052640"/>
            <a:ext cx="85406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请接下句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人生在世不称意  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持节云中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？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无可奈何花落去 ，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 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4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蓬莱文章建安骨，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5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马作的卢飞快 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2800" spc="-1" strike="noStrike" u="sng">
                <a:solidFill>
                  <a:srgbClr val="000c0c"/>
                </a:solidFill>
                <a:uFillTx/>
                <a:latin typeface="Arial"/>
              </a:rPr>
              <a:t>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6.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窈窕淑女 ，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7.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抽刀断水水更流 ，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8.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俱怀逸兴壮思飞 ，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9.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郡邑浮前浦 ，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10.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楚塞三湘接， 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    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11.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江流天地外 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 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12.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乱我心者，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   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188640"/>
            <a:ext cx="854064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必答题（二）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每组先由下一组指定主答者和帮助者各一名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每组选手根据题目背原诗，注意一定要说出作者否则扣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分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每题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10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分，答错不扣分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c0c"/>
                </a:solidFill>
                <a:latin typeface="Arial"/>
              </a:rPr>
              <a:t>第二组必答题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91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请接上句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对此可以酣高楼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鬓微霜，又何妨！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西北望，射天狼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4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亲射虎，看孙郎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5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梦回吹角连营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8423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6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苟无饥渴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7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留醉与山翁 。  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8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赢得生前身后名。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9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左牵黄，右擎苍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10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昨日之日不可留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11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去年天气旧亭台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12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荆门九派通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三组必答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628640"/>
            <a:ext cx="8540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请接下句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无可奈何花落去 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蓬莱文章建安骨，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会挽雕弓如满月 ，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4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求之不得，</a:t>
            </a:r>
            <a:r>
              <a:rPr b="0" lang="zh-CN" sz="40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0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0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5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马作的卢飞快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2400" y="647280"/>
            <a:ext cx="88423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6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关关雎鸠，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7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蒹葭苍苍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8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襄阳好风日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9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为报倾城随太守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10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酒酣胸胆尚开张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11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为报倾城随太守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，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12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了却君王天下事，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  。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08:18:04Z</dcterms:created>
  <dc:creator>Legend User</dc:creator>
  <dc:description/>
  <dc:language>en-US</dc:language>
  <cp:lastModifiedBy>y</cp:lastModifiedBy>
  <dcterms:modified xsi:type="dcterms:W3CDTF">2008-05-05T02:23:08Z</dcterms:modified>
  <cp:revision>44</cp:revision>
  <dc:subject/>
  <dc:title>幻灯片 1</dc:title>
</cp:coreProperties>
</file>