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6E6-A0D1-4429-B008-A3E523A9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D5F-537B-4CAC-815F-D1A10BC0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7CC-DC8C-479B-8962-13D5B3E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C60-C403-4412-8B40-B758EC70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60F6-1812-4BB4-82CD-8BD09744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8349-1A7C-40F4-BBB0-B0D50D9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E1D2-2E28-4457-A500-C355E8A3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7BD9-F5E7-43F4-8B98-84B46964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3C27-AC82-4EC8-BCE4-778C5EE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D3FB-E736-48DC-A81F-663E6E9E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ADDF-BED0-49FD-8BD9-936DEF0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EB6-3FC6-483D-B303-1F6F36C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C22D-84C9-43F0-B3AD-6269EC62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FA9A-CDCA-4BEA-ABE4-711CFB9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BEC1-4C51-4E70-BE1E-75030AFF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2D08-E8C8-4089-B588-04B98531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0836-CDBE-452F-A8D2-31DFDB8A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1CD-3E96-45A6-8C5E-0735ECF4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24C-05C4-4A81-A3DC-743E7B48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808-3616-4E29-BC18-77DEDB5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154-F2E6-4C38-AFDD-91CB12DC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522-8940-406B-9878-4902E013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C3D-470B-49FA-84DB-7B809E66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BBF-37AB-4781-814B-076F81C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F053-1747-4148-998A-5DD05F11ED2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D19B-DF2D-4222-8035-42F57151EA5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  <a:ea typeface="华文隶书"/>
              </a:rPr>
              <a:t>欢迎指导：       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细黑"/>
              </a:rPr>
              <a:t>江苏省赣榆高级中学：张永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楷体_GB2312"/>
              </a:rPr>
              <a:t>读李贺作品有感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风吹地百草干，华容碧影生晚寒。携盘独出月荒凉，茵草冷烛露幽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云中谁人骑碧驴，一心愁谢无君怜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烟花无物结同心，无情有恨何曾见？雨冷香魂吊书客，忆君清泪水如铅。纵有长歌哭短歌，青筒书虫何以堪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探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仿宋_GB2312"/>
              </a:rPr>
              <a:t>宋代诗论家严羽在《沧浪诗话》中说：“太白仙才，长吉鬼才”，后人称李白为诗仙，李贺为诗鬼，请思考：诗鬼与诗仙的区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5202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将进酒 </a:t>
            </a:r>
            <a:br>
              <a:rPr sz="5400"/>
            </a:b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李贺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5400"/>
            </a:br>
            <a:br>
              <a:rPr sz="54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琉璃钟，琥珀浓， 小槽酒滴真珠红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烹龙炮凤玉脂泣， 罗帏绣幕围香风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吹龙笛，击鼍鼓； 皓齿歌，细腰舞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况是青春日将暮， 桃花乱落如红雨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劝君终日酩酊醉， 酒不到刘伶坟上土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524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天才的第一声啼哭，</a:t>
            </a:r>
            <a:br>
              <a:rPr sz="6000"/>
            </a:b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也决不是一首音乐。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行楷"/>
              </a:rPr>
              <a:t>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天才与勤奋嫁接才能结出最灿烂的果实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-2289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隶书"/>
              </a:rPr>
              <a:t>天   上   谣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李   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天 上 谣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河夜转漂回星， 银浦流云学水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东指羲和能走马， 海尘新生石山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面一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月桂飘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月宫里的桂树啊，永不枯萎，那袭人的馨香也不会销歇。看吧，那踏香而来的仙女们正在采摘你的美丽，她们要把你的花朵装进香囊，她们要用你的馨香装点衣带上最美的饰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二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秦妃望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晨光熹微，弄玉慢慢卷起窗帘，当窗眺望，那窗外的晨景，清新而明净，咦！窗前的那棵梧桐树上，怎么会立着一只小巧的青凤，难道它就是当年引导我和萧史升天的那只神鸟吗？时间过的真快啊，弹指千余年，而我红颜未老，那青凤也娇小如故。天宫真好啊！任凭时间推移，也没有在我们的身上留下任何痕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三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龙耕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仙人王子晋又抚起了他那细长的笙管，轻轻一吹，依然是那熟悉的凤凰鸣，在那熟悉的旋律中，只见一条条神龙翻耕着烟云，播种着玉芝草，多么悠闲自在！多么潇洒飘逸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四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仙女寻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系着粉霞色的丝带，穿着藕丝色的长裙，仙女们漫步小洲，踏着一地青翠。她们指顾言谈，走过林木的茂密，她们采摘兰花，享尽山川的秀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钱  钟  书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皆深有感于日月逾迈，沧桑改换，而人事之代谢不与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y</cp:lastModifiedBy>
  <dcterms:modified xsi:type="dcterms:W3CDTF">2008-12-24T02:39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