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FA4-E219-4E01-AE98-84926855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C3E-4491-4D89-9C3E-DA4774D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26F-6BEF-46AD-80CE-D9D78931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4DE-DD44-4FE6-80B0-C5E964B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500B-4FAB-466B-9AF0-4A97C774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87CC-C4E2-41AE-B52F-74E4990A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E78-464F-4E0D-AA21-C19578F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96A-AA88-470F-AC40-34F284A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191-88BE-48FC-8D49-2F911B3E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64A1-0317-47FF-9CEC-D4F1578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170-BC9E-4F68-BB8F-1EA13874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D31-7ADA-4A06-95A9-8945407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BB90-16B8-4A66-9BE2-B5B50C4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7D2-483B-439D-92D7-C31FFD1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8990-BEB5-45AD-8C74-CD160CB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B7B9-FF4E-402F-A35F-B550EB09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193-1E7A-44AA-ABE5-772BB7A6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579-1B18-4884-9306-20D86FA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CD3-6148-4120-8E74-0D2DE42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EDE-56FF-4311-AD3E-8252080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4BE-AC99-44EF-993F-E5833B2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BB5-A634-4986-9A68-E3D13F1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EB0-C46C-4D62-AF44-D338834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517-5FC4-4EB7-9223-0B7974D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1444-3D10-426F-AF35-D6BFE49AE8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50F-7904-4600-9576-E88C6CB63CA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  <a:ea typeface="华文隶书"/>
              </a:rPr>
              <a:t>欢迎指导：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江苏省赣榆高级中学：张永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楷体_GB2312"/>
              </a:rPr>
              <a:t>读李贺作品有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风吹地百草干，华容碧影生晚寒。携盘独出月荒凉，茵草冷烛露幽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云中谁人骑碧驴，一心愁谢无君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烟花无物结同心，无情有恨何曾见？雨冷香魂吊书客，忆君清泪水如铅。纵有长歌哭短歌，青筒书虫何以堪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探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_GB2312"/>
              </a:rPr>
              <a:t>宋代诗论家严羽在《沧浪诗话》中说：“太白仙才，长吉鬼才”，后人称李白为诗仙，李贺为诗鬼，请思考：诗鬼与诗仙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5202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将进酒 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李贺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5400"/>
            </a:b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琉璃钟，琥珀浓， 小槽酒滴真珠红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龙炮凤玉脂泣， 罗帏绣幕围香风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吹龙笛，击鼍鼓； 皓齿歌，细腰舞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况是青春日将暮， 桃花乱落如红雨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劝君终日酩酊醉， 酒不到刘伶坟上土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天才的第一声啼哭，</a:t>
            </a:r>
            <a:br>
              <a:rPr sz="6000"/>
            </a:b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也决不是一首音乐。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天才与勤奋嫁接才能结出最灿烂的果实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-2289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天   上   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李   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天 上 谣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河夜转漂回星， 银浦流云学水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东指羲和能走马， 海尘新生石山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面一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桂飘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月宫里的桂树啊，永不枯萎，那袭人的馨香也不会销歇。看吧，那踏香而来的仙女们正在采摘你的美丽，她们要把你的花朵装进香囊，她们要用你的馨香装点衣带上最美的饰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二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妃望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晨光熹微，弄玉慢慢卷起窗帘，当窗眺望，那窗外的晨景，清新而明净，咦！窗前的那棵梧桐树上，怎么会立着一只小巧的青凤，难道它就是当年引导我和萧史升天的那只神鸟吗？时间过的真快啊，弹指千余年，而我红颜未老，那青凤也娇小如故。天宫真好啊！任凭时间推移，也没有在我们的身上留下任何痕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三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龙耕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仙人王子晋又抚起了他那细长的笙管，轻轻一吹，依然是那熟悉的凤凰鸣，在那熟悉的旋律中，只见一条条神龙翻耕着烟云，播种着玉芝草，多么悠闲自在！多么潇洒飘逸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四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女寻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着粉霞色的丝带，穿着藕丝色的长裙，仙女们漫步小洲，踏着一地青翠。她们指顾言谈，走过林木的茂密，她们采摘兰花，享尽山川的秀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钱  钟  书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皆深有感于日月逾迈，沧桑改换，而人事之代谢不与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y</cp:lastModifiedBy>
  <dcterms:modified xsi:type="dcterms:W3CDTF">2008-12-24T02:39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