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885-6BC2-43EE-AD52-62FEBEA4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8D4-7270-4142-9D4D-3E411B7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354-6CB5-479B-A1D7-FB5D0902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732-9071-4574-9B68-FEE15F81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F584-9B6E-489C-AB1E-6894E17A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EE64-698D-496B-9E59-A8023B6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1710-8E4C-405A-91C8-CDCA9AD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1B4E-6B2D-4543-BCBF-3CCD75B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D2F-81F7-48CD-86E4-9E6A9B5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B8D-2DD0-4900-AA9E-0858A140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EC18-CB6A-42EA-B58F-57D77CD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AF0-480A-4A74-9D2F-8A6EAACF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F22-E8E5-425A-951A-C59CB3D2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780-EFEA-487B-8009-AC77E76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46B7-B789-48DD-8D49-AB21C573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CFB4-6E96-412F-B537-DC9913ED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710-7947-4205-8C70-8E327B75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BAA6-C63C-4AAF-B1FD-5DC6A91C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483F-419A-47C8-8BB9-BE9E57B9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723D-3909-4CB3-9D8C-7B2F90E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376D-B0B6-4122-817B-266722D3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AF78-0270-4CFC-90CD-11A451A3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C2F-A0A1-430E-AAFB-1711BEB3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BAB3-E798-4FD3-B642-B3983B4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935F-1111-4AF4-8A71-3EBA90E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F538-F39D-45EF-BD8A-7BCF92A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3A89-1C14-4554-9042-5F8B3C07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BF42-7361-40BA-A14A-D050CDC9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9E11-5336-4DBB-8896-80FACD0D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23D2-D97A-45DB-B901-E8C23D5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F54C-F8BA-4B13-B936-8575204C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5C8E-E483-4DD1-B62E-8EAE21CD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667F-2DD6-4EAB-B311-DADBA0D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3DC-918F-42E7-8B11-997A166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1B27-A791-4B90-973C-1C2863E9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D95A-E5EA-4F03-9C8C-C6437AD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2B51-F046-472D-81BB-EA51D2CD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E313-9CE8-4BC6-97BE-81663ED9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2D38-BFBA-4B0B-9758-8867097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621E-03E0-44A0-B5C6-1DDBAF1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C6B0-D21B-4EBB-9D2C-1D178A18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7CB4-F071-4493-95B1-9483CDB7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C2CD-3485-429D-9FFA-98903EB9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1A8-AB78-4527-B49F-AF61C48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D19-DD33-4499-B31A-9AA8C45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2D9-ABB2-4B47-8057-67B7710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EED-54B5-4BC8-94F5-5F069F2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3D6-555D-4217-AA06-AFF6B3A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037-440B-4A7F-9231-7CFF896103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7C05-B982-4A98-8286-FBA0635F5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6580-690E-40F5-9C80-1EFA3606522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C0E0-E55B-422C-8D87-944CB99D19CB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920" y="76500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词复习大比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1638360" y="574056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制作：黑龙江鹤岗英华中学  赵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第四组必答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五十弦翻塞外声，沙场秋兵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弓如霹雳弦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赢得生前身后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似曾相识燕归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明朝散发弄扁舟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山色有无中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欲上青天揽明月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波澜动远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中间小谢又清发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君子好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为抢答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必须全答对，答对每组题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，有一道答错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。答错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就倒扣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630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了却君王天下事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得广厦千方间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中写出作者对时光流逝的惋惜和对生命珍视之情的语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 中以苍茫山色烘托水势的浩瀚，如电影境头般展现出汉江的山光水色的句子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朓楼饯别校书叔云》中诗人借用比喻，抒发内心愁苦、愤懑之情的句子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中化用典故表达自己希望得到朝廷信任和重用之情的句子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汉江临眺》 中 写江水汹涌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破阵子》抒发词人一生中的事业与抱负，并发尽无尽感叹的句子是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君子于役》一诗中统领全诗的中心句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僵卧孤村不自哀， 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宣州谢朓楼饯别校书叔云》表现作者不甘陈沦、豁达乐观精神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593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在《行路难》中最能表现李白面对挫折积极向上，对理想执着追求的诗句是：（                        ） 但是与之相反的是《宣州谢楼饯别校书叔云》中（                  ）却又表现出他面对困难消极避世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中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写出山光水色，“诗中有画”的句子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醉里挑灯看剑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密州出猎》中作者写出回报人们倾城而来观看其守猎盛情的语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关雎》中统领全诗的句子是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破阵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为陈同甫赋壮词以寄之》中写出战斗之激烈和顺利的语句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君子于役》中用侧面烘托手法表现对久役不归的丈夫思念心情的诗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一词的上片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两句构成“新”与“旧”的对比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抒写人到中年的主人公，壮志未酬的感叹的诗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楼饯别校书叔云》诗人借前人之能称许李云和自己才能的语句是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创新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31760"/>
            <a:ext cx="83739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抢先回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必须全答对，全答对每题加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，答错扣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举手前可以互相商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猜谜语（猜诗中涉及的人物典故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此地别燕丹，壮士发冲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昔时人已没，今日水犹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寄书元有雁，食雪不离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施尽风霜节，心悬日月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岁岁金河复玉关，朝朝马策与刀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三春白雪归青冢，万里黄河绕黑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荆轲刺秦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苏武牧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昭君出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必答题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要求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如果每组有说话或其它违反纪律者扣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的裁判请公正并及时打好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从后面蛇行轮答，每人答一题，不许空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限定时间为：每组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钟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你从下面所罗列的作者中任选两位，分别写出一则课文中表达他们的志趣，追求，或展现他们的胸怀、抱负的名言警句，意思要相对完整。作者：孟子、王勃、范仲淹、周敦颐、苏轼、诸葛亮、文天祥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孟子：生，亦无所欲也，义，亦我所欲也；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王勃：海内存知己，天涯若比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范仲淹：先天下之忧而忧，后天下之乐而乐。   （不以物喜，不以己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周敦颐：予独爱莲之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苏轼：但愿人长久，千里共婵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诸葛亮：苟全性命于乱世，不求闻达于诸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旧瓶装新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的方法会为你的作文增彩，不信你看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4146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c0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时节雨纷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路上行人欲断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借问酒家何处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牧童遥指杏花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819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仿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明时节沙纷纷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路上行人满面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借问青山何处有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牧童遥指盆景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采用此法让旧瓶装上新酒吗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要求：改后的诗要与环保有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2028960"/>
            <a:ext cx="8469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登幽州台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唐  陈子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也能让酒瓶装上新酒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登幽州台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前不见青山，后不见绿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念天地之污染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2090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总结：古典诗词是中华民族文化的精髓。我们不应只是为此而骄傲，更应学为我用，让它发扬光大。所以背诵、积累是途径，运用是关键。希望同学们学习古诗词能真正做到勤学、爱学、会学、巧学、妙学。祝同学们在各种考试中能有个满意的结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249228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请分别说出有关春、夏、秋、冬的诗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326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184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533520" cy="160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941480" y="4221000"/>
            <a:ext cx="555480" cy="160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68360" y="1844640"/>
            <a:ext cx="446436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287964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第一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人生在世不称意 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持节云中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？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窈窕淑女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抽刀断水水更流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俱怀逸兴壮思飞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郡邑浮前浦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楚塞三湘接，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江流天地外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乱我心者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必答题（二）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先由下一组指定主答者和帮助者各一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选手根据题目背原诗，注意一定要说出作者否则扣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，答错不扣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c0c"/>
                </a:solidFill>
                <a:latin typeface="Arial"/>
              </a:rPr>
              <a:t>第二组必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91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对此可以酣高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鬓微霜，又何妨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西北望，射天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亲射虎，看孙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梦回吹角连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42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苟无饥渴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留醉与山翁 。  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赢得生前身后名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左牵黄，右擎苍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昨日之日不可留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去年天气旧亭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会挽雕弓如满月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求之不得，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400" y="647280"/>
            <a:ext cx="8842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关关雎鸠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蒹葭苍苍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襄阳好风日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酒酣胸胆尚开张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，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了却君王天下事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8:18:04Z</dcterms:created>
  <dc:creator>Legend User</dc:creator>
  <dc:description/>
  <dc:language>en-US</dc:language>
  <cp:lastModifiedBy>y</cp:lastModifiedBy>
  <dcterms:modified xsi:type="dcterms:W3CDTF">2008-05-05T02:23:08Z</dcterms:modified>
  <cp:revision>44</cp:revision>
  <dc:subject/>
  <dc:title>幻灯片 1</dc:title>
</cp:coreProperties>
</file>