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media/image7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02D-CD44-4D5E-BE09-57A342E0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750-5F14-49E9-B1A1-2488F00E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387-A4D6-4D16-96E5-9625DDED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CC1-08A8-4193-9509-4E88465A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B55-DEC5-4FCF-B1C0-3C7C5E5D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A07-838B-4AC4-B68A-AB70789B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926-3E25-45CC-AE3F-4C1F7FA2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A4E-CD62-4101-865E-33D96C44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583-6F2C-4F59-BF46-56993762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1C7-A104-448E-94BD-9E83E65D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387-CA26-4A72-92E2-C6B47F98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B9D-D30B-43D1-98DF-E680F560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C356-7ECA-48AE-AB10-4F40F3D89D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333360"/>
            <a:ext cx="401472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国古代伟大的思想家、教育家，春秋末期儒家学派的创始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4724280" cy="6858000"/>
            <a:chOff x="0" y="0"/>
            <a:chExt cx="4724280" cy="68580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242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24000" y="61657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3300"/>
                  </a:solidFill>
                  <a:latin typeface="Times New Roman"/>
                </a:rPr>
                <a:t>cl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457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大同”社会跟陶渊明描绘的那个“世外桃源”有没有相似的地方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676520"/>
            <a:ext cx="80773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土地平旷，屋舍俨然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整齐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阡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田间小路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交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交错相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鸡犬相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黄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老人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垂髫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小孩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，并怡然自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余人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其余的人家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）各复延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邀请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）至其家，皆出酒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5562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世外桃源应该是根据“大同”社会体制构想出来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762120"/>
            <a:ext cx="7300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人类理想的社会形式是</a:t>
            </a:r>
            <a:r>
              <a:rPr b="0" i="1" lang="zh-CN" sz="117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522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拓展与延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267080" y="2514600"/>
            <a:ext cx="415296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14800" y="0"/>
            <a:ext cx="4724280" cy="26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孟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孟子，名轲，字子舆，生于战国时代，代表作《孟子》。他被公认为孔子儒家学说最具影响力的继承人，被誉为“亚圣”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极力主张王者以仁义治理天下，认为使百姓得以温饱与教育才是国家强盛之本。提出的“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老吾老，以及人之老；幼吾幼，以及人之幼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”就是对“不独亲其亲，不独子其子“的解说 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04920" y="2819520"/>
            <a:ext cx="74674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世外桃源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952880" y="304920"/>
            <a:ext cx="41911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康有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同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康有为的《大同书》，力主“以新知益旧学”的他，用一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世纪末先知先觉者全部的想象力描绘了一个中国的“大同梦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今欲致大同，必去人之私产而后可：凡农工商之业，必归之公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财产公有，按劳分配，人人劳动，人人平等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去级界平民族，去家界为天民，去种界同人类，破国界合大地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无邦国，无帝王，人人相亲，天下大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629400" y="620640"/>
            <a:ext cx="25146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自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90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月《民报》问世，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孙中山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开始系统宣传资本主义民主革命的思想，他自己也在创刊号上提出了由民族、民权、民生构成的“三民主义”，正式完成了他对“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民主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”的一个比较完满的构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952880" y="304920"/>
            <a:ext cx="403884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莫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《乌托邦》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的作者，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16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世纪英国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de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大法官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乌托邦描绘了一个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公社式的社会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，它并不强求一致，但却通过明显可见的公正制度而达到全体一致”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财产公有，人人平等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，这是《乌托邦》的一个基本观点，正如正义是贯穿《理想国》的内在精神，公平则是《乌托邦》的核心理念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莫尔以公平的理念构筑乌托邦的社会制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33360"/>
            <a:ext cx="8675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圣西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法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世纪上半叶第一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空想社会主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者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社会制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业制度所代替。实业制度的唯一目的就是尽善尽美地运用科学、艺术和工业所取得的成就，以满足全体社会成员的需要，并尽快地改善无产阶级的物质和精神状况。在这种制度下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人人参加劳动，有计划地组织生产，采取按才能和贡献进行分配的原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457200"/>
            <a:ext cx="838224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大同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“小康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今国家也提出先要领导人民实现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小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水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小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词，出自《礼记》，据传乃孔子所言。其中《礼运》篇，描述西周初期的社会景象，表达了孔子的社会理想。这一篇，孔子提出了两个相互关联的概念，一个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大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一个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小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。比较起来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大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理想里说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古人不独亲其亲，不独亲其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而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因此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全社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都要共同关心的对象；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小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则只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各亲其亲，各子其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家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为单位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724280" y="0"/>
            <a:ext cx="44197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华文新魏"/>
                <a:ea typeface="华文新魏"/>
              </a:rPr>
              <a:t>马克思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伟大的思想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他和思格斯共同创立的马克思主义学说，提出社会主义和共产主义伟大的理想的社会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中国共产党章规定：党的最终目标，是实行共产主义的社会制度，认为资本主义最后必然发展为共产主义社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“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各尽所能，按需分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”是共产主义的社会制度的基本概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《大道之行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0560" y="4221000"/>
            <a:ext cx="547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《礼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38188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《大道之行也 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自《礼记》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儒家经典之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选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Times New Roman"/>
              </a:rPr>
              <a:t>礼记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•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Times New Roman"/>
              </a:rPr>
              <a:t>礼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》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该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大约是战国末年或秦汉之际儒家学者托名孔子答问的著作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文章中提出一个著名的关于人类美好社会的构想，并给它定名为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大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。请注意理解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天下为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这个关键词理，清课文的层次，然后分析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大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 社会的基本特征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533520"/>
            <a:ext cx="70866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给下面加点的字注音并解释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选贤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宋体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男有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宋体"/>
              </a:rPr>
              <a:t>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女有归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货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宋体"/>
              </a:rPr>
              <a:t>恶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其弃于地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陶后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宋体"/>
              </a:rPr>
              <a:t>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143000"/>
            <a:ext cx="860436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贤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与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jǔ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能。与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通“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讲信修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睦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mù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睦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和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气氛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矜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guān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矜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通“鳏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分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f</a:t>
            </a:r>
            <a:r>
              <a:rPr b="1" i="1" lang="zh-CN" sz="12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èn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分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职分，指职业、职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货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恶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ｗ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ù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弃于地也。恶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憎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2286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给下面加点的字注音并解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228600"/>
            <a:ext cx="3809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行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下为公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选贤与能②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讲信修睦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333360"/>
            <a:ext cx="5794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大道施行的时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天下是人们所共有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把有贤德、有才能的人选出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讲求诚信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Times New Roman"/>
              </a:rPr>
              <a:t>培养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和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581280"/>
            <a:ext cx="7772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大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古代指政治上的最高理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②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选贤与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ǔ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把品德高尚的人、能干的人选拔出来。与，通“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③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讲信修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ｍ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ù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讲求诚信，培养和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气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518184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故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人不独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亲④其亲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不独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子其子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使老有所终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壮有所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幼有所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矜、寡、孤、独、废疾者⑤皆有所养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男有分⑥，女有归⑦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718080"/>
            <a:ext cx="487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④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亲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]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如动词，以……为亲。下文“子其子”中的第一个“子”也是动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⑤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〔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(guān)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、寡、孤、独、废疾者〕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矜，老而无妻的人。矜，通“鳏”。寡，老而无夫的人。孤，幼而无父的人。独，老而无子的人。废疾，残疾人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⑥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〔男有分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(fèn)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〕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男子有职务。分，职分，指职业、职守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⑦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〔女有归〕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意思是女子有归宿。归，女子出嫁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8088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人不单奉养自己的父母，不单抚育自己的子女，使老人能够终其天年，中年人能为社会效力，幼童能够顺利成长，使老而无妻的人、老而无无夫的人、幼而丧父的人、老而无子的人、残疾人都能够得到供养，男子有职业，女子都有归宿（婚嫁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80880"/>
            <a:ext cx="358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货恶其弃于地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必藏于己③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力恶其不出于身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必为己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故谋闭而不兴⑤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盗窃乱贼而不作⑥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外户⑦而不闭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谓大同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228600"/>
            <a:ext cx="4800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（人们）憎恨财货被扔在地上的行为，却不一定要自己私藏。（人们）也憎恶那种在共同劳动中不肯尽力的行为，而不一定为自己谋私利。因此奸邪之谋不会发生，盗窃、造反和害人的事情不会发生。所以（家家户户）都不用关大门，这就叫做“大同”的社会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464832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恶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ｗ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ù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憎恶。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④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为自己谋私利。⑤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〔谋闭而不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〕奸邪之谋不会发生。⑥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指造反。贼，指害人。作，兴起。⑦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〔外户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外面把门扇合上。⑧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〔闭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门闩插门。⑨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〔大同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理想社会。同，有和、平的意思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33720" y="304920"/>
            <a:ext cx="4647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大同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社会的特征的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2971800"/>
            <a:ext cx="5410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人人都受到全社会的关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人人都能安居乐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货尽其用，人尽其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990720"/>
            <a:ext cx="990360" cy="5104800"/>
            <a:chOff x="609480" y="990720"/>
            <a:chExt cx="990360" cy="5104800"/>
          </a:xfrm>
        </p:grpSpPr>
        <p:sp>
          <p:nvSpPr>
            <p:cNvPr id="63" name=""/>
            <p:cNvSpPr/>
            <p:nvPr/>
          </p:nvSpPr>
          <p:spPr>
            <a:xfrm>
              <a:off x="609480" y="990720"/>
              <a:ext cx="990360" cy="5104800"/>
            </a:xfrm>
            <a:prstGeom prst="verticalScroll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1796760"/>
              <a:ext cx="60948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公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467480" y="990720"/>
            <a:ext cx="990720" cy="5104800"/>
            <a:chOff x="7467480" y="990720"/>
            <a:chExt cx="990720" cy="5104800"/>
          </a:xfrm>
        </p:grpSpPr>
        <p:sp>
          <p:nvSpPr>
            <p:cNvPr id="66" name=""/>
            <p:cNvSpPr/>
            <p:nvPr/>
          </p:nvSpPr>
          <p:spPr>
            <a:xfrm>
              <a:off x="7467480" y="990720"/>
              <a:ext cx="990720" cy="5104800"/>
            </a:xfrm>
            <a:prstGeom prst="verticalScroll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96080" y="1796760"/>
              <a:ext cx="60948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0:24:47Z</dcterms:created>
  <dc:creator>Legend User</dc:creator>
  <dc:description/>
  <dc:language>en-US</dc:language>
  <cp:lastModifiedBy>js</cp:lastModifiedBy>
  <dcterms:modified xsi:type="dcterms:W3CDTF">2005-09-13T01:04:14Z</dcterms:modified>
  <cp:revision>15</cp:revision>
  <dc:subject/>
  <dc:title>PowerPoint 演示文稿</dc:title>
</cp:coreProperties>
</file>