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BCD5-8399-4420-9DE3-C909D92F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6E1F-B663-4BB0-A4E3-5D894A2B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7C2B-6AE4-4E10-BAD7-6F3FA13D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9E04-749E-4FCE-B8AB-D860975A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EE78-856D-42B6-B385-4301F246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5123-C7DE-4968-B931-402F6200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3134-AB76-4438-9C84-7AB866B7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7492-466D-4756-A76C-9373441C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1D8C-A854-462F-97B0-3429244A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9990-DB2E-4CDD-9B6D-D2CA3670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45DE-D782-45A2-AA39-77CC1FA5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7342-C15E-4CDE-8CA6-3F0CD840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0C15-9785-4FA9-B3E5-AB6EC83F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C9EE-B41F-4C4E-BA34-E6286DDB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D831-FBE6-4D8D-AF52-5CEF3193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C31B-7A76-4BD2-B1DF-F5E11B03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CE2A-A646-4857-82E6-E3DABD53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4635-0019-4547-A229-0E27AAC7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18C6-DC62-48A5-B6AF-AC51595A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2D57-E0E6-4841-878A-1B3ABD20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DE10-367C-4853-8C37-5C9BAE39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2858-7049-4A24-93FE-AEC8EC73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5D2C-14CD-478D-BCBE-63020407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39E1-D70A-4F24-A307-E27D89A4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8016-8A1F-4686-99A7-C27EAC583A39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728D-9A09-4249-B700-666A5A0F0960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795241"/>
                </a:solidFill>
                <a:latin typeface="Times New Roman"/>
              </a:rPr>
              <a:t>游褒禅山记</a:t>
            </a:r>
            <a:endParaRPr b="0" i="1" lang="en-US" sz="8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8120" y="4343040"/>
            <a:ext cx="5867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王安石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                                          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                                   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朗读正音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庐冢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zhǒng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盖音谬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miù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也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窈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yǎo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然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咎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jiù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    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无物以相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xiàng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之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何可胜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sh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</a:rPr>
              <a:t>è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 ng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道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7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王回深父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fǔ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8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今言“华（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huā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”如“华（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huá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实”之“华（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huá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”者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553080" y="12193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Times New Roman"/>
              </a:rPr>
              <a:t>理清思路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一（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：记叙——游山经过。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二（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3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4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：议论——游山心得。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三（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5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：记叙的结尾，补叙同 游者的籍贯、姓名。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宋体"/>
              </a:rPr>
              <a:t>中心句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91937"/>
                </a:solidFill>
                <a:latin typeface="华文新魏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e91937"/>
                </a:solidFill>
                <a:latin typeface="华文新魏"/>
                <a:ea typeface="华文新魏"/>
              </a:rPr>
              <a:t>尽吾志</a:t>
            </a:r>
            <a:r>
              <a:rPr b="1" lang="zh-CN" sz="5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也而不能至者，可以无悔矣 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此所以学者不可以不</a:t>
            </a:r>
            <a:r>
              <a:rPr b="1" lang="zh-CN" sz="5400" spc="-1" strike="noStrike">
                <a:solidFill>
                  <a:srgbClr val="e91937"/>
                </a:solidFill>
                <a:latin typeface="华文新魏"/>
                <a:ea typeface="华文新魏"/>
              </a:rPr>
              <a:t>深思而慎取</a:t>
            </a:r>
            <a:r>
              <a:rPr b="1" lang="zh-CN" sz="5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之 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Times New Roman"/>
              </a:rPr>
              <a:t>空间方位图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2119320"/>
          <a:ext cx="7924680" cy="42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119320"/>
                    <a:ext cx="7924680" cy="42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1905120"/>
            <a:ext cx="7239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795241"/>
                </a:solidFill>
                <a:latin typeface="Times New Roman"/>
              </a:rPr>
              <a:t>研读课文</a:t>
            </a:r>
            <a:endParaRPr b="0" i="1" lang="en-US" sz="72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400" y="7086240"/>
            <a:ext cx="64008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第一自然段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0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介绍褒禅山概况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文顺序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91937"/>
                </a:solidFill>
                <a:latin typeface="隶书"/>
                <a:ea typeface="隶书"/>
              </a:rPr>
              <a:t>本名①</a:t>
            </a:r>
            <a:r>
              <a:rPr b="1" lang="zh-CN" sz="4800" spc="-1" strike="noStrike">
                <a:solidFill>
                  <a:srgbClr val="e91937"/>
                </a:solidFill>
                <a:latin typeface="隶书"/>
                <a:ea typeface="隶书"/>
              </a:rPr>
              <a:t>→</a:t>
            </a:r>
            <a:r>
              <a:rPr b="0" lang="zh-CN" sz="4800" spc="-1" strike="noStrike">
                <a:solidFill>
                  <a:srgbClr val="e91937"/>
                </a:solidFill>
                <a:latin typeface="隶书"/>
                <a:ea typeface="隶书"/>
              </a:rPr>
              <a:t>别名由来及证明②③→华山洞名来由④→从仆碑看出本名⑤→指出音谬⑥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91937"/>
                </a:solidFill>
                <a:latin typeface="宋体"/>
              </a:rPr>
              <a:t> 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重点字词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舍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词作动词，筑舍定居。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名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词作动词，命名，起名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东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词作状语，往东 。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乃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；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副词，表判断，有“为、是”之意。</a:t>
            </a:r>
            <a:r>
              <a:rPr b="0" lang="zh-CN" sz="4000" spc="-1" strike="noStrike">
                <a:solidFill>
                  <a:srgbClr val="ff6600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里作“在”讲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特殊句式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宋体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463634"/>
                </a:solidFill>
                <a:latin typeface="宋体"/>
                <a:ea typeface="华文新魏"/>
              </a:rPr>
              <a:t>今所谓慧空禅院者，褒之庐冢也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宋体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463634"/>
                </a:solidFill>
                <a:latin typeface="宋体"/>
                <a:ea typeface="华文新魏"/>
              </a:rPr>
              <a:t>所谓华山洞者，以其乃华山之阳名之也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宋体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463634"/>
                </a:solidFill>
                <a:latin typeface="宋体"/>
                <a:ea typeface="华文新魏"/>
              </a:rPr>
              <a:t>今言“华”如“华实”之“华”者，盖音谬也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1937"/>
                </a:solidFill>
                <a:latin typeface="宋体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e91937"/>
                </a:solidFill>
                <a:latin typeface="宋体"/>
                <a:ea typeface="华文新魏"/>
              </a:rPr>
              <a:t>这三个句子都用“……者……也”表示判断。其中的“者”是语气助词，表示提顿；“也”是语气助词，表示判断。第一个句子是一般判断句。第二、三个句子是因果关系的判断句，其中的“者”有提示原因的作用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172200" y="1600200"/>
            <a:ext cx="109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平旷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9360" y="35053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游华山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洞的经过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71720" y="2743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游洞经过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35080" y="4724280"/>
            <a:ext cx="176724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追记后洞中所见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并表示遗憾心情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96880" y="2057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前洞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96880" y="3581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后洞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05640" y="2362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游者甚众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3124080"/>
            <a:ext cx="2114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窈、寒、深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34360" y="4114800"/>
            <a:ext cx="1034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游者少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2895480"/>
            <a:ext cx="304560" cy="2362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2286000"/>
            <a:ext cx="304920" cy="1600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1905120"/>
            <a:ext cx="304920" cy="761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3505320"/>
            <a:ext cx="304920" cy="838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33600" y="45720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第二自然段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45920" y="4646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6ac4b"/>
                </a:solidFill>
                <a:latin typeface="隶书"/>
                <a:ea typeface="隶书"/>
              </a:rPr>
              <a:t>→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4876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悔</a:t>
            </a:r>
            <a:r>
              <a:rPr b="0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重点字词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侧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词作状语，从旁边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91937"/>
                </a:solidFill>
                <a:latin typeface="华文新魏"/>
                <a:ea typeface="华文新魏"/>
              </a:rPr>
              <a:t>深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形容词作名词，深度。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91937"/>
                </a:solidFill>
                <a:latin typeface="华文新魏"/>
                <a:ea typeface="华文新魏"/>
              </a:rPr>
              <a:t>明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形容词作动词，照明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穷、</a:t>
            </a:r>
            <a:r>
              <a:rPr b="0" lang="zh-CN" sz="4000" spc="-1" strike="noStrike">
                <a:solidFill>
                  <a:srgbClr val="e91937"/>
                </a:solidFill>
                <a:latin typeface="华文新魏"/>
                <a:ea typeface="华文新魏"/>
              </a:rPr>
              <a:t>见、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至、极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795241"/>
                </a:solidFill>
                <a:latin typeface="Times New Roman"/>
              </a:rPr>
              <a:t>教学目的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36196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Arial Unicode MS"/>
                <a:ea typeface="Arial Unicode MS"/>
              </a:rPr>
              <a:t>    </a:t>
            </a: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理解作者“尽吾志”的思想，体会“深思慎取”的重要性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了解因事见理，叙议结合的写法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掌握“乃”、“道”、“盖”、“文”、“然”等词的意义和用法；了解“其”的不同用法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1523880"/>
            <a:ext cx="72392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795241"/>
                </a:solidFill>
                <a:latin typeface="Times New Roman"/>
              </a:rPr>
              <a:t>未完待续</a:t>
            </a:r>
            <a:endParaRPr b="0" i="1" lang="en-US" sz="8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14400" y="7238880"/>
            <a:ext cx="64008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086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795241"/>
                </a:solidFill>
                <a:latin typeface="Times New Roman"/>
              </a:rPr>
              <a:t>第一、二课时</a:t>
            </a:r>
            <a:br>
              <a:rPr sz="8000"/>
            </a:br>
            <a:endParaRPr b="0" i="1" lang="en-US" sz="8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0" y="525744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共四课时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宋体"/>
              </a:rPr>
              <a:t>解题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”是一种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文体</a:t>
            </a: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，有奏记、游记、杂记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分为四类：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游、记事 、记亭台楼阁、记物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本朝人尚理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          ——</a:t>
            </a: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严羽《沧浪诗话》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利用游记进行说理</a:t>
            </a: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Times New Roman"/>
              </a:rPr>
              <a:t>作者简介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王安石，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字介甫</a:t>
            </a: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号半山</a:t>
            </a: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，因封荆国公，世称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王荆公</a:t>
            </a: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，卒谥文。北宋临川人，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政治家</a:t>
            </a: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文学家</a:t>
            </a: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。他两度为相进行变法，强调“权时之变”，反对因循保守。列宁称其为“中国十一世纪的改革家”。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在文学上为宋朝一大家。其散文，雄健峭拔，语言简练，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华文新魏"/>
              </a:rPr>
              <a:t>“唐宋八大家”之一</a:t>
            </a:r>
            <a:r>
              <a:rPr b="1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。代表作有《答司马谏议书》、《读孟尝君传》等。其诗歌，长于说理，精于修辞，也有情韵深婉之作，风格遒劲有力。如《明妃曲》、《北坡杏花》、《泊船瓜洲》等。所作词不多，却能“一洗五代旧俗”，不受前人绮靡风气的影响。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他的作品今存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《王临川集》、《临川集拾遗》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Times New Roman"/>
              </a:rPr>
              <a:t>明妃曲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明妃初出汉宫时，泪湿春风鬓脚垂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低回顾影无颜色，尚得君王不自持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归来却怪丹青手，入眼平生未曾有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意态由来画不成，当时枉杀毛延寿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一去心知更不归，可怜着尽汉宫衣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寄声欲问塞南事，只有年年鸿雁飞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家人万里传消息，好在毡城莫相忆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君不见咫尺长门闭阿娇，人生失意无南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Times New Roman"/>
              </a:rPr>
              <a:t>桂枝香</a:t>
            </a:r>
            <a:br>
              <a:rPr sz="4400"/>
            </a:br>
            <a:r>
              <a:rPr b="1" i="1" lang="zh-CN" sz="3200" spc="-1" strike="noStrike">
                <a:solidFill>
                  <a:srgbClr val="795241"/>
                </a:solidFill>
                <a:latin typeface="Times New Roman"/>
              </a:rPr>
              <a:t>金陵怀古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登临送目，正故国晚秋，天气初肃。千里澄江似练，翠峰如簇。征帆去棹残阳里，背西风、酒旗斜矗。彩舟云淡，星河鹭起，画图难足。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念往昔、繁华竞逐。叹门外楼头，悲恨相续。千古凭高，对此漫嗟荣辱。六朝旧事随流水，但寒烟衰草凝绿。至今商女，时时犹唱，后庭遗曲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宋体"/>
              </a:rPr>
              <a:t>背景知识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本文是王安石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34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岁时的作品。四年后（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1058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年）他给宋仁宗上万言书，主张改革政治；十六年后（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1070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年）拜相，不顾保守派的反对，积极推行新法。传有“天变不足畏，祖宗不足法，人言不足恤”的观点，这跟本文“尽吾志也而不能至，可以无悔矣”的观点是一致的，可视为这一观点的发展</a:t>
            </a:r>
            <a:r>
              <a:rPr b="0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13360" y="1981080"/>
            <a:ext cx="307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1752480"/>
            <a:ext cx="72392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795241"/>
                </a:solidFill>
                <a:latin typeface="Times New Roman"/>
              </a:rPr>
              <a:t>初读课文</a:t>
            </a:r>
            <a:endParaRPr b="0" i="1" lang="en-US" sz="72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14400" y="5257800"/>
            <a:ext cx="64008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14:01:56Z</dcterms:created>
  <dc:creator>nieminli</dc:creator>
  <dc:description/>
  <dc:language>en-US</dc:language>
  <cp:lastModifiedBy>陈泽滨</cp:lastModifiedBy>
  <dcterms:modified xsi:type="dcterms:W3CDTF">2004-11-29T05:14:42Z</dcterms:modified>
  <cp:revision>17</cp:revision>
  <dc:subject/>
  <dc:title>游褒禅山记</dc:title>
</cp:coreProperties>
</file>