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456-BEE6-4F23-B947-2772417D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A80-A2EF-4933-B96E-3513B59C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C8C-B0D5-4505-80B2-37D4A95C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E4A-7662-4714-9BD8-5239677C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F39F-9A14-4505-A3B0-749754E5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6555-24B2-4AF3-9F11-4A92E3F6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D52B-CA3D-48FC-91F9-555D1FA3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8D42-CC90-4E28-AAAC-35D13248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E2B3-0E72-4099-81A1-763DA71E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D41E-AEBD-4584-BAF0-4B597E91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67D9-EE5D-4F8D-8226-2990C706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6BE-EE22-4CD9-903D-00C8DF23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742B-91AD-468F-8BE4-8C97BAA8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1F90-2E68-4671-835A-C2E8F2A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8502-C5D9-4E05-90F1-7FFDC6FE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7351-AFBC-40C5-B32F-777D3CC1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4974-7DDD-4A3D-A6D6-09B56975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40E-3829-4AEB-AF9C-D451D1EA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48C-2AA5-483D-8259-9784A5EF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18A-AD72-4BEE-AB8F-8A46C13A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118-E5A2-459A-AC02-CEA40548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55C-B5A0-4126-871F-9EF96147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F23-D894-44AC-957E-82B1359B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A03-F0E1-47FE-9330-C51AD0E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B686-8FB6-48CF-9DB6-775E212382B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9CED-DD59-464C-969F-6908AB0CA96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Arial"/>
                <a:ea typeface="华文隶书"/>
              </a:rPr>
              <a:t>欢迎指导：           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细黑"/>
              </a:rPr>
              <a:t>江苏省赣榆高级中学：张永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"/>
                <a:ea typeface="楷体_GB2312"/>
              </a:rPr>
              <a:t>读李贺作品有感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风吹地百草干，华容碧影生晚寒。携盘独出月荒凉，茵草冷烛露幽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云中谁人骑碧驴，一心愁谢无君怜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烟花无物结同心，无情有恨何曾见？雨冷香魂吊书客，忆君清泪水如铅。纵有长歌哭短歌，青筒书虫何以堪？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探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仿宋_GB2312"/>
              </a:rPr>
              <a:t>宋代诗论家严羽在《沧浪诗话》中说：“太白仙才，长吉鬼才”，后人称李白为诗仙，李贺为诗鬼，请思考：诗鬼与诗仙的区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5202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将进酒 </a:t>
            </a:r>
            <a:br>
              <a:rPr sz="5400"/>
            </a:b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李贺</a:t>
            </a:r>
            <a:r>
              <a:rPr b="1" lang="zh-CN" sz="5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5400"/>
            </a:br>
            <a:br>
              <a:rPr sz="54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琉璃钟，琥珀浓， 小槽酒滴真珠红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烹龙炮凤玉脂泣， 罗帏绣幕围香风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吹龙笛，击鼍鼓； 皓齿歌，细腰舞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况是青春日将暮， 桃花乱落如红雨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劝君终日酩酊醉， 酒不到刘伶坟上土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524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      </a:t>
            </a: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天才的第一声啼哭，</a:t>
            </a:r>
            <a:br>
              <a:rPr sz="6000"/>
            </a:b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也决不是一首音乐。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行楷"/>
              </a:rPr>
              <a:t>  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天才与勤奋嫁接才能结出最灿烂的果实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-2289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隶书"/>
              </a:rPr>
              <a:t>天   上   谣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华文行楷"/>
                <a:ea typeface="华文行楷"/>
              </a:rPr>
              <a:t>李   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天 上 谣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河夜转漂回星， 银浦流云学水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玉宫桂树花未落， 仙妾采香垂珮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秦妃卷帘北窗晓， 窗前植桐青凤小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子吹笙鹅管长， 呼龙耕烟种瑶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粉霞红绶藕丝裙， 青洲步拾兰苕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东指羲和能走马， 海尘新生石山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画面一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玉宫桂树花未落， 仙妾采香垂珮缨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月桂飘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月宫里的桂树啊，永不枯萎，那袭人的馨香也不会销歇。看吧，那踏香而来的仙女们正在采摘你的美丽，她们要把你的花朵装进香囊，她们要用你的馨香装点衣带上最美的饰物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二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秦妃卷帘北窗晓， 窗前植桐青凤小；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秦妃望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晨光熹微，弄玉慢慢卷起窗帘，当窗眺望，那窗外的晨景，清新而明净，咦！窗前的那棵梧桐树上，怎么会立着一只小巧的青凤，难道它就是当年引导我和萧史升天的那只神鸟吗？时间过的真快啊，弹指千余年，而我红颜未老，那青凤也娇小如故。天宫真好啊！任凭时间推移，也没有在我们的身上留下任何痕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三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子吹笙鹅管长， 呼龙耕烟种瑶草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神龙耕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仙人王子晋又抚起了他那细长的笙管，轻轻一吹，依然是那熟悉的凤凰鸣，在那熟悉的旋律中，只见一条条神龙翻耕着烟云，播种着玉芝草，多么悠闲自在！多么潇洒飘逸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四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粉霞红绶藕丝裙， 青洲步拾兰苕春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仙女寻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系着粉霞色的丝带，穿着藕丝色的长裙，仙女们漫步小洲，踏着一地青翠。她们指顾言谈，走过林木的茂密，她们采摘兰花，享尽山川的秀丽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钱  钟  书：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皆深有感于日月逾迈，沧桑改换，而人事之代谢不与焉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y</cp:lastModifiedBy>
  <dcterms:modified xsi:type="dcterms:W3CDTF">2008-12-24T02:39:0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