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AC8-ABDE-4719-B12A-3313896F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8DF-C523-4422-B0A9-97B787C5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6DB-E1AE-4387-8B6C-DB7643D3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03D-E090-4453-B448-F5A68618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D8D7-81DD-4BAD-9E73-FFAD5F28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B5A5-77C6-4368-88C1-24CB821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3152-2CBB-4D95-8323-EE215F2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8C72-6EAF-4E8A-A47A-5DE26B7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2192-43FC-4AB7-99CE-D7AB9179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A0E5-9829-4B7C-9C2A-EBF7DF1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89D9-C4E4-468D-9823-6B54BDA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359-3A44-441A-9BAD-1FBEED43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71AE-B076-4433-8F64-2EA964D0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C143-D13C-47CD-820B-F29E9DC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97A6-7AA8-4A7E-9A66-2F0C92D7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9881-19EC-4A1E-B4C7-9E527915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CD53-F5B8-44A8-BF65-3FF07E34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B0CD-A188-467E-B6D1-604E9F95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9885-D317-4187-85FA-B2AE74A6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09F0-87C5-4637-BC28-8146BD2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7290-4F68-403D-A3EC-5C29E7D0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CAF4-DA92-4F14-866E-9EB182F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D7D-2CBC-4B22-B226-3600225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0F07-9C57-4FF2-8DB4-6D52EE1B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F0B4-ADDE-44EA-90AF-C9F550F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740F-4F80-4781-B58C-2A6FABF7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1DBA7-CD96-4FA7-94C6-38CDC43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0C61-C81E-4603-BF08-44816EC3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60DF-A2CF-4D88-9C3A-42DFD5B8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2996-D124-4C10-A07B-793E6242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34E8-7D81-450F-8F40-5D47C5E0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9A4F-CCD8-4BA7-B1FB-F4F17C89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0678-B964-4A76-BF76-FC6D9B2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F71-0729-4336-A0D8-B8DEAED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1418C-91C8-4434-A24E-CB55B09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2E32-489F-4FAD-BA46-1CB6BA4D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C11E-2DF0-4001-9E6B-1B375C1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D12D-75E2-4008-934D-42529A2A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A7C3-F21A-4FAE-BCF7-1FC75B3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0498-D7AA-4C0D-88A0-6C0C16A7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6F096-9504-4284-AAA4-DCB679BB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80AF0-6555-4B63-A651-E5EF8483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0D41-0B97-4098-983B-1C7ECD27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A1E-7F3D-4842-9E90-E4CEF340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4A2-65B5-4B9B-826B-9FC62FD1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1C5-046D-4A9A-95E1-549135AC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930-C3FC-4312-B336-40FE2B8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7A7-35A7-479B-884C-E4D857E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5213-06EC-4CFC-A406-99D30CE3CC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D703-B8FF-4E6C-94D0-A5C89C72D8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FB0C-9BF0-48E2-BD13-CFED383F32E9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B834-0E88-4511-8481-397243AAC13F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6920" y="765000"/>
            <a:ext cx="712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词复习大比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1638360" y="5740560"/>
            <a:ext cx="75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制作：黑龙江鹤岗英华中学  赵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第四组必答题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五十弦翻塞外声，沙场秋兵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弓如霹雳弦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赢得生前身后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在河之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似曾相识燕归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明朝散发弄扁舟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山色有无中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欲上青天揽明月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波澜动远空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中间小谢又清发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君子好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为抢答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必须全答对，答对每组题加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，有一道答错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。答错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就倒扣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6630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了却君王天下事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安得广厦千方间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中写出作者对时光流逝的惋惜和对生命珍视之情的语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 中以苍茫山色烘托水势的浩瀚，如电影境头般展现出汉江的山光水色的句子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朓楼饯别校书叔云》中诗人借用比喻，抒发内心愁苦、愤懑之情的句子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中化用典故表达自己希望得到朝廷信任和重用之情的句子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汉江临眺》 中 写江水汹涌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破阵子》抒发词人一生中的事业与抱负，并发尽无尽感叹的句子是：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君子于役》一诗中统领全诗的中心句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僵卧孤村不自哀， 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宣州谢朓楼饯别校书叔云》表现作者不甘陈沦、豁达乐观精神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593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在《行路难》中最能表现李白面对挫折积极向上，对理想执着追求的诗句是：（                        ） 但是与之相反的是《宣州谢楼饯别校书叔云》中（                  ）却又表现出他面对困难消极避世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中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写出山光水色，“诗中有画”的句子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醉里挑灯看剑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密州出猎》中作者写出回报人们倾城而来观看其守猎盛情的语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关雎》中统领全诗的句子是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18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破阵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为陈同甫赋壮词以寄之》中写出战斗之激烈和顺利的语句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君子于役》中用侧面烘托手法表现对久役不归的丈夫思念心情的诗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一词的上片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(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，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两句构成“新”与“旧”的对比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抒写人到中年的主人公，壮志未酬的感叹的诗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楼饯别校书叔云》诗人借前人之能称许李云和自己才能的语句是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创新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931760"/>
            <a:ext cx="83739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抢先回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必须全答对，全答对每题加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，答错扣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举手前可以互相商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猜谜语（猜诗中涉及的人物典故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此地别燕丹，壮士发冲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昔时人已没，今日水犹寒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寄书元有雁，食雪不离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施尽风霜节，心悬日月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岁岁金河复玉关，朝朝马策与刀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三春白雪归青冢，万里黄河绕黑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答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荆轲刺秦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苏武牧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昭君出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必答题（一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要求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如果每组有说话或其它违反纪律者扣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的裁判请公正并及时打好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从后面蛇行轮答，每人答一题，不许空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限定时间为：每组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钟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你从下面所罗列的作者中任选两位，分别写出一则课文中表达他们的志趣，追求，或展现他们的胸怀、抱负的名言警句，意思要相对完整。作者：孟子、王勃、范仲淹、周敦颐、苏轼、诸葛亮、文天祥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孟子：生，亦无所欲也，义，亦我所欲也；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王勃：海内存知己，天涯若比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范仲淹：先天下之忧而忧，后天下之乐而乐。   （不以物喜，不以己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周敦颐：予独爱莲之出淤泥而不染，濯清涟而不妖，中通外直，不蔓不枝，香远益清，亭亭净植，可远观而不可亵玩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苏轼：但愿人长久，千里共婵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诸葛亮：苟全性命于乱世，不求闻达于诸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用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旧瓶装新酒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的方法会为你的作文增彩，不信你看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41468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c0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时节雨纷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路上行人欲断魂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借问酒家何处有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牧童遥指杏花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8196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仿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清明时节沙纷纷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路上行人满面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借问青山何处有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牧童遥指盆景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采用此法让旧瓶装上新酒吗？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要求：改后的诗要与环保有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2028960"/>
            <a:ext cx="8469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登幽州台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唐  陈子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我也能让酒瓶装上新酒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登幽州台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前不见青山，后不见绿水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念天地之污染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2090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总结：古典诗词是中华民族文化的精髓。我们不应只是为此而骄傲，更应学为我用，让它发扬光大。所以背诵、积累是途径，运用是关键。希望同学们学习古诗词能真正做到勤学、爱学、会学、巧学、妙学。祝同学们在各种考试中能有个满意的结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249228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请分别说出有关春、夏、秋、冬的诗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1326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184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533520" cy="1608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941480" y="4221000"/>
            <a:ext cx="555480" cy="1600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268360" y="1844640"/>
            <a:ext cx="446436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03640" y="4581360"/>
            <a:ext cx="2879640" cy="8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第一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人生在世不称意 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持节云中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？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窈窕淑女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抽刀断水水更流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俱怀逸兴壮思飞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郡邑浮前浦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楚塞三湘接，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江流天地外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乱我心者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必答题（二）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先由下一组指定主答者和帮助者各一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选手根据题目背原诗，注意一定要说出作者否则扣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题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，答错不扣分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c0c"/>
                </a:solidFill>
                <a:latin typeface="Arial"/>
              </a:rPr>
              <a:t>第二组必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91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对此可以酣高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鬓微霜，又何妨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西北望，射天狼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亲射虎，看孙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梦回吹角连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423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苟无饥渴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留醉与山翁 。  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赢得生前身后名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左牵黄，右擎苍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昨日之日不可留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去年天气旧亭台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会挽雕弓如满月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求之不得，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2400" y="647280"/>
            <a:ext cx="88423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关关雎鸠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蒹葭苍苍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襄阳好风日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酒酣胸胆尚开张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，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了却君王天下事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8:18:04Z</dcterms:created>
  <dc:creator>Legend User</dc:creator>
  <dc:description/>
  <dc:language>en-US</dc:language>
  <cp:lastModifiedBy>y</cp:lastModifiedBy>
  <dcterms:modified xsi:type="dcterms:W3CDTF">2008-05-05T02:23:08Z</dcterms:modified>
  <cp:revision>44</cp:revision>
  <dc:subject/>
  <dc:title>幻灯片 1</dc:title>
</cp:coreProperties>
</file>