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3.gif" ContentType="image/gif"/>
  <Override PartName="/ppt/media/image8.jpeg" ContentType="image/jpeg"/>
  <Override PartName="/ppt/media/image5.png" ContentType="image/png"/>
  <Override PartName="/ppt/media/image29.jpeg" ContentType="image/jpeg"/>
  <Override PartName="/ppt/media/image28.jpeg" ContentType="image/jpeg"/>
  <Override PartName="/ppt/media/image7.jpeg" ContentType="image/jpeg"/>
  <Override PartName="/ppt/media/image4.png" ContentType="image/png"/>
  <Override PartName="/ppt/media/image12.jpeg" ContentType="image/jpeg"/>
  <Override PartName="/ppt/media/image19.jpeg" ContentType="image/jpeg"/>
  <Override PartName="/ppt/media/image25.gif" ContentType="image/gif"/>
  <Override PartName="/ppt/media/image6.jpeg" ContentType="image/jpeg"/>
  <Override PartName="/ppt/media/chimes.wav" ContentType="audio/x-wav"/>
  <Override PartName="/ppt/media/image23.gif" ContentType="image/gif"/>
  <Override PartName="/ppt/media/image16.png" ContentType="image/png"/>
  <Override PartName="/ppt/media/image30.jpeg" ContentType="image/jpeg"/>
  <Override PartName="/ppt/media/image11.png" ContentType="image/png"/>
  <Override PartName="/ppt/media/image9.jpeg" ContentType="image/jpeg"/>
  <Override PartName="/ppt/media/image2.png" ContentType="image/png"/>
  <Override PartName="/ppt/media/image22.gif" ContentType="image/gif"/>
  <Override PartName="/ppt/media/image10.png" ContentType="image/png"/>
  <Override PartName="/ppt/media/image1.jpeg" ContentType="image/jpeg"/>
  <Override PartName="/ppt/media/image13.jpeg" ContentType="image/jpeg"/>
  <Override PartName="/ppt/media/image18.gif" ContentType="image/gif"/>
  <Override PartName="/ppt/media/image14.jpeg" ContentType="image/jpeg"/>
  <Override PartName="/ppt/media/image15.jpeg" ContentType="image/jpeg"/>
  <Override PartName="/ppt/media/image27.jpeg" ContentType="image/jpeg"/>
  <Override PartName="/ppt/media/image17.gif" ContentType="image/gif"/>
  <Override PartName="/ppt/media/image26.gif" ContentType="image/gif"/>
  <Override PartName="/ppt/media/image20.jpeg" ContentType="image/jpeg"/>
  <Override PartName="/ppt/media/image21.gif" ContentType="image/gi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4170-AF30-4884-AFBC-C379FEA6D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BF32-AAAF-4B48-9681-E27C82FC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C057F-A375-48E2-9313-D2F90A9B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F661E-0B34-4CFD-A297-238E993B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E5A69-0AE7-4452-855B-2BFC5FDC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555F79-AD7E-47AE-8E6E-C5532DA3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24516-1E34-49B3-92C5-DB01697E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19A83-F369-47E9-BE55-91032986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F4A49-5750-4B65-9A7E-603985E7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9D6067-5E79-4CCB-A994-F2981C049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0527C-8F40-4E02-9A58-FBDBF8A3E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F6BD35-3DB4-40D4-9AE5-90FF87800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828D-3575-4F79-B201-7124B74A2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668B45-5A8D-4DD5-9DAC-40E36F0C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DAE342-9E47-4522-A1CE-83861AEE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5015EB-39C4-43AD-8CDD-82025510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44DE73-48FA-4C42-9744-51B53B1D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6D293B-034A-4E53-B1C0-928CE774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85C7CD-C220-4F36-8D6F-1D77DF02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D540DD-012B-423B-B644-52B0AF06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C538CC-7DFC-4638-A8A0-22FE4D3F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3C21CC-B874-4ADA-918E-1D4CB62F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F9B597-390A-497C-9CCC-9FBCECD0E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8DF1-4FB4-47B1-8B48-B1AF4B5AA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BCC146-D154-4A9B-99FF-B91D9FAE6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9C50-7274-4D98-994B-C885E1BFE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E0D9-BAA7-4DBC-9714-F99353E4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E430-7F24-45AE-927C-96D28E0A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4827-6264-4A77-AB2B-A0C2BAD7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B924-C18D-4D5E-8538-E6955270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564A-9219-4DAA-8E1D-A5D9E306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5985-D5E8-4D0D-9B7B-90DFEA0A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E034-ED79-4EAA-AC81-E4D46529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7873-A213-4984-AA2D-0771F5CA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375B-FFAA-4100-A509-A8008731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F67C-02C2-423C-A470-9A1042E2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2FB0-DFBF-46B6-9C9C-EEBFE5738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194A-6013-4A1B-B9A9-B1A80337E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C404F-4ADE-4387-AAFE-E71B9E398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9019F-7917-4BAD-A913-C6288126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DBD6A-0817-4CED-AEAB-3D47C8DA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B4908-D288-4014-A496-BA991F7D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6DEA0-9632-4294-8627-7B2546BD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F01D-BDF8-4882-BDAD-BCDCBAEF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DFCDB-85F2-4701-B7B2-C558FF1A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A41F0-D781-4832-BE5A-F4F8FECC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181A6-4E59-49A9-BE48-5E3C4CA7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B0D0A-08CD-4522-BC8E-BFE8ADBD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509CC-0E3C-457C-977B-2377F198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1ADD9-7E66-4D8B-812B-ADBA9D4E2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94F5E-8F22-47FB-A85A-DCB8F425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E7864-9D17-4092-BFA2-DC75CE85F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4DA83-8692-4800-9110-B1D8C665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B48FE-5FB6-45C8-8501-A4EC10C3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2CFB-8E2E-4148-ADC3-5B205A8C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EA65C-81C2-4FE6-BED0-8A89A60E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1FDC3-391F-42C4-9233-D6CE2240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266D0-4DA2-4BBD-B311-762AC0F8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A3834-31B1-46CF-960B-75C8BF7B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33469-425C-4F93-9194-BADAACBE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39D29-0911-4E8E-BF0F-E40AED9D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518AE-3116-4323-B0D1-70A9ED12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EF62F-4EA3-4DC0-87A5-0F44DD700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20CCA-CF07-4854-91D8-1189FC3C6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0A35A-C452-464C-AF7D-0849926DE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FDD2-8D4E-4643-AA29-CBE4DAB7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B99E5-8B46-4770-BD28-E463DD47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54273-2603-4012-95A7-A3013A6D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05CDC-02D5-4D81-AC5E-0E3EDA03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7685D-8D3A-4229-8C63-3D0DFF7F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0EDBD-03F4-46A0-9E78-25E67A1B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4FBCC-3874-425A-98C1-E8BF8B88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30278-6DAB-4517-BE99-E3AA61BA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929C4-3F69-431D-BCB1-C6E26CB7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91174-56F1-4A94-ADCC-CFA30FA5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3F9E4-4417-4B01-A890-A462C8B1E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8056-69DD-4C52-A67D-BCE57F23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313B1-520C-4C34-A3CB-EF203799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A1AFF-5EB9-4630-A125-DDA9AE8F5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9584B-E463-472E-A1F2-94493435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7B1D3-B179-441C-BFA2-5BA1AD84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98B08-D045-4538-8457-EB75F1DA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FD99B-E160-496C-AF90-19A1EA68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7AC06-5429-4D25-8392-E1E9A6C7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E05F2-B518-412E-B8B9-767FDC3D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22D1F-E56C-4CDB-9A3E-8FE69F69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971BB-496B-4515-A6BC-A8961B6A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BDAC-FC6E-41DF-B193-CE0AE258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29817-5699-433D-B913-49F53A76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76736-C7A6-480A-851A-A222F3DC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90658-2EFA-4F1D-98B0-C24857341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D263F-A1E3-4DDB-B3BD-65E6A0ED9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4E1FA-CE43-4D97-9256-049C74F8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EAFCC-280A-4168-B35A-03E24872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AD8DD-3149-4243-9733-E08416C0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2BD07-A4E6-438B-B474-BE7E5D43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E36A9-F59D-482D-BBCA-5DD34514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B1F19-33F9-4935-8C81-33F09508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698A-0E37-4CBB-8E02-910687F8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20551-2451-4ABD-BAFC-A6FD1B6A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7CEB8-9563-4368-BED2-192D79EC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2D774-4F6A-4983-9994-2BD1F375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728C6-E816-4FA0-AA93-BE7636517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2EFF7-73FA-4983-A0A2-8006B4782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2B800-0ED1-419B-B0C8-6216039B4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CE0EE-F82C-4011-8FDF-85B1DEFE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E8114-7264-4D5A-8376-DBE0432B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56EB8-E1E4-4B48-99D3-BBABF281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F603D-8349-4ECE-860E-CF85A554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CB25-F41F-481E-A740-EC00F4C4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6D6D1-F2F7-45FA-818B-01E4F549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DC894-AF8D-453B-99E4-99F5E6AA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FCFD3-212C-4C04-9C4D-028254D7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4C875-DE04-44AE-9F6F-AEAE1539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360E1-00F6-42A6-930D-711931A5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E7D8C-C88D-452F-9C45-272D82FEC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4DAAC-B0EE-4C31-8F5A-2423D6986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C7779-240D-4647-BC30-FAFF16A8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05F42-4CDD-47E1-955D-B8E8AD35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2FA34-67E6-44C4-A3FE-395E18B6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09B3-B1CD-4966-97AD-DC8C5BEA30E3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6968-9F14-4675-81A7-1E9C11D24E1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3A7B-9F6E-4E06-8DE7-E0F5C85822AF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67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8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199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7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8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9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EAAE-BCFC-478C-A352-AE361DBA463A}" type="slidenum"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265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266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grpSp>
              <p:nvGrpSpPr>
                <p:cNvPr id="275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4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12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1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332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0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350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351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7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378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86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387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6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5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4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424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425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9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452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60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2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473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479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4D02-1F88-4274-80F5-2F3FD6C6CA05}" type="slidenum"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4429080" y="3352680"/>
            <a:ext cx="324000" cy="32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" descr="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949D-FEEE-4AF2-984B-8EDA190DF0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3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B07F-8C98-406E-A322-D65EFD42D9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826F-C29F-4417-B564-D101494ECB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88E7-AF17-41D0-94B7-1BAD640168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FD74-E585-4991-82CB-F75E9C10322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7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slide" Target="slide35.xml"/><Relationship Id="rId7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7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4479840" y="3048120"/>
            <a:ext cx="2530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1360"/>
          </a:xfrm>
          <a:prstGeom prst="rect">
            <a:avLst/>
          </a:prstGeom>
          <a:ln w="0">
            <a:noFill/>
          </a:ln>
        </p:spPr>
      </p:pic>
      <p:sp>
        <p:nvSpPr>
          <p:cNvPr id="794" name=""/>
          <p:cNvSpPr/>
          <p:nvPr/>
        </p:nvSpPr>
        <p:spPr>
          <a:xfrm>
            <a:off x="1371600" y="1752480"/>
            <a:ext cx="6934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义务教育课程标准实验教科书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600200" y="3733920"/>
            <a:ext cx="396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2743200" y="2438280"/>
            <a:ext cx="331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语文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97" name=""/>
          <p:cNvSpPr/>
          <p:nvPr/>
        </p:nvSpPr>
        <p:spPr>
          <a:xfrm>
            <a:off x="2895480" y="37339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七年级下册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700360" y="486900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制作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435880" cy="66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cc00"/>
                </a:solidFill>
                <a:latin typeface="隶书"/>
                <a:ea typeface="隶书"/>
              </a:rPr>
              <a:t>、第一段写了件什么事？体现了包拯的什么性格？在写法上有何特点？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Verdana"/>
              </a:rPr>
              <a:t>   </a:t>
            </a:r>
            <a:r>
              <a:rPr b="1" lang="zh-CN" sz="3600" spc="-1" strike="noStrike">
                <a:solidFill>
                  <a:srgbClr val="00cc00"/>
                </a:solidFill>
                <a:latin typeface="方正姚体"/>
                <a:ea typeface="方正姚体"/>
              </a:rPr>
              <a:t>任知县时破获的一起割他人牛舌案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方正姚体"/>
                <a:ea typeface="方正姚体"/>
              </a:rPr>
              <a:t>   </a:t>
            </a:r>
            <a:r>
              <a:rPr b="1" lang="zh-CN" sz="3600" spc="-1" strike="noStrike">
                <a:solidFill>
                  <a:srgbClr val="00cc00"/>
                </a:solidFill>
                <a:latin typeface="方正姚体"/>
                <a:ea typeface="方正姚体"/>
              </a:rPr>
              <a:t>聪明机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方正姚体"/>
                <a:ea typeface="方正姚体"/>
              </a:rPr>
              <a:t>   </a:t>
            </a:r>
            <a:r>
              <a:rPr b="1" lang="zh-CN" sz="3600" spc="-1" strike="noStrike">
                <a:solidFill>
                  <a:srgbClr val="00cc00"/>
                </a:solidFill>
                <a:latin typeface="方正姚体"/>
                <a:ea typeface="方正姚体"/>
              </a:rPr>
              <a:t>语言简洁，运用语言描写体现人物性格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cc00"/>
                </a:solidFill>
                <a:latin typeface="隶书"/>
                <a:ea typeface="隶书"/>
              </a:rPr>
              <a:t>、语言描写写出了他办事的什么特点？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Verdana"/>
              </a:rPr>
              <a:t>   </a:t>
            </a:r>
            <a:r>
              <a:rPr b="1" lang="zh-CN" sz="3600" spc="-1" strike="noStrike">
                <a:solidFill>
                  <a:srgbClr val="00cc00"/>
                </a:solidFill>
                <a:latin typeface="宋体"/>
              </a:rPr>
              <a:t>第一句：表现出包拯成竹在胸；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cc00"/>
                </a:solidFill>
                <a:latin typeface="宋体"/>
              </a:rPr>
              <a:t>第二句：写他看穿盗贼伎俩，并先发制人，使其惊恐万分，顺利破案</a:t>
            </a:r>
            <a:r>
              <a:rPr b="1" lang="zh-CN" sz="2400" spc="-1" strike="noStrike">
                <a:solidFill>
                  <a:srgbClr val="00cc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Verdana"/>
                <a:ea typeface="方正姚体"/>
              </a:rPr>
              <a:t>古判断句的形式，翻译时加判断词“是”。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包拯字希仁，是庐州合肥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今安徽合肥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人。……当天长县知县。有个盗贼割了别人家耕牛的舌头，牛主人来到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县衙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告状。包拯说：“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你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只管回家去，杀了牛卖了它。”不久又有一人来到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县衙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告别人私自宰杀耕牛，包拯说：“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你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为什么割了别人家耕牛的舌头，又来告他的状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?”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这个盗贼感到很震惊，也很服气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31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徙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知端州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迁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殿中丞。端土产砚，前守缘贡率取数十倍以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遗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权贵。拯命制者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才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足贡数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岁满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不持一砚归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-324000" y="1916280"/>
            <a:ext cx="2087640" cy="431640"/>
          </a:xfrm>
          <a:prstGeom prst="wedgeRoundRectCallout">
            <a:avLst>
              <a:gd name="adj1" fmla="val 1101"/>
              <a:gd name="adj2" fmla="val -20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调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516720" y="1989000"/>
            <a:ext cx="1081080" cy="432000"/>
          </a:xfrm>
          <a:prstGeom prst="wedgeRoundRectCallout">
            <a:avLst>
              <a:gd name="adj1" fmla="val 48680"/>
              <a:gd name="adj2" fmla="val -20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趁着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300720" y="404640"/>
            <a:ext cx="1081080" cy="432000"/>
          </a:xfrm>
          <a:prstGeom prst="wedgeRoundRectCallout">
            <a:avLst>
              <a:gd name="adj1" fmla="val 149263"/>
              <a:gd name="adj2" fmla="val 10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大都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556000" y="3357720"/>
            <a:ext cx="1081080" cy="431640"/>
          </a:xfrm>
          <a:prstGeom prst="wedgeRoundRectCallout">
            <a:avLst>
              <a:gd name="adj1" fmla="val -63800"/>
              <a:gd name="adj2" fmla="val -145953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赠送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435640" y="3573360"/>
            <a:ext cx="2233440" cy="432000"/>
          </a:xfrm>
          <a:prstGeom prst="wedgeRoundRectCallout">
            <a:avLst>
              <a:gd name="adj1" fmla="val 49361"/>
              <a:gd name="adj2" fmla="val -20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当政满一年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708360" y="4005360"/>
            <a:ext cx="1513080" cy="360360"/>
          </a:xfrm>
          <a:prstGeom prst="wedgeRoundRectCallout">
            <a:avLst>
              <a:gd name="adj1" fmla="val 63115"/>
              <a:gd name="adj2" fmla="val -360574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仅仅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包拯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转到端州当知府，升为殿中丞。端州出产砚台，此前的知府趁着进贡大都敛取是贡数几十倍的砚台，来赠送给当朝权贵。包拯命令制造的砚台仅仅满足贡数，当政满一年没拿一方砚台回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/>
          </p:nvPr>
        </p:nvSpPr>
        <p:spPr>
          <a:xfrm>
            <a:off x="755280" y="260280"/>
            <a:ext cx="79930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1</a:t>
            </a: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、第二段写了件什么事？和第一段比较，本段有何特点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写他在端州任职期间严格控制上贡端砚的数量，并没有接受一方砚台的馈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写得比较概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、包拯为官廉洁表现在哪两个方面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他坚决、有效地堵死了官吏用来趋炎附势的源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、“从我做起”“岁满不持一砚归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90000"/>
              </a:lnSpc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使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契丹，契丹令典客谓拯曰：“雄州新开便门，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乃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欲诱我叛人，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以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刺疆事耶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?”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拯曰：“涿州亦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尝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开门矣，刺疆事何必开便门哉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?”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其人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遂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无以对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50920" y="2060640"/>
            <a:ext cx="1944720" cy="431640"/>
          </a:xfrm>
          <a:prstGeom prst="wedgeRoundRectCallout">
            <a:avLst>
              <a:gd name="adj1" fmla="val -21018"/>
              <a:gd name="adj2" fmla="val -20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出使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708360" y="1989000"/>
            <a:ext cx="1584360" cy="432000"/>
          </a:xfrm>
          <a:prstGeom prst="wedgeRoundRectCallout">
            <a:avLst>
              <a:gd name="adj1" fmla="val 26453"/>
              <a:gd name="adj2" fmla="val -226472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对…说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39640" y="3500280"/>
            <a:ext cx="1081080" cy="432000"/>
          </a:xfrm>
          <a:prstGeom prst="wedgeRoundRectCallout">
            <a:avLst>
              <a:gd name="adj1" fmla="val 48680"/>
              <a:gd name="adj2" fmla="val -20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就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95280" y="5157720"/>
            <a:ext cx="1081080" cy="432000"/>
          </a:xfrm>
          <a:prstGeom prst="wedgeRoundRectCallout">
            <a:avLst>
              <a:gd name="adj1" fmla="val 142657"/>
              <a:gd name="adj2" fmla="val -223162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曾今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124000" y="4724280"/>
            <a:ext cx="1871640" cy="432000"/>
          </a:xfrm>
          <a:prstGeom prst="wedgeRoundRectCallout">
            <a:avLst>
              <a:gd name="adj1" fmla="val -69930"/>
              <a:gd name="adj2" fmla="val 263236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于是，就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708360" y="3645000"/>
            <a:ext cx="1081080" cy="431640"/>
          </a:xfrm>
          <a:prstGeom prst="wedgeRoundRectCallout">
            <a:avLst>
              <a:gd name="adj1" fmla="val 48680"/>
              <a:gd name="adj2" fmla="val -20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来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2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0" dur="2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包拯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出使契丹，契丹命令典客对包拯说：“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你们国家的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雄州城最近开了便门，就是想引诱我国的叛徒，以便刺探边疆的情报吧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?”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包拯说：“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你们国家的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涿州城曾经也开过便门，刺探边疆的情报为何一定要开便门呢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?”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那个人便无言以对了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/>
          </p:nvPr>
        </p:nvSpPr>
        <p:spPr>
          <a:xfrm>
            <a:off x="468000" y="141264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这段写了件什么事？与前两段相比，本段有何特点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写他奉命出使契丹，驳倒契丹的荒谬论点，写出了他</a:t>
            </a:r>
            <a:r>
              <a:rPr b="1" i="1" lang="zh-CN" sz="3600" spc="-1" strike="noStrike">
                <a:solidFill>
                  <a:srgbClr val="ffffff"/>
                </a:solidFill>
                <a:latin typeface="Arial"/>
              </a:rPr>
              <a:t>巧言善辩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i="1" lang="zh-CN" sz="3600" spc="-1" strike="noStrike">
                <a:solidFill>
                  <a:srgbClr val="ffffff"/>
                </a:solidFill>
                <a:latin typeface="Arial"/>
              </a:rPr>
              <a:t>不辱使命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的爱国之心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写法上与第一段相同，描写具体，通过人物语言突出人物性格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060720" y="49860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华文琥珀"/>
                <a:ea typeface="华文琥珀"/>
              </a:rPr>
              <a:t>阅读第三段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70000"/>
              </a:lnSpc>
              <a:spcBef>
                <a:spcPts val="700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召权知开封府，迁右司郎中。拯立朝刚毅，贵戚宦官为之敛手，闻者皆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惮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之。人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包拯笑比黄河清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童稚妇女，亦知其名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，呼日“包待制”。京师为之语曰：“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关节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不到，有阎罗包老。”旧制，凡讼诉不得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径造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庭下。拯开正门，使得至前陈曲直，吏不敢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979640" y="2492280"/>
            <a:ext cx="1081080" cy="432000"/>
          </a:xfrm>
          <a:prstGeom prst="wedgeRoundRectCallout">
            <a:avLst>
              <a:gd name="adj1" fmla="val 48680"/>
              <a:gd name="adj2" fmla="val -15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畏惧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635280" y="2708280"/>
            <a:ext cx="1081080" cy="360360"/>
          </a:xfrm>
          <a:prstGeom prst="wedgeRoundRectCallout">
            <a:avLst>
              <a:gd name="adj1" fmla="val 35462"/>
              <a:gd name="adj2" fmla="val -22180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把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708360" y="3645000"/>
            <a:ext cx="3168720" cy="431640"/>
          </a:xfrm>
          <a:prstGeom prst="wedgeRoundRectCallout">
            <a:avLst>
              <a:gd name="adj1" fmla="val 101402"/>
              <a:gd name="adj2" fmla="val -142648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暗中行贿串通关系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364000" y="4724280"/>
            <a:ext cx="1657440" cy="432000"/>
          </a:xfrm>
          <a:prstGeom prst="wedgeRoundRectCallout">
            <a:avLst>
              <a:gd name="adj1" fmla="val 36782"/>
              <a:gd name="adj2" fmla="val -11286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直接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380360" y="5013360"/>
            <a:ext cx="1081080" cy="431640"/>
          </a:xfrm>
          <a:prstGeom prst="wedgeRoundRectCallout">
            <a:avLst>
              <a:gd name="adj1" fmla="val -58370"/>
              <a:gd name="adj2" fmla="val -1974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-181080" y="1413000"/>
            <a:ext cx="1081080" cy="431640"/>
          </a:xfrm>
          <a:prstGeom prst="wedgeRoundRectCallout">
            <a:avLst>
              <a:gd name="adj1" fmla="val 17986"/>
              <a:gd name="adj2" fmla="val -144486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下诏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700360" y="189000"/>
            <a:ext cx="2050920" cy="360360"/>
          </a:xfrm>
          <a:prstGeom prst="wedgeRoundRectCallout">
            <a:avLst>
              <a:gd name="adj1" fmla="val -134828"/>
              <a:gd name="adj2" fmla="val 152643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暂时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859280" y="2637000"/>
            <a:ext cx="2954520" cy="360360"/>
          </a:xfrm>
          <a:prstGeom prst="wedgeRoundRectCallout">
            <a:avLst>
              <a:gd name="adj1" fmla="val 56879"/>
              <a:gd name="adj2" fmla="val -242069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成语：妇孺皆知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2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9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4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4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包拯被朝廷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召令暂时代理开封府尹，升为右司郎中。包拯在朝廷为人刚强坚毅，贵戚宦官因此而大为收敛，听说的人都很害怕他。人们把包拯笑比做黄河水清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一样极难发生的事情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。小孩和妇女，也知道他的名声，叫他“包待制”。京城里的人因此说：“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暗中行贿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疏不通关系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的人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，有阎罗王和包老头。”按旧规矩，凡是诉讼都不能直接到官署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递交状子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。包拯打开官署正门，使告状的人能够到跟前陈述是非，办事小吏因此不敢欺瞒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900000" y="692280"/>
            <a:ext cx="66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ffff"/>
                </a:solidFill>
                <a:latin typeface="Arial"/>
              </a:rPr>
              <a:t>27 </a:t>
            </a:r>
            <a:r>
              <a:rPr b="1" lang="zh-CN" sz="6000" spc="-1" strike="noStrike">
                <a:solidFill>
                  <a:srgbClr val="00ffff"/>
                </a:solidFill>
                <a:latin typeface="Arial"/>
              </a:rPr>
              <a:t>．</a:t>
            </a:r>
            <a:r>
              <a:rPr b="1" lang="zh-CN" sz="8000" spc="-1" strike="noStrike">
                <a:solidFill>
                  <a:srgbClr val="00ffff"/>
                </a:solidFill>
                <a:latin typeface="Arial"/>
              </a:rPr>
              <a:t>包  拯</a:t>
            </a:r>
            <a:endParaRPr b="0" lang="en-US" sz="8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2"/>
          <a:stretch/>
        </p:blipFill>
        <p:spPr>
          <a:xfrm>
            <a:off x="0" y="2610000"/>
            <a:ext cx="4716360" cy="424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325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3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拯性峭直，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恶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吏苛刻，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务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敦厚，虽甚嫉恶，而未尝不推以忠恕也。与人不苟合，不伪辞色悦人，平居无私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书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，故人、亲党皆绝之。虽贵，衣服、器用、饮食如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布衣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时。尝曰：“后世子孙仕宦，有犯赃者，不得放归本家，死不得葬大茔中。不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从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吾志，非吾子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若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孙也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68360" y="1341360"/>
            <a:ext cx="2160720" cy="432000"/>
          </a:xfrm>
          <a:prstGeom prst="wedgeRoundRectCallout">
            <a:avLst>
              <a:gd name="adj1" fmla="val 39935"/>
              <a:gd name="adj2" fmla="val -159189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憎恶，讨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635280" y="1413000"/>
            <a:ext cx="1081080" cy="431640"/>
          </a:xfrm>
          <a:prstGeom prst="wedgeRoundRectCallout">
            <a:avLst>
              <a:gd name="adj1" fmla="val 48680"/>
              <a:gd name="adj2" fmla="val -15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追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187280" y="5734080"/>
            <a:ext cx="1081080" cy="431640"/>
          </a:xfrm>
          <a:prstGeom prst="wedgeRoundRectCallout">
            <a:avLst>
              <a:gd name="adj1" fmla="val 140013"/>
              <a:gd name="adj2" fmla="val 58453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885080" y="6426360"/>
            <a:ext cx="1081080" cy="431640"/>
          </a:xfrm>
          <a:prstGeom prst="wedgeRoundRectCallout">
            <a:avLst>
              <a:gd name="adj1" fmla="val 42217"/>
              <a:gd name="adj2" fmla="val -294486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听从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1258920" y="3429000"/>
            <a:ext cx="1081080" cy="431640"/>
          </a:xfrm>
          <a:prstGeom prst="wedgeRoundRectCallout">
            <a:avLst>
              <a:gd name="adj1" fmla="val 48680"/>
              <a:gd name="adj2" fmla="val -15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信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3419640" y="3357720"/>
            <a:ext cx="1081080" cy="431640"/>
          </a:xfrm>
          <a:prstGeom prst="wedgeRoundRectCallout">
            <a:avLst>
              <a:gd name="adj1" fmla="val 264537"/>
              <a:gd name="adj2" fmla="val -94851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虽然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268360" y="4653000"/>
            <a:ext cx="1081440" cy="431640"/>
          </a:xfrm>
          <a:prstGeom prst="wedgeRoundRectCallout">
            <a:avLst>
              <a:gd name="adj1" fmla="val 48680"/>
              <a:gd name="adj2" fmla="val -15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平名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1" dur="2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6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1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包拯性情严峻刚直，憎恶办事小吏苛杂刻薄，务求忠诚厚道，虽然非常憎恨厌恶，但从来没有不施行忠恕之道的。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他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跟人交往不随意附和，不以巧言令色取悦人，平常没有私人信件，连朋友、亲戚也断绝往来。虽然地位高贵，但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穿的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衣服、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用的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器物、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吃的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饮食跟当百姓时一样。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他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曾经说：“后代子孙当官从政，假若贪赃枉法，不得放回老家，死了不得葬入家族墓地。假若不听从我的意志，就不是我的子孙。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286760"/>
          </a:xfrm>
          <a:prstGeom prst="rect">
            <a:avLst/>
          </a:prstGeom>
          <a:ln w="0">
            <a:noFill/>
          </a:ln>
        </p:spPr>
      </p:pic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01680" y="345960"/>
            <a:ext cx="85406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琥珀"/>
                <a:ea typeface="华文琥珀"/>
              </a:rPr>
              <a:t>阅读 第 </a:t>
            </a:r>
            <a:r>
              <a:rPr b="0" lang="zh-CN" sz="5400" spc="-1" strike="noStrike">
                <a:solidFill>
                  <a:srgbClr val="ffffff"/>
                </a:solidFill>
                <a:latin typeface="华文琥珀"/>
                <a:ea typeface="华文琥珀"/>
              </a:rPr>
              <a:t>4-5</a:t>
            </a:r>
            <a:r>
              <a:rPr b="0" lang="zh-CN" sz="5400" spc="-1" strike="noStrike">
                <a:solidFill>
                  <a:srgbClr val="ffffff"/>
                </a:solidFill>
                <a:latin typeface="华文琥珀"/>
                <a:ea typeface="华文琥珀"/>
              </a:rPr>
              <a:t>段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20560" y="1666440"/>
            <a:ext cx="8299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隶书"/>
              </a:rPr>
              <a:t>这两段分别写了什么内容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第四段：写人们对他的看法和评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第五段：写他</a:t>
            </a:r>
            <a:r>
              <a:rPr b="1" i="1" lang="zh-CN" sz="3600" spc="-1" strike="noStrike">
                <a:solidFill>
                  <a:srgbClr val="ff0066"/>
                </a:solidFill>
                <a:latin typeface="Arial"/>
              </a:rPr>
              <a:t>为官刚直不阿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，不巧言令色，对亲人朋友</a:t>
            </a:r>
            <a:r>
              <a:rPr b="1" i="1" lang="zh-CN" sz="3600" spc="-1" strike="noStrike">
                <a:solidFill>
                  <a:srgbClr val="ff0066"/>
                </a:solidFill>
                <a:latin typeface="Arial"/>
              </a:rPr>
              <a:t>不结党营私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，在生活上从不奢侈，</a:t>
            </a:r>
            <a:r>
              <a:rPr b="1" i="1" lang="zh-CN" sz="3600" spc="-1" strike="noStrike">
                <a:solidFill>
                  <a:srgbClr val="ff0066"/>
                </a:solidFill>
                <a:latin typeface="Arial"/>
              </a:rPr>
              <a:t>保持朴素之风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，最后写他对后世子孙的训诫。言语中肯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685800" y="91440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99"/>
                </a:solidFill>
                <a:latin typeface="Arial"/>
                <a:ea typeface="华文琥珀"/>
              </a:rPr>
              <a:t>二、品读感悟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143000" y="2743200"/>
            <a:ext cx="70866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99"/>
                </a:solidFill>
                <a:latin typeface="Arial"/>
                <a:ea typeface="华文行楷"/>
              </a:rPr>
              <a:t>     </a:t>
            </a:r>
            <a:r>
              <a:rPr b="0" lang="zh-CN" sz="5400" spc="-1" strike="noStrike">
                <a:solidFill>
                  <a:srgbClr val="006699"/>
                </a:solidFill>
                <a:latin typeface="华文行楷"/>
                <a:ea typeface="华文行楷"/>
              </a:rPr>
              <a:t>文章记叙了包拯的哪几件事？分别体现了包拯的什么品质</a:t>
            </a:r>
            <a:r>
              <a:rPr b="0" lang="zh-CN" sz="5400" spc="-1" strike="noStrike">
                <a:solidFill>
                  <a:srgbClr val="006699"/>
                </a:solidFill>
                <a:latin typeface="华文行楷"/>
                <a:ea typeface="华文行楷"/>
              </a:rPr>
              <a:t>?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74" name="" descr=""/>
          <p:cNvPicPr/>
          <p:nvPr/>
        </p:nvPicPr>
        <p:blipFill>
          <a:blip r:embed="rId1"/>
          <a:stretch/>
        </p:blipFill>
        <p:spPr>
          <a:xfrm>
            <a:off x="7236000" y="765000"/>
            <a:ext cx="19080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971640" y="30492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小结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: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文章写了包拯的哪几件事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?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分别体现了包拯的什么品质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?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11280" y="1773360"/>
            <a:ext cx="36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、智断割牛舌案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403280" y="378936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3276720" y="38098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572000" y="1773360"/>
            <a:ext cx="441972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机智、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官清廉、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巧言善辩，不辱使命、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官刚正、执法严峻、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克己奉公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457200" y="30481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、出使契丹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-533520" y="3809880"/>
            <a:ext cx="5321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buClr>
                <a:srgbClr val="ffffcc"/>
              </a:buClr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、不畏权贵</a:t>
            </a: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体恤百姓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80880" y="55627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、家教严格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380880" y="2438280"/>
            <a:ext cx="36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、不持一砚归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84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12240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 flipH="1">
            <a:off x="7236000" y="1413000"/>
            <a:ext cx="142560" cy="3673440"/>
          </a:xfrm>
          <a:custGeom>
            <a:avLst/>
            <a:gdLst>
              <a:gd name="textAreaLeft" fmla="*/ 91080 w 142560"/>
              <a:gd name="textAreaRight" fmla="*/ 142920 w 1425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55640" y="1341360"/>
            <a:ext cx="43210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知天长县  断盗割牛舌案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任端州府  做官不持一砚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出使契丹  辩驳典客诘难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知开封府  除弊“阎罗包老”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平日为人 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5580000" y="1484280"/>
            <a:ext cx="216000" cy="1368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539640" y="1484280"/>
            <a:ext cx="216000" cy="3457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90000 h 3457440"/>
              <a:gd name="textAreaBottom" fmla="*/ 3367440 h 34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556000" y="4292640"/>
            <a:ext cx="144360" cy="863640"/>
          </a:xfrm>
          <a:custGeom>
            <a:avLst/>
            <a:gdLst>
              <a:gd name="textAreaLeft" fmla="*/ 92160 w 144360"/>
              <a:gd name="textAreaRight" fmla="*/ 144360 w 14436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012000" y="170028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正面描写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6084720" y="2997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侧面描写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5651640" y="4292640"/>
            <a:ext cx="71280" cy="86364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796000" y="4365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正面描写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308720" y="1268280"/>
            <a:ext cx="16192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机智聪明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公正廉洁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不辱使命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铁面无私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克己奉公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700360" y="4149720"/>
            <a:ext cx="23763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80808"/>
                </a:solidFill>
                <a:latin typeface="Arial"/>
                <a:ea typeface="楷体_GB2312"/>
              </a:rPr>
              <a:t>对人对己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80808"/>
                </a:solidFill>
                <a:latin typeface="Arial"/>
                <a:ea typeface="楷体_GB2312"/>
              </a:rPr>
              <a:t>对后世子孙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811040" y="1413000"/>
            <a:ext cx="99180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详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略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详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略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略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7" name="">
            <a:hlinkClick r:id="" action="ppaction://hlinkshowjump?jump=previousslide"/>
          </p:cNvPr>
          <p:cNvSpPr/>
          <p:nvPr/>
        </p:nvSpPr>
        <p:spPr>
          <a:xfrm>
            <a:off x="5796000" y="1557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8" name="">
            <a:hlinkClick r:id="" action="ppaction://hlinkshowjump?jump=previousslide"/>
          </p:cNvPr>
          <p:cNvSpPr/>
          <p:nvPr/>
        </p:nvSpPr>
        <p:spPr>
          <a:xfrm>
            <a:off x="5796000" y="2205000"/>
            <a:ext cx="217440" cy="216000"/>
          </a:xfrm>
          <a:custGeom>
            <a:avLst/>
            <a:gdLst>
              <a:gd name="textAreaLeft" fmla="*/ 13680 w 217440"/>
              <a:gd name="textAreaRight" fmla="*/ 203760 w 217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744" h="21600">
                <a:moveTo>
                  <a:pt x="0" y="0"/>
                </a:moveTo>
                <a:lnTo>
                  <a:pt x="21744" y="0"/>
                </a:lnTo>
                <a:lnTo>
                  <a:pt x="21744" y="21600"/>
                </a:lnTo>
                <a:lnTo>
                  <a:pt x="0" y="21600"/>
                </a:lnTo>
                <a:close/>
              </a:path>
              <a:path fill="lightenLess" w="21744" h="21600">
                <a:moveTo>
                  <a:pt x="0" y="0"/>
                </a:moveTo>
                <a:lnTo>
                  <a:pt x="21744" y="0"/>
                </a:lnTo>
                <a:lnTo>
                  <a:pt x="20344" y="1400"/>
                </a:lnTo>
                <a:lnTo>
                  <a:pt x="1400" y="1400"/>
                </a:lnTo>
                <a:close/>
              </a:path>
              <a:path fill="darken" w="21744" h="21600">
                <a:moveTo>
                  <a:pt x="21744" y="0"/>
                </a:moveTo>
                <a:lnTo>
                  <a:pt x="21744" y="21600"/>
                </a:lnTo>
                <a:lnTo>
                  <a:pt x="20344" y="20200"/>
                </a:lnTo>
                <a:lnTo>
                  <a:pt x="20344" y="1400"/>
                </a:lnTo>
                <a:close/>
              </a:path>
              <a:path fill="darkenLess" w="21744" h="21600">
                <a:moveTo>
                  <a:pt x="21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4" y="20200"/>
                </a:lnTo>
                <a:close/>
              </a:path>
              <a:path fill="lighten" w="21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9" name="">
            <a:hlinkClick r:id="" action="ppaction://hlinkshowjump?jump=previousslide"/>
          </p:cNvPr>
          <p:cNvSpPr/>
          <p:nvPr/>
        </p:nvSpPr>
        <p:spPr>
          <a:xfrm>
            <a:off x="5796000" y="2781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0" name="">
            <a:hlinkClick r:id="" action="ppaction://hlinkshowjump?jump=previousslide"/>
          </p:cNvPr>
          <p:cNvSpPr/>
          <p:nvPr/>
        </p:nvSpPr>
        <p:spPr>
          <a:xfrm>
            <a:off x="5796000" y="342900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1" name="">
            <a:hlinkClick r:id="" action="ppaction://hlinkshowjump?jump=previousslide"/>
          </p:cNvPr>
          <p:cNvSpPr/>
          <p:nvPr/>
        </p:nvSpPr>
        <p:spPr>
          <a:xfrm>
            <a:off x="5796000" y="436572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8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3" dur="500"/>
                                        <p:tgtEl>
                                          <p:spTgt spid="8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500"/>
                                        <p:tgtEl>
                                          <p:spTgt spid="8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8" dur="500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4" dur="500"/>
                                        <p:tgtEl>
                                          <p:spTgt spid="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0" dur="500"/>
                                        <p:tgtEl>
                                          <p:spTgt spid="8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5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8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395280" y="3213000"/>
            <a:ext cx="806616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236fa"/>
                </a:solidFill>
                <a:latin typeface="Arial"/>
              </a:rPr>
              <a:t>要求</a:t>
            </a:r>
            <a:r>
              <a:rPr b="0" lang="zh-CN" sz="4000" spc="-1" strike="noStrike">
                <a:solidFill>
                  <a:srgbClr val="5236fa"/>
                </a:solidFill>
                <a:latin typeface="Arial"/>
              </a:rPr>
              <a:t>:1</a:t>
            </a:r>
            <a:r>
              <a:rPr b="0" lang="zh-CN" sz="4000" spc="-1" strike="noStrike">
                <a:solidFill>
                  <a:srgbClr val="5236fa"/>
                </a:solidFill>
                <a:latin typeface="Arial"/>
              </a:rPr>
              <a:t>、语言符合人物的身份</a:t>
            </a:r>
            <a:r>
              <a:rPr b="0" lang="zh-CN" sz="4000" spc="-1" strike="noStrike">
                <a:solidFill>
                  <a:srgbClr val="5236fa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236fa"/>
                </a:solidFill>
                <a:latin typeface="Arial"/>
              </a:rPr>
              <a:t>          </a:t>
            </a:r>
            <a:r>
              <a:rPr b="0" lang="zh-CN" sz="4000" spc="-1" strike="noStrike">
                <a:solidFill>
                  <a:srgbClr val="5236fa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5236fa"/>
                </a:solidFill>
                <a:latin typeface="Arial"/>
              </a:rPr>
              <a:t>、动作神态体现人物的特点 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236fa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2124000" y="765000"/>
            <a:ext cx="4680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本剧表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04" name="" descr=""/>
          <p:cNvPicPr/>
          <p:nvPr/>
        </p:nvPicPr>
        <p:blipFill>
          <a:blip r:embed="rId2"/>
          <a:stretch/>
        </p:blipFill>
        <p:spPr>
          <a:xfrm>
            <a:off x="6300720" y="5229360"/>
            <a:ext cx="936720" cy="1296720"/>
          </a:xfrm>
          <a:prstGeom prst="rect">
            <a:avLst/>
          </a:prstGeom>
          <a:ln w="0">
            <a:noFill/>
          </a:ln>
        </p:spPr>
      </p:pic>
      <p:pic>
        <p:nvPicPr>
          <p:cNvPr id="905" name="" descr=""/>
          <p:cNvPicPr/>
          <p:nvPr/>
        </p:nvPicPr>
        <p:blipFill>
          <a:blip r:embed="rId3"/>
          <a:stretch/>
        </p:blipFill>
        <p:spPr>
          <a:xfrm>
            <a:off x="395280" y="765000"/>
            <a:ext cx="1512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0" y="1676520"/>
            <a:ext cx="883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6699"/>
                </a:solidFill>
                <a:latin typeface="华文行楷"/>
                <a:ea typeface="华文行楷"/>
              </a:rPr>
              <a:t>      </a:t>
            </a:r>
            <a:r>
              <a:rPr b="0" lang="zh-CN" sz="6600" spc="-1" strike="noStrike">
                <a:solidFill>
                  <a:srgbClr val="006699"/>
                </a:solidFill>
                <a:latin typeface="华文行楷"/>
                <a:ea typeface="华文行楷"/>
              </a:rPr>
              <a:t>作者 怎样塑造包拯这个人物形象的？</a:t>
            </a:r>
            <a:endParaRPr b="0" lang="en-US" sz="6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0" y="3733920"/>
            <a:ext cx="4038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正面描写：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侧面描写：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352680" y="3733920"/>
            <a:ext cx="40388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（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5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657600" y="45720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（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4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533520" y="380880"/>
            <a:ext cx="30319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b2b2b2">
                    <a:alpha val="84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二、问题探究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b2b2b2">
                  <a:alpha val="84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11" name=""/>
          <p:cNvSpPr/>
          <p:nvPr/>
        </p:nvSpPr>
        <p:spPr>
          <a:xfrm>
            <a:off x="609480" y="5334120"/>
            <a:ext cx="289584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概括描写：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具体描写：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505320" y="5410080"/>
            <a:ext cx="41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（ 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、 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4 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5 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971800" y="62164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（ 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1"/>
          <a:stretch/>
        </p:blipFill>
        <p:spPr>
          <a:xfrm>
            <a:off x="8317080" y="620640"/>
            <a:ext cx="4759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/>
          </p:nvPr>
        </p:nvSpPr>
        <p:spPr>
          <a:xfrm>
            <a:off x="-305280" y="404640"/>
            <a:ext cx="9448920" cy="691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黑体"/>
              </a:rPr>
              <a:t>纵观全文，看一看作者在结构安排和表现方法上有什么特点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隶书"/>
              </a:rPr>
              <a:t>结构：全文共五段，每段重点写人物的一个性格特点，有详有略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隶书"/>
              </a:rPr>
              <a:t>概括描写：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（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、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4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5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隶书"/>
              </a:rPr>
              <a:t>具体描写    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（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3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隶书"/>
              </a:rPr>
              <a:t>表现方法：从不同的角度刻画人物鲜明性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隶书"/>
              </a:rPr>
              <a:t>正面描写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隶书"/>
              </a:rPr>
              <a:t>侧面描写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ahoma"/>
                <a:ea typeface="方正舒体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方正舒体"/>
              </a:rPr>
              <a:t>相互配合，富于变化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"/>
          <p:cNvSpPr/>
          <p:nvPr/>
        </p:nvSpPr>
        <p:spPr>
          <a:xfrm>
            <a:off x="3490920" y="304020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590920" y="502920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5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971800" y="55627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897" fill="hold"/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897" fill="hold"/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897" fill="hold"/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97" fill="hold"/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897" fill="hold"/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9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9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897" fill="hold"/>
                                        <p:tgtEl>
                                          <p:spTgt spid="9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897" fill="hold"/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/>
          </p:nvPr>
        </p:nvSpPr>
        <p:spPr>
          <a:xfrm>
            <a:off x="468000" y="90792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隶书"/>
              </a:rPr>
              <a:t>说说下列语句表现了人物的哪种性格特征或优秀品质？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（</a:t>
            </a: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1</a:t>
            </a: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）拯命制者才足贡数，岁满不持一砚归。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（</a:t>
            </a: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2</a:t>
            </a: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）京师为之语曰：“关节不到，有阎罗包老”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（</a:t>
            </a: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3</a:t>
            </a: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）虽贵，衣服、器用、饮食如布衣时。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348000" y="314172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为官廉洁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067280" y="4365720"/>
            <a:ext cx="388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为官刚正，执法严峻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700360" y="5805360"/>
            <a:ext cx="32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克己奉公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352680" y="228600"/>
            <a:ext cx="2667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随堂练习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684360" y="1557360"/>
            <a:ext cx="80643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200" spc="-1" strike="noStrike">
                <a:solidFill>
                  <a:srgbClr val="006699"/>
                </a:solidFill>
                <a:latin typeface="Arial"/>
                <a:ea typeface="华文隶书"/>
              </a:rPr>
              <a:t>        </a:t>
            </a:r>
            <a:r>
              <a:rPr b="1" lang="zh-CN" sz="6600" spc="-1" strike="noStrike">
                <a:solidFill>
                  <a:srgbClr val="00cc00"/>
                </a:solidFill>
                <a:latin typeface="宋体"/>
              </a:rPr>
              <a:t>廉者，民之表也；贪者，民之贼也。</a:t>
            </a:r>
            <a:endParaRPr b="0" lang="en-US" sz="6600" spc="-1" strike="noStrike">
              <a:solidFill>
                <a:srgbClr val="006699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200" spc="-1" strike="noStrike">
                <a:solidFill>
                  <a:srgbClr val="00cc00"/>
                </a:solidFill>
                <a:latin typeface="宋体"/>
              </a:rPr>
              <a:t>                     </a:t>
            </a:r>
            <a:r>
              <a:rPr b="1" lang="zh-CN" sz="5000" spc="-1" strike="noStrike">
                <a:solidFill>
                  <a:srgbClr val="00cc00"/>
                </a:solidFill>
                <a:latin typeface="宋体"/>
              </a:rPr>
              <a:t>——</a:t>
            </a:r>
            <a:r>
              <a:rPr b="1" lang="zh-CN" sz="5000" spc="-1" strike="noStrike">
                <a:solidFill>
                  <a:srgbClr val="00cc00"/>
                </a:solidFill>
                <a:latin typeface="宋体"/>
              </a:rPr>
              <a:t>包拯</a:t>
            </a:r>
            <a:endParaRPr b="0" lang="en-US" sz="5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179280" y="2421000"/>
            <a:ext cx="865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00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包拯作为历史上有名的清官，他能做到别人所不能，为什么包拯会这样做？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2700360" y="228600"/>
            <a:ext cx="484344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b2b2b2">
                    <a:alpha val="84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三、合作探究，深化理解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b2b2b2">
                  <a:alpha val="84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26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1224000" cy="136836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3"/>
          <a:stretch/>
        </p:blipFill>
        <p:spPr>
          <a:xfrm>
            <a:off x="7308720" y="4437000"/>
            <a:ext cx="7621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/>
          </p:nvPr>
        </p:nvSpPr>
        <p:spPr>
          <a:xfrm>
            <a:off x="380880" y="1700280"/>
            <a:ext cx="876312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还知道古今中外有哪些清官</a:t>
            </a:r>
            <a:r>
              <a:rPr b="0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说他们的事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228600" y="0"/>
            <a:ext cx="3200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b2b2b2">
                    <a:alpha val="84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四、语文活动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b2b2b2">
                  <a:alpha val="84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pull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 txBox="1"/>
          <p:nvPr/>
        </p:nvSpPr>
        <p:spPr>
          <a:xfrm>
            <a:off x="990720" y="533520"/>
            <a:ext cx="685800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历史上的清官</a:t>
            </a:r>
            <a:endParaRPr b="0" lang="en-US" sz="6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31" name=""/>
          <p:cNvSpPr/>
          <p:nvPr/>
        </p:nvSpPr>
        <p:spPr>
          <a:xfrm>
            <a:off x="755640" y="4581360"/>
            <a:ext cx="35053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海瑞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971800" y="4648320"/>
            <a:ext cx="28954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于成龙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6248520" y="4648320"/>
            <a:ext cx="28954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耶律楚材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5" name=""/>
          <p:cNvSpPr/>
          <p:nvPr/>
        </p:nvSpPr>
        <p:spPr>
          <a:xfrm>
            <a:off x="826920" y="0"/>
            <a:ext cx="756144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明朝时候的海瑞是中国历史上有名的清官。他铁面无私，明察秋毫，人称“海青天”。一天，他带着几个衙役微服出巡，在街上看见一群人慌慌张张地走过来，两个身强力壮的小伙子用一块木板抬着一个人，身上盖着被子，插着珠钗的头露在被子外面。另几个男人在旁边跟着，不时有人去掖掖被子。走了一会儿，他们在路旁休息一会儿，再换两个人抬着木板走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海瑞觉得蹊跷，便上去攀谈，得知是这家的妹妹身染恶疾，特地找来几个同村的小伙子抬她去外地看医生的。海瑞派一个衙役暗中跟踪，看到这群人来到一个村子最西头的房屋前，两个人把他们接了过去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海瑞回府后迅速派人去将那伙人抓了起来，从那间屋里搜出了大量金银财宝，后来经审讯得知他们是一伙强盗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7" name=""/>
          <p:cNvSpPr/>
          <p:nvPr/>
        </p:nvSpPr>
        <p:spPr>
          <a:xfrm>
            <a:off x="826920" y="54936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于成龙，字北溟，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1617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年生于我县下昔乡来堡村。清顺治十八年（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1661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），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45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岁的于成龙以副榜贡生出任广西罗城县令，后迁任知州、知府、巡抚、两江总督等职。在二十多年的宦海生涯中，他关心百姓疾苦，敢于为民请命，生活清苦，廉政勤政，深受百姓爱戴和康熙皇帝赞誉，三次被举“卓异”，成为清初廉政官员的典范。康熙二十三（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1684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），于成龙在两江总督任上病逝，江南民众“巷哭罢市，绘像祀之”。康熙亲撰碑文，称他为“天下廉吏第一”。作为封建官吏，于成龙的思想道德、人生信条固然有着历史的局限性，但他清正廉明、关怀民众的事迹，到今天仍有着重要的借鉴和教育意义。</a:t>
            </a:r>
            <a:br>
              <a:rPr sz="2800"/>
            </a:b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>
            <a:off x="826920" y="0"/>
            <a:ext cx="756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684360" y="339840"/>
            <a:ext cx="72738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耶律楚材是历史上有名的清官。成吉思汗攻打西夏时，将领们纷纷抢夺金玉财宝，他却收集、保存了许多文集和大量的药材。后来军中疫病流行，这些药材救活了好几万人。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1227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年，他奉命到燕京整顿秩序。当时京畿之内，许多权势人家的子弟，一到黄昏便驾着牛车出来结伙抢劫，行凶杀人。耶律楚材不畏强暴，不为利害所动，秉公而断，公开斩了十六名这类罪犯，为社会除了大害。他病死后，有人诬陷他藏有私囊，检查以后，发现除了琴阮书画金石遗文之外，别无所有，足见他的清廉。</a:t>
            </a: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826920" y="3860640"/>
            <a:ext cx="55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如果你做了官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你会做个什么样的官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900000" y="1628640"/>
            <a:ext cx="47516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假如我做了官……</a:t>
            </a:r>
            <a:endParaRPr b="0" i="1" lang="en-US" sz="1800" spc="1" strike="noStrike">
              <a:ln w="2232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/>
          </p:nvPr>
        </p:nvSpPr>
        <p:spPr>
          <a:xfrm>
            <a:off x="324000" y="2421000"/>
            <a:ext cx="834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　　　　　　　　　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为题写一篇小作文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1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充分发挥想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详略得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层次分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字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2627280" y="549360"/>
            <a:ext cx="3745080" cy="10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8892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作　业</a:t>
            </a:r>
            <a:endParaRPr b="0" lang="en-US" sz="1800" spc="1" strike="noStrike">
              <a:ln w="8892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1042920" y="2492280"/>
            <a:ext cx="3392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假如我当了官……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ff0000"/>
                </a:solidFill>
                <a:latin typeface="Arial"/>
                <a:ea typeface="华文琥珀"/>
              </a:rPr>
              <a:t>包拯知多少？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042920" y="2781360"/>
            <a:ext cx="77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042920" y="1413000"/>
            <a:ext cx="6408720" cy="61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开封有个包青天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铁面无私辨忠奸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江湖豪杰来相助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王朝和马汉在身边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钻天鼠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身轻如燕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彻地鼠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是条好汉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穿山鼠铁臂神拳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翻江鼠身手不凡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锦毛鼠一身是胆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这五鼠义结金兰侠和五义</a:t>
            </a:r>
            <a:br>
              <a:rPr sz="2800"/>
            </a:b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留传在民间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805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805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85891" fill="hold"/>
                                        <p:tgtEl>
                                          <p:spTgt spid="8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3132000" y="1628640"/>
            <a:ext cx="3183120" cy="396108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/>
          <p:cNvPicPr/>
          <p:nvPr/>
        </p:nvPicPr>
        <p:blipFill>
          <a:blip r:embed="rId2"/>
          <a:stretch/>
        </p:blipFill>
        <p:spPr>
          <a:xfrm>
            <a:off x="-252360" y="2997360"/>
            <a:ext cx="3200400" cy="3860640"/>
          </a:xfrm>
          <a:prstGeom prst="rect">
            <a:avLst/>
          </a:prstGeom>
          <a:ln w="0">
            <a:noFill/>
          </a:ln>
        </p:spPr>
      </p:pic>
      <p:sp>
        <p:nvSpPr>
          <p:cNvPr id="808" name=""/>
          <p:cNvSpPr/>
          <p:nvPr/>
        </p:nvSpPr>
        <p:spPr>
          <a:xfrm>
            <a:off x="395280" y="44280"/>
            <a:ext cx="2376360" cy="336600"/>
          </a:xfrm>
          <a:prstGeom prst="rect">
            <a:avLst/>
          </a:prstGeom>
          <a:solidFill>
            <a:srgbClr val="ccffcc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3"/>
          <a:stretch/>
        </p:blipFill>
        <p:spPr>
          <a:xfrm>
            <a:off x="-757080" y="0"/>
            <a:ext cx="9685080" cy="343692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4"/>
          <a:stretch/>
        </p:blipFill>
        <p:spPr>
          <a:xfrm>
            <a:off x="3780000" y="3537000"/>
            <a:ext cx="4427280" cy="3321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evt="end">
                                        <p:tn val="26"/>
                                      </p:cond>
                                    </p:stCondLst>
                                  </p:cTn>
                                  <p:tgtEl>
                                    <p:spTgt spid="8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" dur="3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2" presetSubtype="6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000"/>
                            </p:stCondLst>
                            <p:childTnLst>
                              <p:par>
                                <p:cTn id="44" nodeType="afterEffect" fill="hold" presetClass="entr" presetID="3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4650"/>
                            </p:stCondLst>
                            <p:childTnLst>
                              <p:par>
                                <p:cTn id="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150"/>
                            </p:stCondLst>
                            <p:childTnLst>
                              <p:par>
                                <p:cTn id="55" nodeType="afterEffect" fill="hold" presetClass="entr" presetID="31" repeatCount="indefinite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1150"/>
                            </p:stCondLst>
                            <p:childTnLst>
                              <p:par>
                                <p:cTn id="62" nodeType="afterEffect" fill="hold" presetClass="entr" presetID="17" presetSubtype="1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evt="end">
                                        <p:tn val="62"/>
                                      </p:cond>
                                    </p:stCondLst>
                                  </p:cTn>
                                  <p:tgtEl>
                                    <p:spTgt spid="8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0" y="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包拯（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999-1062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）自希仁，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庐州合肥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人（安徽合肥），北宋天圣五年（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1027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）进士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        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中进士后，因父母年事已高，不忍远去为官，直到双亲相继去世，守孝完毕，才在亲友的劝说下为官，期间长达十年之久，故以孝闻于乡里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201924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嘉佑元年（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1056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）年十二月，朝廷任包拯权知开封府，他于次年三月正式上任，至三年六月离任，前后只有一年有余。但在这短短的时间内，把号称难治的开封府，治理得井井有条。敢于惩治权贵们的不法行为，坚决抑制开封府吏的骄横之势，并能够及时惩办诬赖刁民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        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由于包拯在开封府执法严明，铁面无私，敢于碰硬，贵戚宦官也不得不有所收敛，听到包拯的名字就感到害怕。儿童妇孺们都知道包拯之名，亲切称呼他为「包待制」。开封府广泛流传着这样的话「关节不到，有阎罗包老。」用阎罗比喻包拯的铁面无私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        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宋嘉佑六年（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1061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），他官至枢密副使，次年五月病逝，「京师吏民，莫不感伤，叹息之声，大街小巷都可听得到。」</a:t>
            </a: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朝廷赠官吏部上书，有「奏仪」十五卷传于世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cc00"/>
                </a:solidFill>
                <a:latin typeface="Arial"/>
                <a:ea typeface="华文隶书"/>
              </a:rPr>
              <a:t>生字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24368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惮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356000" y="907920"/>
            <a:ext cx="2521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稚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讼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恶吏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嫉恶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苟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赃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茔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124000" y="1052640"/>
            <a:ext cx="2232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y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ù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ǐ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y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à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w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è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i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zhu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ō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hu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à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à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308720" y="981000"/>
            <a:ext cx="208764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zh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ì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s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ò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w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ù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è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g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ǒ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u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z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ā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y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í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684360" y="0"/>
            <a:ext cx="6912000" cy="718560"/>
          </a:xfrm>
          <a:prstGeom prst="rect">
            <a:avLst/>
          </a:prstGeom>
          <a:solidFill>
            <a:srgbClr val="7499d0">
              <a:alpha val="5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    </a:t>
            </a:r>
            <a:r>
              <a:rPr b="1" lang="zh-CN" sz="41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“</a:t>
            </a:r>
            <a:r>
              <a:rPr b="1" lang="zh-CN" sz="41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传”：是正史的重要组成部分。主要叙述传主的生卒、地望、官职、生平事迹内容。</a:t>
            </a:r>
            <a:endParaRPr b="0" lang="en-US" sz="41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340000" y="4221000"/>
            <a:ext cx="5832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cc00"/>
                </a:solidFill>
                <a:latin typeface="Arial"/>
                <a:ea typeface="楷体_GB2312"/>
              </a:rPr>
              <a:t>自传  ——自述生平</a:t>
            </a:r>
            <a:endParaRPr b="0" lang="en-US" sz="3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cc00"/>
                </a:solidFill>
                <a:latin typeface="Arial"/>
                <a:ea typeface="楷体_GB2312"/>
              </a:rPr>
              <a:t>传、评传  ——由别人撰写</a:t>
            </a:r>
            <a:endParaRPr b="0" lang="en-US" sz="3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411280" y="4365720"/>
            <a:ext cx="144720" cy="595080"/>
          </a:xfrm>
          <a:custGeom>
            <a:avLst/>
            <a:gdLst>
              <a:gd name="textAreaLeft" fmla="*/ 92520 w 144720"/>
              <a:gd name="textAreaRight" fmla="*/ 145080 w 144720"/>
              <a:gd name="textAreaTop" fmla="*/ 15480 h 595080"/>
              <a:gd name="textAreaBottom" fmla="*/ 579600 h 59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631880" y="43657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cc00"/>
                </a:solidFill>
                <a:latin typeface="Arial"/>
                <a:ea typeface="楷体_GB2312"/>
              </a:rPr>
              <a:t>传记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33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包拯字希仁，庐州合肥人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也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。……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知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天长县。有盗割人牛舌者，主来诉。拯曰：“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第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归，杀而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鬻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之”。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寻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复有来告私杀牛者，拯曰：“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何为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割牛舌而又告之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?”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盗惊服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95280" y="1916280"/>
            <a:ext cx="3025800" cy="431640"/>
          </a:xfrm>
          <a:prstGeom prst="wedgeRoundRectCallout">
            <a:avLst>
              <a:gd name="adj1" fmla="val 106347"/>
              <a:gd name="adj2" fmla="val -202203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判断句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580000" y="1700280"/>
            <a:ext cx="1944720" cy="431640"/>
          </a:xfrm>
          <a:prstGeom prst="wedgeRoundRectCallout">
            <a:avLst>
              <a:gd name="adj1" fmla="val 12694"/>
              <a:gd name="adj2" fmla="val -165074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主持，掌管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076720" y="3716280"/>
            <a:ext cx="1800360" cy="432000"/>
          </a:xfrm>
          <a:prstGeom prst="wedgeRoundRectCallout">
            <a:avLst>
              <a:gd name="adj1" fmla="val 21074"/>
              <a:gd name="adj2" fmla="val -240074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但，只管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8062920" y="3716280"/>
            <a:ext cx="1081080" cy="432000"/>
          </a:xfrm>
          <a:prstGeom prst="wedgeRoundRectCallout">
            <a:avLst>
              <a:gd name="adj1" fmla="val 1541"/>
              <a:gd name="adj2" fmla="val -240074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卖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95280" y="5157720"/>
            <a:ext cx="1081080" cy="432000"/>
          </a:xfrm>
          <a:prstGeom prst="wedgeRoundRectCallout">
            <a:avLst>
              <a:gd name="adj1" fmla="val 48680"/>
              <a:gd name="adj2" fmla="val -20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不久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59640" y="6021360"/>
            <a:ext cx="1585800" cy="432000"/>
          </a:xfrm>
          <a:prstGeom prst="wedgeRoundRectCallout">
            <a:avLst>
              <a:gd name="adj1" fmla="val -15166"/>
              <a:gd name="adj2" fmla="val -407351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为什么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0T12:56:54Z</dcterms:created>
  <dc:creator>教师</dc:creator>
  <dc:description/>
  <dc:language>en-US</dc:language>
  <cp:lastModifiedBy>MC SYSTEM</cp:lastModifiedBy>
  <dcterms:modified xsi:type="dcterms:W3CDTF">2010-05-04T05:57:51Z</dcterms:modified>
  <cp:revision>81</cp:revision>
  <dc:subject/>
  <dc:title>幻灯片 1</dc:title>
</cp:coreProperties>
</file>