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9F4-CECA-4570-AD70-E4807AFB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E2F-0161-488C-A02D-8579892C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E81-EF62-46ED-A906-B8101546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103-4C41-4354-B67B-8C0D6B57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C94-E11E-418B-BEBB-7FAE8EEF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873-1E4F-4FDA-A52C-950BE822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1B2C-A56E-468B-8A5C-B5FF94C7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011-0F80-4F85-83BF-5457612F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726-6E67-4440-8D4D-4BA970C1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F0F-576B-4840-86B3-89943D42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462-7BC4-4FE1-BF11-6E472B9A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32A-8E90-4CED-A2D5-AF21DB58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3BFC-EEBA-4C67-996F-722EE14F6B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260360" y="0"/>
            <a:ext cx="10656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71520" y="151776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散文整体阅读例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70520" y="2997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执教：湘潭市湘钢一中  罗  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5640" y="765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全文共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然段，第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第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两个自然段的顺序可否颠倒？为什么？请简要说明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2708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（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（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两段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不能颠倒。原因：这两段是从个人到同类再到社群，逐层深入或由小到大的关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1052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简要回答问题：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文章最后一段，作者说“文化就是那根柔弱又强韧的细丝”。请结合全文，简析“柔弱”和“强韧”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492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文化作为一种精神现象看起来是柔弱无力的（或“文化在强权政治、战争或命运面前往往柔弱无力”）；但文化具有强大的凝聚力，能使人具有归属感（或文化认同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8240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5.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这篇散文在写法上的突出特点是什么？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5120" y="2297160"/>
            <a:ext cx="49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《如果你为四郎哭泣》采用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因事见理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写法，借看戏之事谈论文化为什么重要的问题。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化玄远为浅近，形象具体，易于读者理解，使文章的说服力和感染力更强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81760" y="148428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一课一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852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整体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局部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整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1600" y="1557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整体阅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94000" y="2276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隶书"/>
                <a:ea typeface="隶书"/>
              </a:rPr>
              <a:t>谢   谢 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57080" y="-4680"/>
            <a:ext cx="10729800" cy="682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8748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692280"/>
            <a:ext cx="2808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考查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内容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结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形象意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语言风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表达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61080" y="692280"/>
            <a:ext cx="14299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解读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预想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抓点连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寻象悟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品味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鉴赏写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6360" y="191628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具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运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54840" y="1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预想寻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42080" y="822240"/>
            <a:ext cx="9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看题目：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果你为四郎哭泣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3000" y="126828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预想：这是假设复句的条件部分，它会有什么结果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31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看开头：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经济学家、社会学家、人类学家可能找得出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个方式来回答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“文化为什么重要”这个问题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但是我可以从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一场戏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说起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5560" y="3141720"/>
            <a:ext cx="39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直截了当提出话题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文化为什么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716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看结尾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人本是散落的珠子，随地乱滚，文化就是那根柔弱又强韧的细丝，将珠子串起来成为社会。而公民社会，因为不倚赖皇权或神权来坚固它的底座，因此文化便是公民社会最重要的黏合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43200" y="5373720"/>
            <a:ext cx="26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回答了文化的重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9520" y="69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速读划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2060640"/>
            <a:ext cx="81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圈划文中重要的词句（结构上起过渡、连接作用的词、句、段，各段的中心句；文化哲理散文中的议论句）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理出文章的思路、结构层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3880" y="62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抓点连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773360"/>
            <a:ext cx="87138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“文化为什么重要”这个问题，……我可以从一场戏说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有一天……演出《四郎探母》，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父亲……老泪纵横，泣不成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四周多是……老人家，……他们不说话，因为眼里还有泪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从《四郎探母》，……我懂了为什么《伊底帕斯》能在星空下演两千年仍让人震撼，为什么《李尔王》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后仍让人感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文化，……艺术，做了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它使孤独的个人为自己说不出的痛苦找到了名字和定义。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文化艺术使孤立的个人，打开深锁自己的门，走出去，找到同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它使零散的、疏离的各个小撮团体找到连结而转型成精神相通、休戚与共的社群。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因此文化便是公民社会最重要的黏合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260280"/>
            <a:ext cx="7056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归纳概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提出问题：文化为什么重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—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叙述父亲看戏流泪的故事，表现戏剧艺术强大的感人力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9—1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论述文化的重要性：文化是公民社会最重要的黏合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6680" y="3068640"/>
            <a:ext cx="729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260280"/>
            <a:ext cx="8820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读题思考：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本文的标题只是一个假设复句的前一个分句。通读全文后，请根据你的理解写出下一个分句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你为四郎哭泣，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作者从《四郎探母》懂得了为什么《伊底帕斯》、《李尔王》在千百年后仍让人感动。你认为作者懂得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全文共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自然段，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和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两个自然段的顺序可否颠倒？为什么？请简要说明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简要回答问题：在文章最后一段，作者说“文化就是那根柔弱又强韧的细丝”。请结合全文，简析“柔弱”和“强韧”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这篇散文在写法上的突出特点是什么？有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907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本文的标题只是一个假设复句的前一个分句。通读全文后，请根据你的理解写出下一个分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如果你为四郎哭泣，     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13640" y="306864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你就会懂得文化的重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840" y="393372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（你就找到了灵魂的归属；你就找到了精神的家园；你就会懂得文化为什么是公民社会里最重要的黏合剂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7640" y="765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作者从《四郎探母》懂得了为什么《伊底帕斯》、《李尔王》在千百年后仍让人感动。你认为作者懂得的是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14172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懂得了凡是抒写永恒的人性、深入人类灵魂的文化艺术作品的生命力是永久的。（或“懂得了作为公民社会里最重要的黏合剂的文化的力量是无穷的”；或“懂得了能引起归属感的、凝聚社会文化认同的文化艺术作品的生命力是永恒的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3:04:07Z</dcterms:created>
  <dc:creator>微软用户</dc:creator>
  <dc:description/>
  <dc:language>en-US</dc:language>
  <cp:lastModifiedBy>微软用户</cp:lastModifiedBy>
  <dcterms:modified xsi:type="dcterms:W3CDTF">2009-03-28T22:47:32Z</dcterms:modified>
  <cp:revision>10</cp:revision>
  <dc:subject/>
  <dc:title>幻灯片 1</dc:title>
</cp:coreProperties>
</file>