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2B5C-F133-48C4-9549-D7F49060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93F0-8AE9-490D-96B1-89B1663B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0BD4-1D2F-416B-9935-57360BAF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3BA-50E4-40EF-99A3-40916D8D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6909-3F82-473A-A638-FE12B10D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CE4B-EEFD-4ABE-88AC-2132CA00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93E3-7D93-410A-B49A-FE1EC128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B64B-6201-4A8B-ACA6-3341BC6A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B11B-C940-4605-BFF4-A4BEF8EA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D90F-68AB-4BE7-AE47-890C20B8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F234-CF33-41A6-B924-70AB98A6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614D-7152-4A00-994B-B7735FFE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BD30-CCB0-4BA3-97B4-A6C4B260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0DAB-A344-4374-9020-2C22224A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D101-08C0-4FB7-8701-639C2729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3840-49D4-44BD-A3D9-2D62E211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661C-31E7-4910-8473-E059DCD6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851-A5CE-42B6-870C-8AB14CC7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B66B-3432-47B7-899D-FFB920A6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26F-5F25-47D5-9878-31BCEE0C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F88-D10D-45F5-9530-B2851747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44D-EA61-42E7-8F10-56D57DCB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05C4-40A6-4F26-8EE6-35036CEB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529-7CE5-459E-8009-72A4B08A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B316-F24C-4363-AC7D-12742DB4BD0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F7CA-410C-418E-8117-993DA86658D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ecff"/>
                </a:solidFill>
                <a:latin typeface="Arial"/>
                <a:ea typeface="华文隶书"/>
              </a:rPr>
              <a:t>欢迎指导：            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细黑"/>
              </a:rPr>
              <a:t>江苏省赣榆高级中学：张永庆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ecff"/>
                </a:solidFill>
                <a:latin typeface="Arial"/>
                <a:ea typeface="楷体_GB2312"/>
              </a:rPr>
              <a:t>读李贺作品有感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686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秋风吹地百草干，华容碧影生晚寒。携盘独出月荒凉，茵草冷烛露幽兰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云中谁人骑碧驴，一心愁谢无君怜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烟花无物结同心，无情有恨何曾见？雨冷香魂吊书客，忆君清泪水如铅。纵有长歌哭短歌，青筒书虫何以堪？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84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探究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仿宋_GB2312"/>
              </a:rPr>
              <a:t>宋代诗论家严羽在《沧浪诗话》中说：“太白仙才，长吉鬼才”，后人称李白为诗仙，李贺为诗鬼，请思考：诗鬼与诗仙的区别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52027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华文新魏"/>
                <a:ea typeface="华文新魏"/>
              </a:rPr>
              <a:t>将进酒 </a:t>
            </a:r>
            <a:br>
              <a:rPr sz="5400"/>
            </a:b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李贺</a:t>
            </a:r>
            <a:r>
              <a:rPr b="1" lang="zh-CN" sz="54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5400"/>
            </a:br>
            <a:br>
              <a:rPr sz="54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琉璃钟，琥珀浓， 小槽酒滴真珠红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烹龙炮凤玉脂泣， 罗帏绣幕围香风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吹龙笛，击鼍鼓； 皓齿歌，细腰舞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况是青春日将暮， 桃花乱落如红雨。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劝君终日酩酊醉， 酒不到刘伶坟上土！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5248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ff99"/>
                </a:solidFill>
                <a:latin typeface="Arial"/>
                <a:ea typeface="华文行楷"/>
              </a:rPr>
              <a:t>      </a:t>
            </a:r>
            <a:r>
              <a:rPr b="1" lang="zh-CN" sz="6000" spc="-1" strike="noStrike">
                <a:solidFill>
                  <a:srgbClr val="99ff99"/>
                </a:solidFill>
                <a:latin typeface="Arial"/>
                <a:ea typeface="华文行楷"/>
              </a:rPr>
              <a:t>天才的第一声啼哭，</a:t>
            </a:r>
            <a:br>
              <a:rPr sz="6000"/>
            </a:br>
            <a:r>
              <a:rPr b="1" lang="zh-CN" sz="6000" spc="-1" strike="noStrike">
                <a:solidFill>
                  <a:srgbClr val="99ff99"/>
                </a:solidFill>
                <a:latin typeface="Arial"/>
                <a:ea typeface="华文行楷"/>
              </a:rPr>
              <a:t>也决不是一首音乐。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9144000" cy="25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华文行楷"/>
              </a:rPr>
              <a:t>      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华文行楷"/>
              </a:rPr>
              <a:t>天才与勤奋嫁接才能结出最灿烂的果实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-22896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华文隶书"/>
              </a:rPr>
              <a:t>天   上   谣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华文行楷"/>
                <a:ea typeface="华文行楷"/>
              </a:rPr>
              <a:t>李   贺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天 上 谣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天河夜转漂回星， 银浦流云学水声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玉宫桂树花未落， 仙妾采香垂珮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秦妃卷帘北窗晓， 窗前植桐青凤小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王子吹笙鹅管长， 呼龙耕烟种瑶草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粉霞红绶藕丝裙， 青洲步拾兰苕春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东指羲和能走马， 海尘新生石山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画面一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玉宫桂树花未落， 仙妾采香垂珮缨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月桂飘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月宫里的桂树啊，永不枯萎，那袭人的馨香也不会销歇。看吧，那踏香而来的仙女们正在采摘你的美丽，她们要把你的花朵装进香囊，她们要用你的馨香装点衣带上最美的饰物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画面二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秦妃卷帘北窗晓， 窗前植桐青凤小；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秦妃望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晨光熹微，弄玉慢慢卷起窗帘，当窗眺望，那窗外的晨景，清新而明净，咦！窗前的那棵梧桐树上，怎么会立着一只小巧的青凤，难道它就是当年引导我和萧史升天的那只神鸟吗？时间过的真快啊，弹指千余年，而我红颜未老，那青凤也娇小如故。天宫真好啊！任凭时间推移，也没有在我们的身上留下任何痕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画面三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王子吹笙鹅管长， 呼龙耕烟种瑶草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神龙耕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仙人王子晋又抚起了他那细长的笙管，轻轻一吹，依然是那熟悉的凤凰鸣，在那熟悉的旋律中，只见一条条神龙翻耕着烟云，播种着玉芝草，多么悠闲自在！多么潇洒飘逸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画面四：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粉霞红绶藕丝裙， 青洲步拾兰苕春。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仙女寻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系着粉霞色的丝带，穿着藕丝色的长裙，仙女们漫步小洲，踏着一地青翠。她们指顾言谈，走过林木的茂密，她们采摘兰花，享尽山川的秀丽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7339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钱  钟  书：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行楷"/>
              </a:rPr>
              <a:t>  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华文新魏"/>
              </a:rPr>
              <a:t>皆深有感于日月逾迈，沧桑改换，而人事之代谢不与焉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y</cp:lastModifiedBy>
  <dcterms:modified xsi:type="dcterms:W3CDTF">2008-12-24T02:39:0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