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B48-214C-4393-B0EB-E2AFA757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756-7C3B-410D-B57D-2ACC3169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546-AD7C-4784-B26C-2AF3903E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A10-BDC2-4961-B1CD-ECFB6FB0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326-D830-48B3-A6DF-1A439069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B05-5CB7-4800-B6F7-2DD55F69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5BF-0E69-4C55-9D7B-4E2437B9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59F-8573-4424-8926-1F9E86C4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FA8-A463-424F-8C6A-D7E6D41C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A50-B4C7-4E8B-A76A-F5F4768B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BF2-FAD9-42F8-B1E0-33C3692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169-E868-4E38-A414-675C5AC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8DF4-EC9F-4365-AB09-B152E0CAEE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333360"/>
            <a:ext cx="40147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古代伟大的思想家、教育家，春秋末期儒家学派的创始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4724280" cy="6858000"/>
            <a:chOff x="0" y="0"/>
            <a:chExt cx="472428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24000" y="6165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3300"/>
                  </a:solidFill>
                  <a:latin typeface="Times New Roman"/>
                </a:rPr>
                <a:t>cl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457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大同”社会跟陶渊明描绘的那个“世外桃源”有没有相似的地方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8077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土地平旷，屋舍俨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整齐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阡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田间小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交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交错相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鸡犬相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黄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老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垂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小孩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，并怡然自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余人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其余的人家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各复延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邀请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至其家，皆出酒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562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世外桃源应该是根据“大同”社会体制构想出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762120"/>
            <a:ext cx="7300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人类理想的社会形式是</a:t>
            </a:r>
            <a:r>
              <a:rPr b="0" i="1" lang="zh-CN" sz="117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拓展与延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1529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0"/>
            <a:ext cx="4724280" cy="26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孟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孟子，名轲，字子舆，生于战国时代，代表作《孟子》。他被公认为孔子儒家学说最具影响力的继承人，被誉为“亚圣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极力主张王者以仁义治理天下，认为使百姓得以温饱与教育才是国家强盛之本。提出的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老吾老，以及人之老；幼吾幼，以及人之幼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”就是对“不独亲其亲，不独子其子“的解说 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04920" y="2819520"/>
            <a:ext cx="74674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世外桃源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52880" y="304920"/>
            <a:ext cx="4191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康有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同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康有为的《大同书》，力主“以新知益旧学”的他，用一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末先知先觉者全部的想象力描绘了一个中国的“大同梦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今欲致大同，必去人之私产而后可：凡农工商之业，必归之公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财产公有，按劳分配，人人劳动，人人平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去级界平民族，去家界为天民，去种界同人类，破国界合大地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无邦国，无帝王，人人相亲，天下大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29400" y="620640"/>
            <a:ext cx="25146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自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90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月《民报》问世，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孙中山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开始系统宣传资本主义民主革命的思想，他自己也在创刊号上提出了由民族、民权、民生构成的“三民主义”，正式完成了他对“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民主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的一个比较完满的构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52880" y="304920"/>
            <a:ext cx="40388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莫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《乌托邦》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的作者，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世纪英国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d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大法官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乌托邦描绘了一个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公社式的社会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，它并不强求一致，但却通过明显可见的公正制度而达到全体一致”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财产公有，人人平等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，这是《乌托邦》的一个基本观点，正如正义是贯穿《理想国》的内在精神，公平则是《乌托邦》的核心理念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莫尔以公平的理念构筑乌托邦的社会制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8675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圣西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法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纪上半叶第一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空想社会主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社会制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业制度所代替。实业制度的唯一目的就是尽善尽美地运用科学、艺术和工业所取得的成就，以满足全体社会成员的需要，并尽快地改善无产阶级的物质和精神状况。在这种制度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人人参加劳动，有计划地组织生产，采取按才能和贡献进行分配的原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457200"/>
            <a:ext cx="83822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大同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小康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今国家也提出先要领导人民实现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水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词，出自《礼记》，据传乃孔子所言。其中《礼运》篇，描述西周初期的社会景象，表达了孔子的社会理想。这一篇，孔子提出了两个相互关联的概念，一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一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比较起来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大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想里说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古人不独亲其亲，不独亲其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而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因此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全社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要共同关心的对象；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则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亲其亲，各子其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家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单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24280" y="0"/>
            <a:ext cx="4419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华文新魏"/>
                <a:ea typeface="华文新魏"/>
              </a:rPr>
              <a:t>马克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伟大的思想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他和思格斯共同创立的马克思主义学说，提出社会主义和共产主义伟大的理想的社会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中国共产党章规定：党的最终目标，是实行共产主义的社会制度，认为资本主义最后必然发展为共产主义社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各尽所能，按需分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”是共产主义的社会制度的基本概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《大道之行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4221000"/>
            <a:ext cx="547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礼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38188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《大道之行也 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自《礼记》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儒家经典之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Times New Roman"/>
              </a:rPr>
              <a:t>礼记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•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Times New Roman"/>
              </a:rPr>
              <a:t>礼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》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该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大约是战国末年或秦汉之际儒家学者托名孔子答问的著作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中提出一个著名的关于人类美好社会的构想，并给它定名为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大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。请注意理解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天下为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这个关键词理，清课文的层次，然后分析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大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 社会的基本特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533520"/>
            <a:ext cx="70866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给下面加点的字注音并解释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贤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有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女有归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货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其弃于地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陶后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43000"/>
            <a:ext cx="860436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贤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与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jǔ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。与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通“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讲信修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睦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mù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睦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和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气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矜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guān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矜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通“鳏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分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f</a:t>
            </a:r>
            <a:r>
              <a:rPr b="1" i="1" lang="zh-CN" sz="1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èn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分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职分，指职业、职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货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恶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ｗ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ù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弃于地也。恶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憎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给下面加点的字注音并解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228600"/>
            <a:ext cx="3809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行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下为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选贤与能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讲信修睦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33360"/>
            <a:ext cx="5794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大道施行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天下是人们所共有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把有贤德、有才能的人选出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讲求诚信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Times New Roman"/>
              </a:rPr>
              <a:t>培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8128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大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古代指政治上的最高理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选贤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ǔ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把品德高尚的人、能干的人选拔出来。与，通“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讲信修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ù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讲求诚信，培养和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气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518184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故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人不独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亲④其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不独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子其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使老有所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壮有所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幼有所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矜、寡、孤、独、废疾者⑤皆有所养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男有分⑥，女有归⑦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718080"/>
            <a:ext cx="487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④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亲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如动词，以……为亲。下文“子其子”中的第一个“子”也是动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⑤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guān)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、寡、孤、独、废疾者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矜，老而无妻的人。矜，通“鳏”。寡，老而无夫的人。孤，幼而无父的人。独，老而无子的人。废疾，残疾人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⑥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男有分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fèn)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男子有职务。分，职分，指职业、职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⑦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女有归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思是女子有归宿。归，女子出嫁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8088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人不单奉养自己的父母，不单抚育自己的子女，使老人能够终其天年，中年人能为社会效力，幼童能够顺利成长，使老而无妻的人、老而无无夫的人、幼而丧父的人、老而无子的人、残疾人都能够得到供养，男子有职业，女子都有归宿（婚嫁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808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货恶其弃于地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必藏于己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力恶其不出于身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必为己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故谋闭而不兴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盗窃乱贼而不作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外户⑦而不闭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谓大同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228600"/>
            <a:ext cx="480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（人们）憎恨财货被扔在地上的行为，却不一定要自己私藏。（人们）也憎恶那种在共同劳动中不肯尽力的行为，而不一定为自己谋私利。因此奸邪之谋不会发生，盗窃、造反和害人的事情不会发生。所以（家家户户）都不用关大门，这就叫做“大同”的社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6483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恶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ｗ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ù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憎恶。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④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为自己谋私利。⑤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谋闭而不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〕奸邪之谋不会发生。⑥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指造反。贼，指害人。作，兴起。⑦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外户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外面把门扇合上。⑧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闭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门闩插门。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大同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理想社会。同，有和、平的意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3720" y="304920"/>
            <a:ext cx="4647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大同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社会的特征的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2971800"/>
            <a:ext cx="5410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人人都受到全社会的关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人人都能安居乐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货尽其用，人尽其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990720"/>
            <a:ext cx="990360" cy="5104800"/>
            <a:chOff x="609480" y="990720"/>
            <a:chExt cx="990360" cy="5104800"/>
          </a:xfrm>
        </p:grpSpPr>
        <p:sp>
          <p:nvSpPr>
            <p:cNvPr id="63" name=""/>
            <p:cNvSpPr/>
            <p:nvPr/>
          </p:nvSpPr>
          <p:spPr>
            <a:xfrm>
              <a:off x="609480" y="990720"/>
              <a:ext cx="990360" cy="510480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公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467480" y="990720"/>
            <a:ext cx="990720" cy="5104800"/>
            <a:chOff x="7467480" y="990720"/>
            <a:chExt cx="990720" cy="5104800"/>
          </a:xfrm>
        </p:grpSpPr>
        <p:sp>
          <p:nvSpPr>
            <p:cNvPr id="66" name=""/>
            <p:cNvSpPr/>
            <p:nvPr/>
          </p:nvSpPr>
          <p:spPr>
            <a:xfrm>
              <a:off x="7467480" y="990720"/>
              <a:ext cx="990720" cy="510480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96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0:24:47Z</dcterms:created>
  <dc:creator>Legend User</dc:creator>
  <dc:description/>
  <dc:language>en-US</dc:language>
  <cp:lastModifiedBy>js</cp:lastModifiedBy>
  <dcterms:modified xsi:type="dcterms:W3CDTF">2005-09-13T01:04:14Z</dcterms:modified>
  <cp:revision>15</cp:revision>
  <dc:subject/>
  <dc:title>PowerPoint 演示文稿</dc:title>
</cp:coreProperties>
</file>