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projctor.wav" ContentType="audio/x-wav"/>
  <Override PartName="/ppt/media/image4.jpeg" ContentType="image/jpeg"/>
  <Override PartName="/ppt/media/laser.wav" ContentType="audio/x-wav"/>
  <Override PartName="/ppt/media/image5.jpeg" ContentType="image/jpeg"/>
  <Override PartName="/ppt/media/%E9%93%83%E5%A3%B05.wav" ContentType="audio/x-wav"/>
  <Override PartName="/ppt/media/image6.jpeg" ContentType="image/jpeg"/>
  <Override PartName="/ppt/media/chimes.wav" ContentType="audio/x-wav"/>
  <Override PartName="/ppt/media/type.wav" ContentType="audio/x-wav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717-1918-4225-80F9-BB139736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07E-172C-42BB-B8E2-13E68F89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168-A8D1-4C00-910C-E7513928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0CE-44CF-431B-8BFA-5D0A6F6D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2C8-7B44-4D20-8ABB-79B13D0A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F2A0-120E-4C99-8EF0-F15E14C2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8079-2C08-4277-ABAF-891FE84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D2D4-6B2D-4474-8DFA-70B17C79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DE4-1A60-458C-82E8-F295A1E9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6DF3-B578-4102-9CA0-0293DB51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B59F-D0DB-4584-B884-1EFC734D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150-9611-4BEA-9FE7-6083B748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E107-9570-4F8D-8E92-9F2AE97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8B3E-E3BD-4283-8483-5B2C2357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0653-24B8-496A-9F62-95C23099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3FD2-1EC2-47CF-9D0E-E7ED4D31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5782-2E6F-494A-973F-418CA2CD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BCB-F898-4158-B07A-82E277CE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23D-61FF-42C0-8CA7-5F195984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BF5-74F9-415F-88EB-4DAA7847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5C6-A19F-48AB-8EC3-254CC15D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B2E-F081-40DC-A4F3-B01436F8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344-3997-46A8-933F-C0F04B13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C19-206C-452A-92AF-1B68121A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610-A326-42D5-8762-2B00C78BAF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6183-6023-41D1-B7E0-858B5C0BF9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38083;&#22768;5.wav"/><Relationship Id="rId3" Type="http://schemas.openxmlformats.org/officeDocument/2006/relationships/audio" Target="../media/&#38083;&#22768;5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33720" y="1008000"/>
            <a:ext cx="183960" cy="118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701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13240" y="1415880"/>
            <a:ext cx="411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隶书"/>
                <a:ea typeface="华文隶书"/>
              </a:rPr>
              <a:t>陋    室    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371628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刘禹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0" y="-85680"/>
            <a:ext cx="4572000" cy="694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-85680"/>
            <a:ext cx="4572000" cy="6943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1773360"/>
            <a:ext cx="38512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可以调素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阅金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11560" y="1628640"/>
            <a:ext cx="41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无丝竹之乱耳，无案牍之劳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8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正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实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28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反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虚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933720"/>
            <a:ext cx="60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高雅脱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86064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</a:rPr>
              <a:t>不慕富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43480" y="476280"/>
            <a:ext cx="347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南阳诸葛庐，西蜀子云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孔子云：何陋之有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0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运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类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引古贤之名室证“陋室”，意在以古代圣贤自比，表明自己也具有古代名贤的志趣和抱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429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前文“斯是陋室”遥相呼应，这是全文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画龙点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笔。突出表明作者高洁傲岸的情操和安贫乐道的情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93%83%E5%A3%B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93%83%E5%A3%B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27080" y="620640"/>
            <a:ext cx="29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5</a:t>
            </a:r>
            <a:r>
              <a:rPr b="0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、分析本文“托物言志”的写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3840" y="1973160"/>
            <a:ext cx="91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托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言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0000" y="1981080"/>
            <a:ext cx="168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5920" y="1916280"/>
            <a:ext cx="551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对陋室的环境及室主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日常生活进行描写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429000"/>
            <a:ext cx="64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表达了作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洁傲岸的情操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安贫乐道的情趣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3886200"/>
            <a:ext cx="30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文章主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6160" y="465300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80421"/>
                </a:solidFill>
                <a:latin typeface="隶书"/>
                <a:ea typeface="隶书"/>
              </a:rPr>
              <a:t>、文中哪句话点明了主题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5445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——“</a:t>
            </a: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惟吾德馨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7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7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71040" y="2209680"/>
            <a:ext cx="164268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33"/>
                </a:solidFill>
                <a:latin typeface="Times New Roman"/>
                <a:ea typeface="楷体_GB2312"/>
              </a:rPr>
              <a:t>陋室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247760"/>
            <a:ext cx="22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设喻引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609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9920" y="1476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4320" y="609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0280" y="1476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94680" y="609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5160" y="1440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4520" y="60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41280" y="144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德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914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3228840"/>
            <a:ext cx="24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陋室不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6668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514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环境清幽（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38098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生活恬适（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79440" y="47163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古贤自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461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反问点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rot="10800000">
            <a:off x="912960" y="1676520"/>
            <a:ext cx="228600" cy="3504960"/>
          </a:xfrm>
          <a:custGeom>
            <a:avLst/>
            <a:gdLst>
              <a:gd name="textAreaLeft" fmla="*/ 145800 w 228600"/>
              <a:gd name="textAreaRight" fmla="*/ 22860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5"/>
                </a:lnTo>
                <a:cubicBezTo>
                  <a:pt x="10800" y="9805"/>
                  <a:pt x="5400" y="10705"/>
                  <a:pt x="0" y="10705"/>
                </a:cubicBezTo>
                <a:cubicBezTo>
                  <a:pt x="5400" y="10705"/>
                  <a:pt x="10800" y="11605"/>
                  <a:pt x="10800" y="125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1240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07ed"/>
                </a:solidFill>
                <a:latin typeface="Times New Roman"/>
              </a:rPr>
              <a:t>交往高雅（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562720"/>
            <a:ext cx="44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421"/>
                </a:solidFill>
                <a:latin typeface="宋体"/>
              </a:rPr>
              <a:t>陪衬比喻  托物言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04600" y="762120"/>
            <a:ext cx="667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宋体"/>
              </a:rPr>
              <a:t>安贫乐道  高洁傲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1066680"/>
            <a:ext cx="152640" cy="4038840"/>
          </a:xfrm>
          <a:custGeom>
            <a:avLst/>
            <a:gdLst>
              <a:gd name="textAreaLeft" fmla="*/ 0 w 152640"/>
              <a:gd name="textAreaRight" fmla="*/ 55080 w 15264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70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63280" y="54936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找出课文中押韵的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4480" y="2362320"/>
            <a:ext cx="4368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名       灵        馨        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丁       经        形        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13360" y="67464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找出课文中对偶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41000" y="1344600"/>
            <a:ext cx="12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山不在高，有仙则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水不在深，有龙则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53000" y="228600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苔痕上阶绿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草色入帘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2240" y="3200400"/>
            <a:ext cx="1938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谈笑有鸿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往来无白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67360" y="426708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调素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阅金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65680" y="520056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无丝竹之乱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无案牍之劳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63240" y="3657600"/>
            <a:ext cx="19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、南阳诸葛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西蜀子云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42920" y="260280"/>
            <a:ext cx="4624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、填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052640"/>
            <a:ext cx="81532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概括全文主旨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写出“陋室”环境清幽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表明主人的生活情趣高雅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表明了主人不热衷于名利的句子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文末提到三位古人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起什么作用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44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山不在高，有仙则名。水不在深，有龙则灵。斯是陋室，惟吾德馨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苔痕上阶绿，草色入帘青。谈笑有鸿儒，往来无白丁。可以调素琴，阅金经。无丝竹之乱耳，无案牍之劳形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南阳诸葛庐，西蜀子云亭。孔子云：何陋之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260280"/>
            <a:ext cx="31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陋室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04080" y="1055520"/>
            <a:ext cx="26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刘禹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本文选自《全唐文》，作者刘禹锡（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72—84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，字梦得，贞元九年进士，唐代诗人，哲学家。刘禹锡生活在安史之乱以后的中唐时期，关心社会现实，忧虑国计民生。因参加王叔文的政治革新运动得罪了当朝的权贵，被贬成安徽省和州通判。按当时规定，他应住衙门里的三间屋子。可是和州知县见他被贬而来，便多方刁难。半年时间连搬三次家，住房一次比一次小，最后成了一间陋室。在此背景下，刘禹锡愤然提笔写了《陋室铭》一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34480" y="189000"/>
            <a:ext cx="90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作家作品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刘禹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95640" y="62784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0754"/>
                </a:solidFill>
                <a:latin typeface="Times New Roman"/>
              </a:rPr>
              <a:t>今天修复的安徽和州刘禹锡陋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6960" y="1268280"/>
            <a:ext cx="1642680" cy="36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花香不在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3160" y="1197000"/>
            <a:ext cx="164268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室雅何须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189000"/>
            <a:ext cx="35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关于文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97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铭”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古代刻在器物上用来警戒自己或者称述功德的文字，后来成为一种文体。这种文体一般都是用韵的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常用</a:t>
            </a:r>
            <a:r>
              <a:rPr b="1" lang="zh-CN" sz="3200" spc="-1" strike="noStrike">
                <a:solidFill>
                  <a:srgbClr val="990099"/>
                </a:solidFill>
                <a:latin typeface="方正姚体"/>
                <a:ea typeface="方正姚体"/>
              </a:rPr>
              <a:t>排比、对偶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句，所以又称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骈文</a:t>
            </a:r>
            <a:r>
              <a:rPr b="1" lang="zh-CN" sz="3200" spc="-1" strike="noStrike">
                <a:solidFill>
                  <a:srgbClr val="1707ed"/>
                </a:solidFill>
                <a:latin typeface="方正姚体"/>
                <a:ea typeface="方正姚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36640" y="520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515772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02a2"/>
                </a:solidFill>
                <a:latin typeface="Times New Roman"/>
                <a:ea typeface="隶书"/>
              </a:rPr>
              <a:t>本文韵脚</a:t>
            </a:r>
            <a:r>
              <a:rPr b="1" lang="zh-CN" sz="3200" spc="-1" strike="noStrike">
                <a:solidFill>
                  <a:srgbClr val="1502a2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4290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本文是一篇骈文。字数相同、意思相对的两个相接的句子，叫骈句。骈句不仅讲究对偶，而且讲究声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1800" y="785880"/>
            <a:ext cx="8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、给下列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64500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364500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91628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方正姚体"/>
                <a:ea typeface="方正姚体"/>
              </a:rPr>
              <a:t>陋            铭            鸿            儒            馨            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04720" y="206064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ò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080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1989000"/>
            <a:ext cx="13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85264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8160" y="285264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23760" y="26028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80421"/>
                </a:solidFill>
                <a:latin typeface="隶书"/>
                <a:ea typeface="隶书"/>
              </a:rPr>
              <a:t>4</a:t>
            </a:r>
            <a:r>
              <a:rPr b="0" lang="zh-CN" sz="4800" spc="-1" strike="noStrike">
                <a:solidFill>
                  <a:srgbClr val="f80421"/>
                </a:solidFill>
                <a:latin typeface="隶书"/>
                <a:ea typeface="隶书"/>
              </a:rPr>
              <a:t>、译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92160" y="1197000"/>
            <a:ext cx="923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山不一定要高，有仙人（居住）就能天下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名；水不一定要深，有龙（居住）就能显示灵异。这（虽）是间简陋的房子，但主人有美好的德行（就不觉得简陋了）。苔痕碧绿，长到阶上；草色清葱，映入帘内。谈笑的是渊博的学者，往来的没有粗俗的人。可以弹奏素朴的古琴，浏览珍贵的佛经。没有（嘈杂的）音乐声扰乱双耳，没有官府的公文劳累身心。（它好比）诸葛亮的茅庐，西蜀杨子云的亭子。孔子说：“（虽然是陋室，但只要君子住在里面，）有什么简陋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551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之</a:t>
            </a:r>
            <a:r>
              <a:rPr b="1" lang="zh-CN" sz="3200" spc="-1" strike="noStrike">
                <a:solidFill>
                  <a:srgbClr val="0b0a09"/>
                </a:solidFill>
                <a:latin typeface="方正姚体"/>
                <a:ea typeface="方正姚体"/>
              </a:rPr>
              <a:t>，宾语前置的标志，无实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840" y="1341360"/>
            <a:ext cx="17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有仙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268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名词活用为动词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，闻名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出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0920" y="2133720"/>
            <a:ext cx="22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无案牍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劳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989000"/>
            <a:ext cx="511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形容词使动用法</a:t>
            </a: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使…劳累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方正姚体"/>
                <a:ea typeface="方正姚体"/>
              </a:rPr>
              <a:t>使身体劳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1920" y="3500280"/>
            <a:ext cx="20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苔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阶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42900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方位名词活用为动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方正姚体"/>
              </a:rPr>
              <a:t>，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方正姚体"/>
              </a:rPr>
              <a:t>长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365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4221000"/>
            <a:ext cx="53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有何陋”的倒装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意思是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有什么简陋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549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特殊句式和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6480" y="62064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方正剪纸简体"/>
              </a:rPr>
              <a:t>“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方正剪纸简体"/>
              </a:rPr>
              <a:t>陋室不陋”具体表现在哪些方面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126828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环境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苔痕上阶绿，草色入帘青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环境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清幽、雅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反映出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淡泊名利的志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852640"/>
            <a:ext cx="8713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交往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谈笑有鸿儒，往来无白丁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朋友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贤良儒雅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映出室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洁傲岸的情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4437000"/>
            <a:ext cx="896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情趣之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“可以调素琴，阅金经，无丝竹之乱耳，无案牍之劳形”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生活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雅脱俗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反映出室主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为琐事萦怀的心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7T01:07:09Z</dcterms:created>
  <dc:creator>陈元华</dc:creator>
  <dc:description/>
  <dc:language>en-US</dc:language>
  <cp:lastModifiedBy>YlmF</cp:lastModifiedBy>
  <dcterms:modified xsi:type="dcterms:W3CDTF">2010-03-03T14:20:37Z</dcterms:modified>
  <cp:revision>50</cp:revision>
  <dc:subject>陋室铭</dc:subject>
  <dc:title>PowerPoint 演示文稿</dc:title>
</cp:coreProperties>
</file>