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A0F7-1217-4721-8715-587B67D9E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71C7-1943-4833-B680-DD19B88FE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9436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3825-112E-42A2-8AF7-830F5DD90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7836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4268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7836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4268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BDF9-2437-4D5E-8155-D5A49AD5D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E2B42-98E6-4EB3-AB6A-2DA61E651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07DD1-86D7-4100-8195-E652ECCCB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976F2-8843-4843-A536-D40118BF2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4C0B5-36E5-4682-B50D-7667520AC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AC176-3F91-49A7-A9BC-F529F070D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520" y="15235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C8215-BAF0-4E70-AABE-056307E61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F36E2-7BCA-41EA-BDFB-1C3BEDA5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D88D-A461-4E27-AE3F-B67F469FD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9436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220DA-4542-4E16-B18D-59F48239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1B928-47DA-41E6-A787-2391D03D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40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2418E-953B-4026-B3AB-33D84C7C1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19436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C1A45-611A-4489-A934-DA567623D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7836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4268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40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7836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24268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45F83-227C-4A22-8470-16BFC42DD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C3F4-AA49-441B-8282-5E0515E0E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1F31-C3E1-4FF3-9026-F183CEDCF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CDD4-02AE-4926-A1C6-0C413CC0B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15235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0385-C536-4066-84EF-14AC14A5B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95F5-FAB1-4144-82E8-BAECB4A7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9436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337C-F582-4A5D-8404-37E9F778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94F7-4E98-46B3-A18E-CA68DB08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13434-2CAE-425E-A65F-1703936FA8CE}" type="slidenum"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C18B6-480D-405B-968B-0C3CD73E6E7F}" type="slidenum"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46363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6363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795241"/>
                </a:solidFill>
                <a:latin typeface="Times New Roman"/>
              </a:rPr>
              <a:t>游褒禅山记</a:t>
            </a:r>
            <a:endParaRPr b="0" i="1" lang="en-US" sz="8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8120" y="4343040"/>
            <a:ext cx="58672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王安石</a:t>
            </a:r>
            <a:endParaRPr b="0" lang="en-US" sz="6000" spc="-1" strike="noStrike">
              <a:solidFill>
                <a:srgbClr val="463634"/>
              </a:solidFill>
              <a:latin typeface="Times New Roman"/>
            </a:endParaRPr>
          </a:p>
          <a:p>
            <a:pPr lvl="2" marL="9144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                                           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lvl="2" marL="9144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lvl="2" marL="9144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                                    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795241"/>
                </a:solidFill>
                <a:latin typeface="Times New Roman"/>
              </a:rPr>
              <a:t>朗读正音</a:t>
            </a:r>
            <a:endParaRPr b="0" i="1" lang="en-US" sz="6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280" y="182844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庐冢（</a:t>
            </a:r>
            <a:r>
              <a:rPr b="1" lang="zh-CN" sz="3200" spc="-1" strike="noStrike">
                <a:solidFill>
                  <a:srgbClr val="e91937"/>
                </a:solidFill>
                <a:latin typeface="华文新魏"/>
                <a:ea typeface="华文新魏"/>
              </a:rPr>
              <a:t>zhǒng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）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盖音谬（</a:t>
            </a:r>
            <a:r>
              <a:rPr b="1" lang="zh-CN" sz="3200" spc="-1" strike="noStrike">
                <a:solidFill>
                  <a:srgbClr val="e91937"/>
                </a:solidFill>
                <a:latin typeface="华文新魏"/>
                <a:ea typeface="华文新魏"/>
              </a:rPr>
              <a:t>miù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）也 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窈（</a:t>
            </a:r>
            <a:r>
              <a:rPr b="1" lang="zh-CN" sz="3200" spc="-1" strike="noStrike">
                <a:solidFill>
                  <a:srgbClr val="e91937"/>
                </a:solidFill>
                <a:latin typeface="华文新魏"/>
                <a:ea typeface="华文新魏"/>
              </a:rPr>
              <a:t>yǎo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）然    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咎（</a:t>
            </a:r>
            <a:r>
              <a:rPr b="1" lang="zh-CN" sz="3200" spc="-1" strike="noStrike">
                <a:solidFill>
                  <a:srgbClr val="e91937"/>
                </a:solidFill>
                <a:latin typeface="华文新魏"/>
                <a:ea typeface="华文新魏"/>
              </a:rPr>
              <a:t>jiù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）        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无物以相（</a:t>
            </a:r>
            <a:r>
              <a:rPr b="1" lang="zh-CN" sz="3200" spc="-1" strike="noStrike">
                <a:solidFill>
                  <a:srgbClr val="e91937"/>
                </a:solidFill>
                <a:latin typeface="华文新魏"/>
                <a:ea typeface="华文新魏"/>
              </a:rPr>
              <a:t>xiàng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）之  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6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何可胜（</a:t>
            </a:r>
            <a:r>
              <a:rPr b="1" lang="zh-CN" sz="3200" spc="-1" strike="noStrike">
                <a:solidFill>
                  <a:srgbClr val="e91937"/>
                </a:solidFill>
                <a:latin typeface="华文新魏"/>
                <a:ea typeface="华文新魏"/>
              </a:rPr>
              <a:t>sh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</a:rPr>
              <a:t>è</a:t>
            </a:r>
            <a:r>
              <a:rPr b="1" lang="zh-CN" sz="3200" spc="-1" strike="noStrike">
                <a:solidFill>
                  <a:srgbClr val="e91937"/>
                </a:solidFill>
                <a:latin typeface="华文新魏"/>
                <a:ea typeface="华文新魏"/>
              </a:rPr>
              <a:t> ng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）道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7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王回深父（</a:t>
            </a:r>
            <a:r>
              <a:rPr b="1" lang="zh-CN" sz="3200" spc="-1" strike="noStrike">
                <a:solidFill>
                  <a:srgbClr val="e91937"/>
                </a:solidFill>
                <a:latin typeface="华文新魏"/>
                <a:ea typeface="华文新魏"/>
              </a:rPr>
              <a:t>fǔ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）  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8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今言“华（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huā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）”如“华（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huá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）实”之“华（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huá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）”者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553080" y="12193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795241"/>
                </a:solidFill>
                <a:latin typeface="Times New Roman"/>
              </a:rPr>
              <a:t>理清思路</a:t>
            </a:r>
            <a:endParaRPr b="0" i="1" lang="en-US" sz="5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23619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宋体"/>
              </a:rPr>
              <a:t> </a:t>
            </a:r>
            <a:r>
              <a:rPr b="1" lang="zh-CN" sz="4400" spc="-1" strike="noStrike">
                <a:solidFill>
                  <a:srgbClr val="463634"/>
                </a:solidFill>
                <a:latin typeface="华文新魏"/>
                <a:ea typeface="华文新魏"/>
              </a:rPr>
              <a:t>一（</a:t>
            </a:r>
            <a:r>
              <a:rPr b="1" lang="zh-CN" sz="4400" spc="-1" strike="noStrike">
                <a:solidFill>
                  <a:srgbClr val="463634"/>
                </a:solidFill>
                <a:latin typeface="华文新魏"/>
                <a:ea typeface="华文新魏"/>
              </a:rPr>
              <a:t>1</a:t>
            </a:r>
            <a:r>
              <a:rPr b="1" lang="zh-CN" sz="44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</a:t>
            </a:r>
            <a:r>
              <a:rPr b="1" lang="zh-CN" sz="4400" spc="-1" strike="noStrike">
                <a:solidFill>
                  <a:srgbClr val="463634"/>
                </a:solidFill>
                <a:latin typeface="华文新魏"/>
                <a:ea typeface="华文新魏"/>
              </a:rPr>
              <a:t>2</a:t>
            </a:r>
            <a:r>
              <a:rPr b="1" lang="zh-CN" sz="44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）：记叙——游山经过。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r>
              <a:rPr b="1" lang="zh-CN" sz="4400" spc="-1" strike="noStrike">
                <a:solidFill>
                  <a:srgbClr val="463634"/>
                </a:solidFill>
                <a:latin typeface="华文新魏"/>
                <a:ea typeface="华文新魏"/>
              </a:rPr>
              <a:t>二（</a:t>
            </a:r>
            <a:r>
              <a:rPr b="1" lang="zh-CN" sz="4400" spc="-1" strike="noStrike">
                <a:solidFill>
                  <a:srgbClr val="463634"/>
                </a:solidFill>
                <a:latin typeface="华文新魏"/>
                <a:ea typeface="华文新魏"/>
              </a:rPr>
              <a:t>3</a:t>
            </a:r>
            <a:r>
              <a:rPr b="1" lang="zh-CN" sz="44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</a:t>
            </a:r>
            <a:r>
              <a:rPr b="1" lang="zh-CN" sz="4400" spc="-1" strike="noStrike">
                <a:solidFill>
                  <a:srgbClr val="463634"/>
                </a:solidFill>
                <a:latin typeface="华文新魏"/>
                <a:ea typeface="华文新魏"/>
              </a:rPr>
              <a:t>4</a:t>
            </a:r>
            <a:r>
              <a:rPr b="1" lang="zh-CN" sz="44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）：议论——游山心得。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r>
              <a:rPr b="1" lang="zh-CN" sz="4400" spc="-1" strike="noStrike">
                <a:solidFill>
                  <a:srgbClr val="463634"/>
                </a:solidFill>
                <a:latin typeface="华文新魏"/>
                <a:ea typeface="华文新魏"/>
              </a:rPr>
              <a:t>三（</a:t>
            </a:r>
            <a:r>
              <a:rPr b="1" lang="zh-CN" sz="4400" spc="-1" strike="noStrike">
                <a:solidFill>
                  <a:srgbClr val="463634"/>
                </a:solidFill>
                <a:latin typeface="华文新魏"/>
                <a:ea typeface="华文新魏"/>
              </a:rPr>
              <a:t>5</a:t>
            </a:r>
            <a:r>
              <a:rPr b="1" lang="zh-CN" sz="44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）：记叙的结尾，补叙同 游者的籍贯、姓名。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795241"/>
                </a:solidFill>
                <a:latin typeface="宋体"/>
              </a:rPr>
              <a:t>中心句</a:t>
            </a:r>
            <a:r>
              <a:rPr b="0" i="1" lang="zh-CN" sz="4400" spc="-1" strike="noStrike">
                <a:solidFill>
                  <a:srgbClr val="795241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91937"/>
                </a:solidFill>
                <a:latin typeface="华文新魏"/>
                <a:ea typeface="华文新魏"/>
              </a:rPr>
              <a:t> </a:t>
            </a:r>
            <a:r>
              <a:rPr b="1" lang="zh-CN" sz="5400" spc="-1" strike="noStrike">
                <a:solidFill>
                  <a:srgbClr val="e91937"/>
                </a:solidFill>
                <a:latin typeface="华文新魏"/>
                <a:ea typeface="华文新魏"/>
              </a:rPr>
              <a:t>尽吾志</a:t>
            </a:r>
            <a:r>
              <a:rPr b="1" lang="zh-CN" sz="5400" spc="-1" strike="noStrike">
                <a:solidFill>
                  <a:srgbClr val="463634"/>
                </a:solidFill>
                <a:latin typeface="华文新魏"/>
                <a:ea typeface="华文新魏"/>
              </a:rPr>
              <a:t>也而不能至者，可以无悔矣 </a:t>
            </a:r>
            <a:endParaRPr b="0" lang="en-US" sz="5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r>
              <a:rPr b="1" lang="zh-CN" sz="5400" spc="-1" strike="noStrike">
                <a:solidFill>
                  <a:srgbClr val="463634"/>
                </a:solidFill>
                <a:latin typeface="华文新魏"/>
                <a:ea typeface="华文新魏"/>
              </a:rPr>
              <a:t>此所以学者不可以不</a:t>
            </a:r>
            <a:r>
              <a:rPr b="1" lang="zh-CN" sz="5400" spc="-1" strike="noStrike">
                <a:solidFill>
                  <a:srgbClr val="e91937"/>
                </a:solidFill>
                <a:latin typeface="华文新魏"/>
                <a:ea typeface="华文新魏"/>
              </a:rPr>
              <a:t>深思而慎取</a:t>
            </a:r>
            <a:r>
              <a:rPr b="1" lang="zh-CN" sz="5400" spc="-1" strike="noStrike">
                <a:solidFill>
                  <a:srgbClr val="463634"/>
                </a:solidFill>
                <a:latin typeface="华文新魏"/>
                <a:ea typeface="华文新魏"/>
              </a:rPr>
              <a:t>之 </a:t>
            </a:r>
            <a:endParaRPr b="0" lang="en-US" sz="5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795241"/>
                </a:solidFill>
                <a:latin typeface="Times New Roman"/>
              </a:rPr>
              <a:t>空间方位图</a:t>
            </a:r>
            <a:endParaRPr b="0" i="1" lang="en-US" sz="5400" spc="-1" strike="noStrike">
              <a:solidFill>
                <a:srgbClr val="795241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533520" y="2119320"/>
          <a:ext cx="7924680" cy="420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2119320"/>
                    <a:ext cx="7924680" cy="42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1905120"/>
            <a:ext cx="72392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-1" strike="noStrike">
                <a:solidFill>
                  <a:srgbClr val="795241"/>
                </a:solidFill>
                <a:latin typeface="Times New Roman"/>
              </a:rPr>
              <a:t>研读课文</a:t>
            </a:r>
            <a:endParaRPr b="0" i="1" lang="en-US" sz="72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400" y="7086240"/>
            <a:ext cx="640080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795241"/>
                </a:solidFill>
                <a:latin typeface="Times New Roman"/>
              </a:rPr>
              <a:t>第一自然段</a:t>
            </a:r>
            <a:endParaRPr b="0" i="1" lang="en-US" sz="6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r>
              <a:rPr b="0" lang="zh-CN" sz="4400" spc="-1" strike="noStrike">
                <a:solidFill>
                  <a:srgbClr val="463634"/>
                </a:solidFill>
                <a:latin typeface="华文新魏"/>
                <a:ea typeface="华文新魏"/>
              </a:rPr>
              <a:t>介绍褒禅山概况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行文顺序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91937"/>
                </a:solidFill>
                <a:latin typeface="隶书"/>
                <a:ea typeface="隶书"/>
              </a:rPr>
              <a:t>本名①</a:t>
            </a:r>
            <a:r>
              <a:rPr b="1" lang="zh-CN" sz="4800" spc="-1" strike="noStrike">
                <a:solidFill>
                  <a:srgbClr val="e91937"/>
                </a:solidFill>
                <a:latin typeface="隶书"/>
                <a:ea typeface="隶书"/>
              </a:rPr>
              <a:t>→</a:t>
            </a:r>
            <a:r>
              <a:rPr b="0" lang="zh-CN" sz="4800" spc="-1" strike="noStrike">
                <a:solidFill>
                  <a:srgbClr val="e91937"/>
                </a:solidFill>
                <a:latin typeface="隶书"/>
                <a:ea typeface="隶书"/>
              </a:rPr>
              <a:t>别名由来及证明②③→华山洞名来由④→从仆碑看出本名⑤→指出音谬⑥</a:t>
            </a:r>
            <a:endParaRPr b="0" lang="en-US" sz="4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91937"/>
                </a:solidFill>
                <a:latin typeface="宋体"/>
              </a:rPr>
              <a:t> </a:t>
            </a:r>
            <a:endParaRPr b="0" lang="en-US" sz="4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795241"/>
                </a:solidFill>
                <a:latin typeface="Times New Roman"/>
              </a:rPr>
              <a:t>重点字词</a:t>
            </a:r>
            <a:endParaRPr b="0" i="1" lang="en-US" sz="6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舍</a:t>
            </a:r>
            <a:r>
              <a:rPr b="0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：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名词作动词，筑舍定居。</a:t>
            </a:r>
            <a:r>
              <a:rPr b="0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名</a:t>
            </a:r>
            <a:r>
              <a:rPr b="0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：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名词作动词，命名，起名</a:t>
            </a:r>
            <a:r>
              <a:rPr b="0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。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东</a:t>
            </a:r>
            <a:r>
              <a:rPr b="0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：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名词作状语，往东 。</a:t>
            </a:r>
            <a:r>
              <a:rPr b="0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乃</a:t>
            </a:r>
            <a:r>
              <a:rPr b="0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；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副词，表判断，有“为、是”之意。</a:t>
            </a:r>
            <a:r>
              <a:rPr b="0" lang="zh-CN" sz="4000" spc="-1" strike="noStrike">
                <a:solidFill>
                  <a:srgbClr val="ff6600"/>
                </a:solidFill>
                <a:latin typeface="华文新魏"/>
                <a:ea typeface="华文新魏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里作“在”讲。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795241"/>
                </a:solidFill>
                <a:latin typeface="Times New Roman"/>
              </a:rPr>
              <a:t>特殊句式</a:t>
            </a:r>
            <a:endParaRPr b="0" i="1" lang="en-US" sz="6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3634"/>
                </a:solidFill>
                <a:latin typeface="宋体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463634"/>
                </a:solidFill>
                <a:latin typeface="宋体"/>
                <a:ea typeface="华文新魏"/>
              </a:rPr>
              <a:t>今所谓慧空禅院者，褒之庐冢也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3634"/>
                </a:solidFill>
                <a:latin typeface="宋体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463634"/>
                </a:solidFill>
                <a:latin typeface="宋体"/>
                <a:ea typeface="华文新魏"/>
              </a:rPr>
              <a:t>所谓华山洞者，以其乃华山之阳名之也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3634"/>
                </a:solidFill>
                <a:latin typeface="宋体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463634"/>
                </a:solidFill>
                <a:latin typeface="宋体"/>
                <a:ea typeface="华文新魏"/>
              </a:rPr>
              <a:t>今言“华”如“华实”之“华”者，盖音谬也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91937"/>
                </a:solidFill>
                <a:latin typeface="宋体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e91937"/>
                </a:solidFill>
                <a:latin typeface="宋体"/>
                <a:ea typeface="华文新魏"/>
              </a:rPr>
              <a:t>这三个句子都用“……者……也”表示判断。其中的“者”是语气助词，表示提顿；“也”是语气助词，表示判断。第一个句子是一般判断句。第二、三个句子是因果关系的判断句，其中的“者”有提示原因的作用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172200" y="1600200"/>
            <a:ext cx="109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华文新魏"/>
                <a:ea typeface="华文新魏"/>
              </a:rPr>
              <a:t>平旷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19360" y="3505320"/>
            <a:ext cx="103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华文新魏"/>
                <a:ea typeface="华文新魏"/>
              </a:rPr>
              <a:t>记游华山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华文新魏"/>
                <a:ea typeface="华文新魏"/>
              </a:rPr>
              <a:t>洞的经过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71720" y="27432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华文新魏"/>
                <a:ea typeface="华文新魏"/>
              </a:rPr>
              <a:t>记游洞经过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35080" y="4724280"/>
            <a:ext cx="176724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华文新魏"/>
                <a:ea typeface="华文新魏"/>
              </a:rPr>
              <a:t>追记后洞中所见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华文新魏"/>
                <a:ea typeface="华文新魏"/>
              </a:rPr>
              <a:t>并表示遗憾心情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96880" y="2057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华文新魏"/>
                <a:ea typeface="华文新魏"/>
              </a:rPr>
              <a:t>前洞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096880" y="3581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华文新魏"/>
                <a:ea typeface="华文新魏"/>
              </a:rPr>
              <a:t>后洞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605640" y="23623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华文新魏"/>
                <a:ea typeface="华文新魏"/>
              </a:rPr>
              <a:t>记游者甚众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72200" y="3124080"/>
            <a:ext cx="2114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华文新魏"/>
                <a:ea typeface="华文新魏"/>
              </a:rPr>
              <a:t>窈、寒、深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34360" y="4114800"/>
            <a:ext cx="1034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华文新魏"/>
                <a:ea typeface="华文新魏"/>
              </a:rPr>
              <a:t>记游者少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33720" y="2895480"/>
            <a:ext cx="304560" cy="2362320"/>
          </a:xfrm>
          <a:custGeom>
            <a:avLst/>
            <a:gdLst>
              <a:gd name="textAreaLeft" fmla="*/ 194760 w 304560"/>
              <a:gd name="textAreaRight" fmla="*/ 304920 w 30456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0" y="2286000"/>
            <a:ext cx="304920" cy="1600200"/>
          </a:xfrm>
          <a:custGeom>
            <a:avLst/>
            <a:gdLst>
              <a:gd name="textAreaLeft" fmla="*/ 194760 w 304920"/>
              <a:gd name="textAreaRight" fmla="*/ 305280 w 30492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1905120"/>
            <a:ext cx="304920" cy="761760"/>
          </a:xfrm>
          <a:custGeom>
            <a:avLst/>
            <a:gdLst>
              <a:gd name="textAreaLeft" fmla="*/ 194760 w 304920"/>
              <a:gd name="textAreaRight" fmla="*/ 305280 w 30492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867280" y="3505320"/>
            <a:ext cx="304920" cy="838080"/>
          </a:xfrm>
          <a:custGeom>
            <a:avLst/>
            <a:gdLst>
              <a:gd name="textAreaLeft" fmla="*/ 194760 w 304920"/>
              <a:gd name="textAreaRight" fmla="*/ 305280 w 3049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33600" y="45720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795241"/>
                </a:solidFill>
                <a:latin typeface="Times New Roman"/>
              </a:rPr>
              <a:t>第二自然段</a:t>
            </a:r>
            <a:endParaRPr b="0" lang="en-US" sz="6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45920" y="464652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46ac4b"/>
                </a:solidFill>
                <a:latin typeface="隶书"/>
                <a:ea typeface="隶书"/>
              </a:rPr>
              <a:t>→</a:t>
            </a:r>
            <a:endParaRPr b="0" lang="en-US" sz="5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48769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悔</a:t>
            </a:r>
            <a:r>
              <a:rPr b="0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795241"/>
                </a:solidFill>
                <a:latin typeface="Times New Roman"/>
              </a:rPr>
              <a:t>重点字词</a:t>
            </a:r>
            <a:endParaRPr b="0" i="1" lang="en-US" sz="6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侧</a:t>
            </a:r>
            <a:r>
              <a:rPr b="0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：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名词作状语，从旁边。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91937"/>
                </a:solidFill>
                <a:latin typeface="华文新魏"/>
                <a:ea typeface="华文新魏"/>
              </a:rPr>
              <a:t>深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：形容词作名词，深度。 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91937"/>
                </a:solidFill>
                <a:latin typeface="华文新魏"/>
                <a:ea typeface="华文新魏"/>
              </a:rPr>
              <a:t>明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：形容词作动词，照明。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穷、</a:t>
            </a:r>
            <a:r>
              <a:rPr b="0" lang="zh-CN" sz="4000" spc="-1" strike="noStrike">
                <a:solidFill>
                  <a:srgbClr val="e91937"/>
                </a:solidFill>
                <a:latin typeface="华文新魏"/>
                <a:ea typeface="华文新魏"/>
              </a:rPr>
              <a:t>见、</a:t>
            </a: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至、极 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795241"/>
                </a:solidFill>
                <a:latin typeface="Times New Roman"/>
              </a:rPr>
              <a:t>教学目的</a:t>
            </a:r>
            <a:r>
              <a:rPr b="0" i="1" lang="zh-CN" sz="4400" spc="-1" strike="noStrike">
                <a:solidFill>
                  <a:srgbClr val="795241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361960"/>
            <a:ext cx="78487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Arial Unicode MS"/>
                <a:ea typeface="Arial Unicode MS"/>
              </a:rPr>
              <a:t>    </a:t>
            </a:r>
            <a:r>
              <a:rPr b="0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理解作者“尽吾志”的思想，体会“深思慎取”的重要性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   </a:t>
            </a:r>
            <a:r>
              <a:rPr b="0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了解因事见理，叙议结合的写法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   </a:t>
            </a:r>
            <a:r>
              <a:rPr b="0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3</a:t>
            </a:r>
            <a:r>
              <a:rPr b="0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掌握“乃”、“道”、“盖”、“文”、“然”等词的意义和用法；了解“其”的不同用法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520" y="1523880"/>
            <a:ext cx="72392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795241"/>
                </a:solidFill>
                <a:latin typeface="Times New Roman"/>
              </a:rPr>
              <a:t>未完待续</a:t>
            </a:r>
            <a:endParaRPr b="0" i="1" lang="en-US" sz="8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914400" y="7238880"/>
            <a:ext cx="640080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086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795241"/>
                </a:solidFill>
                <a:latin typeface="Times New Roman"/>
              </a:rPr>
              <a:t>第一、二课时</a:t>
            </a:r>
            <a:br>
              <a:rPr sz="8000"/>
            </a:br>
            <a:endParaRPr b="0" i="1" lang="en-US" sz="8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029200" y="5257440"/>
            <a:ext cx="3200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共四课时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795241"/>
                </a:solidFill>
                <a:latin typeface="宋体"/>
              </a:rPr>
              <a:t>解题</a:t>
            </a:r>
            <a:r>
              <a:rPr b="0" i="1" lang="zh-CN" sz="4400" spc="-1" strike="noStrike">
                <a:solidFill>
                  <a:srgbClr val="795241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“</a:t>
            </a:r>
            <a:r>
              <a:rPr b="1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记”是一种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文体</a:t>
            </a:r>
            <a:r>
              <a:rPr b="1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，有奏记、游记、杂记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分为四类：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记游、记事 、记亭台楼阁、记物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本朝人尚理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            ——</a:t>
            </a:r>
            <a:r>
              <a:rPr b="1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严羽《沧浪诗话》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利用游记进行说理</a:t>
            </a:r>
            <a:r>
              <a:rPr b="1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795241"/>
                </a:solidFill>
                <a:latin typeface="Times New Roman"/>
              </a:rPr>
              <a:t>作者简介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华文新魏"/>
                <a:ea typeface="华文新魏"/>
              </a:rPr>
              <a:t>王安石，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字介甫</a:t>
            </a:r>
            <a:r>
              <a:rPr b="1" lang="zh-CN" sz="28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号半山</a:t>
            </a:r>
            <a:r>
              <a:rPr b="1" lang="zh-CN" sz="28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，因封荆国公，世称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王荆公</a:t>
            </a:r>
            <a:r>
              <a:rPr b="1" lang="zh-CN" sz="28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，卒谥文。北宋临川人，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政治家</a:t>
            </a:r>
            <a:r>
              <a:rPr b="1" lang="zh-CN" sz="28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文学家</a:t>
            </a:r>
            <a:r>
              <a:rPr b="1" lang="zh-CN" sz="28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。他两度为相进行变法，强调“权时之变”，反对因循保守。列宁称其为“中国十一世纪的改革家”。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宋体"/>
                <a:ea typeface="华文新魏"/>
              </a:rPr>
              <a:t>在文学上为宋朝一大家。其散文，雄健峭拔，语言简练，是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华文新魏"/>
              </a:rPr>
              <a:t>“唐宋八大家”之一</a:t>
            </a:r>
            <a:r>
              <a:rPr b="1" lang="zh-CN" sz="2800" spc="-1" strike="noStrike">
                <a:solidFill>
                  <a:srgbClr val="463634"/>
                </a:solidFill>
                <a:latin typeface="宋体"/>
                <a:ea typeface="华文新魏"/>
              </a:rPr>
              <a:t>。代表作有《答司马谏议书》、《读孟尝君传》等。其诗歌，长于说理，精于修辞，也有情韵深婉之作，风格遒劲有力。如《明妃曲》、《北坡杏花》、《泊船瓜洲》等。所作词不多，却能“一洗五代旧俗”，不受前人绮靡风气的影响。</a:t>
            </a:r>
            <a:r>
              <a:rPr b="1" lang="zh-CN" sz="28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他的作品今存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《王临川集》、《临川集拾遗》</a:t>
            </a:r>
            <a:r>
              <a:rPr b="1" lang="zh-CN" sz="28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795241"/>
                </a:solidFill>
                <a:latin typeface="Times New Roman"/>
              </a:rPr>
              <a:t>明妃曲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076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明妃初出汉宫时，泪湿春风鬓脚垂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低回顾影无颜色，尚得君王不自持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归来却怪丹青手，入眼平生未曾有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意态由来画不成，当时枉杀毛延寿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一去心知更不归，可怜着尽汉宫衣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寄声欲问塞南事，只有年年鸿雁飞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家人万里传消息，好在毡城莫相忆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君不见咫尺长门闭阿娇，人生失意无南北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795241"/>
                </a:solidFill>
                <a:latin typeface="Times New Roman"/>
              </a:rPr>
              <a:t>桂枝香</a:t>
            </a:r>
            <a:br>
              <a:rPr sz="4400"/>
            </a:br>
            <a:r>
              <a:rPr b="1" i="1" lang="zh-CN" sz="3200" spc="-1" strike="noStrike">
                <a:solidFill>
                  <a:srgbClr val="795241"/>
                </a:solidFill>
                <a:latin typeface="Times New Roman"/>
              </a:rPr>
              <a:t>金陵怀古</a:t>
            </a:r>
            <a:r>
              <a:rPr b="0" i="1" lang="zh-CN" sz="4400" spc="-1" strike="noStrike">
                <a:solidFill>
                  <a:srgbClr val="795241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2285640"/>
            <a:ext cx="79246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登临送目，正故国晚秋，天气初肃。千里澄江似练，翠峰如簇。征帆去棹残阳里，背西风、酒旗斜矗。彩舟云淡，星河鹭起，画图难足。    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念往昔、繁华竞逐。叹门外楼头，悲恨相续。千古凭高，对此漫嗟荣辱。六朝旧事随流水，但寒烟衰草凝绿。至今商女，时时犹唱，后庭遗曲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795241"/>
                </a:solidFill>
                <a:latin typeface="宋体"/>
              </a:rPr>
              <a:t>背景知识</a:t>
            </a:r>
            <a:r>
              <a:rPr b="0" i="1" lang="zh-CN" sz="4400" spc="-1" strike="noStrike">
                <a:solidFill>
                  <a:srgbClr val="795241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本文是王安石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34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岁时的作品。四年后（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1058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年）他给宋仁宗上万言书，主张改革政治；十六年后（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1070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年）拜相，不顾保守派的反对，积极推行新法。传有“天变不足畏，祖宗不足法，人言不足恤”的观点，这跟本文“尽吾志也而不能至，可以无悔矣”的观点是一致的，可视为这一观点的发展</a:t>
            </a:r>
            <a:r>
              <a:rPr b="0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013360" y="1981080"/>
            <a:ext cx="3079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1752480"/>
            <a:ext cx="723924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-1" strike="noStrike">
                <a:solidFill>
                  <a:srgbClr val="795241"/>
                </a:solidFill>
                <a:latin typeface="Times New Roman"/>
              </a:rPr>
              <a:t>初读课文</a:t>
            </a:r>
            <a:endParaRPr b="0" i="1" lang="en-US" sz="72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914400" y="5257800"/>
            <a:ext cx="640080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7T14:01:56Z</dcterms:created>
  <dc:creator>nieminli</dc:creator>
  <dc:description/>
  <dc:language>en-US</dc:language>
  <cp:lastModifiedBy>陈泽滨</cp:lastModifiedBy>
  <dcterms:modified xsi:type="dcterms:W3CDTF">2004-11-29T05:14:42Z</dcterms:modified>
  <cp:revision>17</cp:revision>
  <dc:subject/>
  <dc:title>游褒禅山记</dc:title>
</cp:coreProperties>
</file>