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03D1-D678-4CBD-AB87-C972A7B6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33E-B026-4243-B0AE-E6566548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123B-5CD7-4D1E-B475-B296B2A6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DE7-C3C0-465E-B3DC-465312C9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E1DA-C442-4A57-A16A-47D8DE6B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F6FD-DE9C-4473-B02E-9A761C76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5B93-CB65-45B4-A347-BE8625B9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76A2-DAC3-419F-9DD4-4FA25FBF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D252-25A2-4E8C-A386-21315A34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C305-0BCF-44D9-812E-45B9CE42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DDB6-991F-4BBE-942F-8DF736BF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151-2C1D-4C96-88A5-DFAC7816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2C7F-1FD9-4CA2-812B-989330F6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A942-A6DC-4074-9A92-E459264E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0DAB-B328-4F7A-8EB9-A687F56D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CB00-DF96-42CD-A550-38FD3957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AEBB-8B9D-4304-A1FF-503B49C2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04B-344F-43F4-B71A-2D4191D9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6A9-1076-4F83-B3D1-ECFE659E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17A-75D4-4532-B0AD-2D8F3149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FE5-8677-4424-BC47-4970DD4C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104-349F-4944-83B9-0C9CD8A1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3BF-D98F-4601-B894-AC7F1847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71B-AACA-44C3-9BD8-6A2205BA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09F1-0345-4B30-B226-5B4EA09B1003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98D5-5290-46C4-B09D-B27D6175F68A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游褒禅山记</a:t>
            </a: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第三、四课时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制作人：人大附中   张晓媛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795241"/>
                </a:solidFill>
                <a:latin typeface="Times New Roman"/>
              </a:rPr>
              <a:t>复读课文</a:t>
            </a:r>
            <a:endParaRPr b="0" i="1" lang="en-US" sz="8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72388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514600"/>
            <a:ext cx="60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游褒禅山 记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76520"/>
            <a:ext cx="304920" cy="3504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600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记叙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724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议论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914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介绍山、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121932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介绍洞</a:t>
            </a:r>
            <a:r>
              <a:rPr b="1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447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1219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其下平旷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有泉侧出—夷以近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游者众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1905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洞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穴窈然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入之甚寒—险以远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至者少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590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游洞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25146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2362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入之愈深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362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愈难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69640" y="23623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愈奇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余随怠者出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所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29718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3560" y="2743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见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3356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记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33560" y="3657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乐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171480" y="2971800"/>
            <a:ext cx="152280" cy="838080"/>
          </a:xfrm>
          <a:custGeom>
            <a:avLst/>
            <a:gdLst>
              <a:gd name="textAreaLeft" fmla="*/ 96840 w 152280"/>
              <a:gd name="textAreaRight" fmla="*/ 1522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124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悔不得极夫游之乐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426708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96360" y="4067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古人求思之</a:t>
            </a:r>
            <a:r>
              <a:rPr b="1" lang="zh-CN" sz="2400" spc="-1" strike="noStrike">
                <a:solidFill>
                  <a:srgbClr val="463634"/>
                </a:solidFill>
                <a:latin typeface="宋体"/>
                <a:ea typeface="华文新魏"/>
              </a:rPr>
              <a:t>深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72320" y="5257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奇观常在险远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49528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1460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志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14600" y="5181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力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14600" y="571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物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028480" y="4952880"/>
            <a:ext cx="152280" cy="990720"/>
          </a:xfrm>
          <a:custGeom>
            <a:avLst/>
            <a:gdLst>
              <a:gd name="textAreaLeft" fmla="*/ 96840 w 152280"/>
              <a:gd name="textAreaRight" fmla="*/ 1522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75120" y="52102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尽吾志 无悔矣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522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560000"/>
                </a:solidFill>
                <a:latin typeface="宋体"/>
              </a:rPr>
              <a:t>结构总结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458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宋体"/>
              </a:rPr>
              <a:t>主题思想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作者通过游褒禅山的所见和所感，阐明了无论是治学还是处事，都必须具有百折不挠的意志和“深思而慎取”的态度，以及只有这样才能取得成功的道理。</a:t>
            </a:r>
            <a:br>
              <a:rPr sz="4000"/>
            </a:b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795241"/>
                </a:solidFill>
                <a:latin typeface="宋体"/>
              </a:rPr>
              <a:t>写作特点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68580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795241"/>
                </a:solidFill>
                <a:latin typeface="Arial Unicode MS"/>
                <a:ea typeface="Arial Unicode MS"/>
              </a:rPr>
              <a:t>1</a:t>
            </a:r>
            <a:r>
              <a:rPr b="1" i="1" lang="zh-CN" sz="4000" spc="-1" strike="noStrike">
                <a:solidFill>
                  <a:srgbClr val="795241"/>
                </a:solidFill>
                <a:latin typeface="宋体"/>
              </a:rPr>
              <a:t>、因事见理，叙议结合</a:t>
            </a:r>
            <a:r>
              <a:rPr b="0" i="1" lang="zh-CN" sz="40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1" name="zyk00143_18_0006_1" descr="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914400" y="1371600"/>
            <a:ext cx="647712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1522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795241"/>
                </a:solidFill>
                <a:latin typeface="宋体"/>
              </a:rPr>
              <a:t>2</a:t>
            </a:r>
            <a:r>
              <a:rPr b="1" i="1" lang="zh-CN" sz="4000" spc="-1" strike="noStrike">
                <a:solidFill>
                  <a:srgbClr val="795241"/>
                </a:solidFill>
                <a:latin typeface="宋体"/>
              </a:rPr>
              <a:t>、重点突出，详略得当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133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第一部分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记游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72428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第二部分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议论  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18288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4572000"/>
            <a:ext cx="304560" cy="1447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1295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.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介绍褒禅山概况</a:t>
            </a:r>
            <a:r>
              <a:rPr b="0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20574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3276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2.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华山洞经过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86720" y="251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219320"/>
            <a:ext cx="152640" cy="533160"/>
          </a:xfrm>
          <a:custGeom>
            <a:avLst/>
            <a:gdLst>
              <a:gd name="textAreaLeft" fmla="*/ 97560 w 152640"/>
              <a:gd name="textAreaRight" fmla="*/ 153000 w 1526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39560" y="1036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宋体"/>
                <a:ea typeface="华文新魏"/>
              </a:rPr>
              <a:t>山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956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宋体"/>
                <a:ea typeface="华文新魏"/>
              </a:rPr>
              <a:t>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9920" y="990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29920" y="144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25146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2133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和后洞概况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3733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游后洞经过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21337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3352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10080" y="182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1008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52880" y="3048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经过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3733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补叙经过、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写心情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191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华山洞的心得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5943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借仆碑抒发感慨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44197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议志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4776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议力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47760" y="5334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议物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9224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15920" y="304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58520" y="510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86720" y="525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49040" y="281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92240" y="251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49040" y="312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68560" y="396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58520" y="426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86720" y="487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64720" y="990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64720" y="1447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03000" y="18288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03000" y="2514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98440" y="30481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93320" y="4267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52080" y="1710720"/>
            <a:ext cx="606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52080" y="4529880"/>
            <a:ext cx="606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5562720"/>
            <a:ext cx="4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5562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↑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8720" y="28954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7000" y="3429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4400" y="2548800"/>
            <a:ext cx="606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790600" y="4876920"/>
            <a:ext cx="228600" cy="761760"/>
          </a:xfrm>
          <a:custGeom>
            <a:avLst/>
            <a:gdLst>
              <a:gd name="textAreaLeft" fmla="*/ 145800 w 228600"/>
              <a:gd name="textAreaRight" fmla="*/ 22860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153280" y="380988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3</a:t>
            </a: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、文笔简洁，语言凝炼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入之愈深，其进愈难，而其见愈奇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夫夷以近，则游者众；险以远，则至者少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世之奇伟瑰怪非常之观，常在于险远，而人之所罕至焉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精要得当、平实深刻、言简意丰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1676520"/>
            <a:ext cx="7239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宋体"/>
              </a:rPr>
              <a:t>知识积累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14400" y="685800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词类活用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慧褒始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于其址（名词作动词，筑舍定居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以故其后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曰“褒禅”（名词作动词，命名。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距其院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五里（名词作状语，向东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有泉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侧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出（名词作状语，从侧面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入之甚寒，问其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深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（形容词作名词，深度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后世之谬其传而莫能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者（名词作动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识其本名，说明白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火尚足以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明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也（形容词作动词，照明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后世之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谬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其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传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而莫能名者（谬，使动用法，弄错，使……错。传，一说动词作名词，流传文字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宋体"/>
              </a:rPr>
              <a:t>古今异义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非常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观（古义，不同寻常；今义，副词，很、十分。）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至于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幽暗昏惑而无物以相之（古义，至，动词“到”；于，介词“到”。今义，表示达到某种程度。）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三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写游华山洞的心得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从“求思之深而无不在（心）”导出立志的重要性；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阐述“尽吾志”的观点。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“</a:t>
            </a: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其”字的用法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１、以故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名之曰——代词，那（此系远指，指褒禅埋葬之时）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２、距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院东五里——代词，这（此系近指，指慧空禅院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３、独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为文犹可识 ——代词，它（代仆碑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４、问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深，则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好游者不能穷也 ——前“其”：代词，它（代“穴”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　后“其”：代词，那些（远指，作“好游者”定语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５、盖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又深，则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至又加少矣 ——前“其”：代词，它（代后洞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　后“其”：代词，代游客，此处须用本名，不用现代语代词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６、以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求思之深而无不在也 ——代词，他们（指古人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７、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孰能讥之乎？——语气副词，表反问，岂、难道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８、而余亦悔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而不得极夫游之乐也——代词，指自己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9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既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出——助词，无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0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视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左右——代词，洞，洞壁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1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谬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传——代词，它（代山的名称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2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咎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欲出者——代词，那些（指欲出者）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 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“</a:t>
            </a: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其”字的用法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代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人称代词、指示代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连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句中语气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形容词词头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文言文学习要点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361960" y="2285640"/>
            <a:ext cx="6095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字字落实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句句解疑 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熟读背诵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31240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余之所得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2133720"/>
            <a:ext cx="304920" cy="2361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2057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古人求思之</a:t>
            </a:r>
            <a:r>
              <a:rPr b="1" lang="zh-CN" sz="2000" spc="-1" strike="noStrike">
                <a:solidFill>
                  <a:srgbClr val="463634"/>
                </a:solidFill>
                <a:latin typeface="宋体"/>
                <a:ea typeface="华文新魏"/>
              </a:rPr>
              <a:t>深</a:t>
            </a:r>
            <a:r>
              <a:rPr b="1" lang="zh-CN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奇观常在险远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3124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2895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志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4038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力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5181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物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34120" y="3124080"/>
            <a:ext cx="304560" cy="243864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114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尽吾志 无悔矣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6094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结构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非常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古今异义。这里指不平常。今作程度副词，很，十分。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至于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古今异义。至，到。于，介词，引出到达的场所。今义：①达到某种程度；②行文中另提起一事。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之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助词，用在主谓语之间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取消句子独立性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也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句中语气词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语气副词，表反问，岂、难道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特殊句式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变式句（介词结构后置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人之观于天地、山川、草木、虫鱼、鸟兽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省略句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随以止也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四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借仆碑抒发感慨，提出治学必须采取“深思而慎取”的态度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议论一正一反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谬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弄错，使……错，使动用法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指识其本名，这里用作动词。 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以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由结构助词“所”和介词“以”组成，相当于现代汉语的“……的原因”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莫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能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者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特殊句式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判断句（表示因果关系）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所以学者不可以不深思而慎取之也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五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的结尾——补叙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重点字词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通假字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父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通“甫”。 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07:27:43Z</dcterms:created>
  <dc:creator>艾园</dc:creator>
  <dc:description/>
  <dc:language>en-US</dc:language>
  <cp:lastModifiedBy>zhxy</cp:lastModifiedBy>
  <dcterms:modified xsi:type="dcterms:W3CDTF">2003-06-03T03:04:32Z</dcterms:modified>
  <cp:revision>8</cp:revision>
  <dc:subject/>
  <dc:title>游褒禅山记</dc:title>
</cp:coreProperties>
</file>