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49DF-104E-4398-B6ED-5FBFFF36F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8328-4EAE-4B91-825C-3E35A900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C875-E8E5-4760-9352-3F1D8E15E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E00F-B0E8-4295-9E7A-EE0C776DF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4722-3F85-43FC-BC10-AC358A74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5ED3-FCAD-4E06-BD1A-AB54D728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36EF-D1E1-4E9E-B4E3-1F021EFC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D1A1-70C8-4257-9984-739E674B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B2FD-FB7C-4D77-A7F2-02E8B743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99EB-D297-4FA8-82F8-94B05390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41A7-EFE5-42B3-95D8-F5789C56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631D-8737-4494-A2CC-0A50984E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9847-2AAE-46CF-B6DB-4CCD1D2739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260360" y="0"/>
            <a:ext cx="106567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171520" y="1517760"/>
            <a:ext cx="383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隶书"/>
              </a:rPr>
              <a:t>散文整体阅读例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70520" y="2997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执教：湘潭市湘钢一中  罗  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55640" y="7650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全文共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15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然段，第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13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和第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14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两个自然段的顺序可否颠倒？为什么？请简要说明道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5640" y="270828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（</a:t>
            </a: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13</a:t>
            </a: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）（</a:t>
            </a: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14</a:t>
            </a: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）两段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不能颠倒。原因：这两段是从个人到同类再到社群，逐层深入或由小到大的关系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24000" y="105264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简要回答问题：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在文章最后一段，作者说“文化就是那根柔弱又强韧的细丝”。请结合全文，简析“柔弱”和“强韧”的含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249228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文化作为一种精神现象看起来是柔弱无力的（或“文化在强权政治、战争或命运面前往往柔弱无力”）；但文化具有强大的凝聚力，能使人具有归属感（或文化认同）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11280" y="82404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5.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这篇散文在写法上的突出特点是什么？有什么作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5120" y="2297160"/>
            <a:ext cx="491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《如果你为四郎哭泣》采用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因事见理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的写法，借看戏之事谈论文化为什么重要的问题。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化玄远为浅近，形象具体，易于读者理解，使文章的说服力和感染力更强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481760" y="1484280"/>
            <a:ext cx="119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隶书"/>
              </a:rPr>
              <a:t>一课一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08000" y="285264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整体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——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局部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——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整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81600" y="1557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黑体"/>
              </a:rPr>
              <a:t>整体阅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94000" y="227664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隶书"/>
                <a:ea typeface="隶书"/>
              </a:rPr>
              <a:t>谢   谢 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757080" y="-4680"/>
            <a:ext cx="10729800" cy="6821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887480" y="1201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692280"/>
            <a:ext cx="28083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考查内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内容主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结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形象意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语言风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表达技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61080" y="692280"/>
            <a:ext cx="142992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解读方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00"/>
                </a:solidFill>
                <a:latin typeface="Arial"/>
              </a:rPr>
              <a:t>●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预想寻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00"/>
                </a:solidFill>
                <a:latin typeface="Arial"/>
              </a:rPr>
              <a:t>●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抓点连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00"/>
                </a:solidFill>
                <a:latin typeface="Arial"/>
              </a:rPr>
              <a:t>●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寻象悟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00"/>
                </a:solidFill>
                <a:latin typeface="Arial"/>
              </a:rPr>
              <a:t>●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品味语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00"/>
                </a:solidFill>
                <a:latin typeface="Arial"/>
              </a:rPr>
              <a:t>●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鉴赏写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86360" y="1916280"/>
            <a:ext cx="109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隶书"/>
              </a:rPr>
              <a:t>具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隶书"/>
              </a:rPr>
              <a:t>运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54840" y="189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隶书"/>
              </a:rPr>
              <a:t>预想寻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42080" y="822240"/>
            <a:ext cx="98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●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看题目：《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如果你为四郎哭泣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73000" y="1268280"/>
            <a:ext cx="46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预想：这是假设复句的条件部分，它会有什么结果呢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3141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●  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看开头：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经济学家、社会学家、人类学家可能找得出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100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个方式来回答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“文化为什么重要”这个问题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，但是我可以从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一场戏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说起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75560" y="3141720"/>
            <a:ext cx="39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直截了当提出话题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文化为什么重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58920" y="371628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●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看结尾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人本是散落的珠子，随地乱滚，文化就是那根柔弱又强韧的细丝，将珠子串起来成为社会。而公民社会，因为不倚赖皇权或神权来坚固它的底座，因此文化便是公民社会最重要的黏合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43200" y="5373720"/>
            <a:ext cx="269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回答了文化的重要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379520" y="692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隶书"/>
              </a:rPr>
              <a:t>速读划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213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5640" y="2060640"/>
            <a:ext cx="810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要求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①圈划文中重要的词句（结构上起过渡、连接作用的词、句、段，各段的中心句；文化哲理散文中的议论句）；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②理出文章的思路、结构层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523880" y="620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隶书"/>
              </a:rPr>
              <a:t>抓点连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1773360"/>
            <a:ext cx="871380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……“文化为什么重要”这个问题，……我可以从一场戏说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有一天……演出《四郎探母》，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……父亲……老泪纵横，泣不成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……四周多是……老人家，……他们不说话，因为眼里还有泪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从《四郎探母》，……我懂了为什么《伊底帕斯》能在星空下演两千年仍让人震撼，为什么《李尔王》在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40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年后仍让人感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文化，……艺术，做了什么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它使孤独的个人为自己说不出的痛苦找到了名字和定义。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文化艺术使孤立的个人，打开深锁自己的门，走出去，找到同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它使零散的、疏离的各个小撮团体找到连结而转型成精神相通、休戚与共的社群。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……因此文化便是公民社会最重要的黏合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55640" y="260280"/>
            <a:ext cx="705636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归纳概括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提出问题：文化为什么重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—8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叙述父亲看戏流泪的故事，表现戏剧艺术强大的感人力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9—15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论述文化的重要性：文化是公民社会最重要的黏合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816680" y="3068640"/>
            <a:ext cx="72900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事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24000" y="260280"/>
            <a:ext cx="88200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读题思考：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本文的标题只是一个假设复句的前一个分句。通读全文后，请根据你的理解写出下一个分句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如果你为四郎哭泣，                        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作者从《四郎探母》懂得了为什么《伊底帕斯》、《李尔王》在千百年后仍让人感动。你认为作者懂得的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全文共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自然段，第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3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和第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4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两个自然段的顺序可否颠倒？为什么？请简要说明道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简要回答问题：在文章最后一段，作者说“文化就是那根柔弱又强韧的细丝”。请结合全文，简析“柔弱”和“强韧”的含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5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这篇散文在写法上的突出特点是什么？有什么作用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9079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本文的标题只是一个假设复句的前一个分句。通读全文后，请根据你的理解写出下一个分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如果你为四郎哭泣，                  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56000" y="4005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13640" y="3068640"/>
            <a:ext cx="298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你就会懂得文化的重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1840" y="3933720"/>
            <a:ext cx="891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（你就找到了灵魂的归属；你就找到了精神的家园；你就会懂得文化为什么是公民社会里最重要的黏合剂。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47640" y="76500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作者从《四郎探母》懂得了为什么《伊底帕斯》、《李尔王》在千百年后仍让人感动。你认为作者懂得的是什么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3141720"/>
            <a:ext cx="842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懂得了凡是抒写永恒的人性、深入人类灵魂的文化艺术作品的生命力是永久的。（或“懂得了作为公民社会里最重要的黏合剂的文化的力量是无穷的”；或“懂得了能引起归属感的、凝聚社会文化认同的文化艺术作品的生命力是永恒的。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3:04:07Z</dcterms:created>
  <dc:creator>微软用户</dc:creator>
  <dc:description/>
  <dc:language>en-US</dc:language>
  <cp:lastModifiedBy>微软用户</cp:lastModifiedBy>
  <dcterms:modified xsi:type="dcterms:W3CDTF">2009-03-28T22:47:32Z</dcterms:modified>
  <cp:revision>10</cp:revision>
  <dc:subject/>
  <dc:title>幻灯片 1</dc:title>
</cp:coreProperties>
</file>