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gif" ContentType="image/gif"/>
  <Override PartName="/ppt/media/image20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7.gif" ContentType="image/gif"/>
  <Override PartName="/ppt/media/image8.jpeg" ContentType="image/jpeg"/>
  <Override PartName="/ppt/media/image5.png" ContentType="image/png"/>
  <Override PartName="/ppt/media/image24.jpeg" ContentType="image/jpeg"/>
  <Override PartName="/ppt/media/image3.jpeg" ContentType="image/jpeg"/>
  <Override PartName="/ppt/media/drumroll.wav" ContentType="audio/x-wav"/>
  <Override PartName="/ppt/media/image28.gif" ContentType="image/gif"/>
  <Override PartName="/ppt/media/image29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recycle.wav" ContentType="audio/x-wav"/>
  <Override PartName="/ppt/media/image12.jpeg" ContentType="image/jpeg"/>
  <Override PartName="/ppt/media/image13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7B3-70FC-4AAE-BE0B-B98468D3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6AB-C0E8-4201-86AE-FAE3F987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29F-3E8A-47C2-96C0-8901AFA6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52A-4D92-4D09-A599-25467CB2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7EC5-0951-4EAD-AB24-F0AC1A81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1ECD-C112-4501-AF51-77DD4211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7033-15B1-4189-A924-343B9538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D9F1-9D2A-48C9-A6FF-B5B15880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916E-3CAA-4067-9E20-21DFB518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11F-7E1B-498E-87B8-9B31E223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8A12-CBE9-48A4-98AD-E66A7B0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9E6-BB5A-4877-A252-F1618F5F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7B66-AA1C-45F1-853F-3D66464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DA6C-7813-4417-AF94-9265707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6B36-CE56-40FC-BA87-4BFF7544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B4D-7D36-4631-8D54-83BEF1CB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0BCB-8B76-474C-AAC3-88A4D3D7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77D-3594-4609-B8FC-4A9E6BBB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CC9-8D46-4E87-BD0A-8D7E2D97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212-410A-4893-927A-3193BDE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117-793C-4B44-A560-CC6B16E2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C1A-43BC-4428-B48A-026BF869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823-A806-4A02-8C02-B767447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549-8F6B-4085-B5D5-AF2927F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1028-994A-4106-8438-5113F7CD47A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55E-2744-46F1-A9E6-7E3ACC3907D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27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33920" y="11430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225576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5680" y="19051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00600" y="2133720"/>
            <a:ext cx="308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我的信念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4120" y="3902040"/>
            <a:ext cx="2890080" cy="581400"/>
            <a:chOff x="5334120" y="3902040"/>
            <a:chExt cx="2890080" cy="581400"/>
          </a:xfrm>
        </p:grpSpPr>
        <p:sp>
          <p:nvSpPr>
            <p:cNvPr id="91" name=""/>
            <p:cNvSpPr/>
            <p:nvPr/>
          </p:nvSpPr>
          <p:spPr>
            <a:xfrm>
              <a:off x="5334120" y="42670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0560" y="3902040"/>
              <a:ext cx="16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玛丽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居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居里夫人所说的“讲究现实”与“梦想家”是什么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梦想家”的最基本特征是献身事业，全身心地投入事业，事业就是一切，根本不考虑物质利益。从放弃专利可看出居里夫人就是这种“梦想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476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2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7280" y="1197000"/>
            <a:ext cx="2333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拓展与延伸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565360"/>
            <a:ext cx="8640720" cy="3017160"/>
            <a:chOff x="324000" y="2565360"/>
            <a:chExt cx="8640720" cy="3017160"/>
          </a:xfrm>
        </p:grpSpPr>
        <p:sp>
          <p:nvSpPr>
            <p:cNvPr id="162" name=""/>
            <p:cNvSpPr/>
            <p:nvPr/>
          </p:nvSpPr>
          <p:spPr>
            <a:xfrm>
              <a:off x="1116000" y="2565360"/>
              <a:ext cx="287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居里夫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4720" y="2637000"/>
              <a:ext cx="18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“</a:t>
              </a: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我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4076640"/>
              <a:ext cx="864072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</a:t>
              </a:r>
              <a:r>
                <a:rPr b="1" lang="zh-CN" sz="4400" spc="-1" strike="noStrike">
                  <a:solidFill>
                    <a:srgbClr val="660066"/>
                  </a:solidFill>
                  <a:latin typeface="Arial"/>
                  <a:ea typeface="幼圆"/>
                </a:rPr>
                <a:t>说说心里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     找差距      得到的启迪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51280" y="292428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flipH="1" rot="16200000">
              <a:off x="4140000" y="3572640"/>
              <a:ext cx="71892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2016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学习了这篇文章，就如同与伟人对话。我们感受了居里夫人坚忍不拔，抛弃财富，献身科学等伟大的人格。我们深深地被居里夫人的人格魅力所打动。如果说我们过去没有生活目标，现在我们明确了人生；如果说我们过去一味贪图安逸，现在我们学会了艰苦；如果说我们过去只能依赖他人，现在我们懂得了奉献；如果说过去我们意志薄弱，现在我们拥有了信念。让我们在居里夫人的光辉照耀下，把自己的人生也献给人类的进步事业。我们在学习、生活乃至将来的工作中，以此为楷模，努力使自己成为一个大写的人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339640" y="2204640"/>
            <a:ext cx="410364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愿你们每天都愉快地过着生活，不要等到日子过去了才找出它们的可爱之处，也不要把所有特别合意的希望都放在未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038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45916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课外搜集一些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8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关居里夫人的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料，用其中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038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两个材料证明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文中的一些观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013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写成一个小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1760" y="2666880"/>
            <a:ext cx="2009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课外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562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229280" y="3086280"/>
            <a:ext cx="9144000" cy="360"/>
            <a:chOff x="4229280" y="3086280"/>
            <a:chExt cx="9144000" cy="360"/>
          </a:xfrm>
        </p:grpSpPr>
        <p:sp>
          <p:nvSpPr>
            <p:cNvPr id="182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0" y="-565200"/>
            <a:ext cx="9144000" cy="7989840"/>
            <a:chOff x="0" y="-565200"/>
            <a:chExt cx="9144000" cy="7989840"/>
          </a:xfrm>
        </p:grpSpPr>
        <p:sp>
          <p:nvSpPr>
            <p:cNvPr id="185" name=""/>
            <p:cNvSpPr/>
            <p:nvPr/>
          </p:nvSpPr>
          <p:spPr>
            <a:xfrm>
              <a:off x="0" y="-565200"/>
              <a:ext cx="8686800" cy="79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0" y="-565200"/>
              <a:ext cx="9144000" cy="360"/>
              <a:chOff x="0" y="-565200"/>
              <a:chExt cx="9144000" cy="36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886200" y="2743200"/>
            <a:ext cx="9144000" cy="360"/>
            <a:chOff x="3886200" y="2743200"/>
            <a:chExt cx="9144000" cy="360"/>
          </a:xfrm>
        </p:grpSpPr>
        <p:sp>
          <p:nvSpPr>
            <p:cNvPr id="190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51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居里夫人和“玩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82800"/>
            <a:ext cx="9144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有一次，居里夫人的两个女儿正在玩英国皇家学会奖给她的一枚金质奖章。一位来访的客人看了惊讶地叫起来：“这么贵重的奖章，您怎么能随便给孩子玩呢？”居里夫人告诉客人说：“是我故意给他们玩的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我是想让孩子从小就知道，荣誉就像玩具一样，只能玩玩而已。如果让子女躺在父母的荣誉簿上，他们将来就会一事无成。” 　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　 </a:t>
            </a:r>
            <a:br>
              <a:rPr sz="2800"/>
            </a:b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92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，居里夫人应邀访问美国，美国妇女主动捐给她一克价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万元以上的镭，但她坚持把镭送给她所在的实验室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她时常告诉女儿们说：“你们将来必须走自谋生活之路，这是一件妥当而又自然的事情。” 由于居里夫人的良好教育，她的孩子们也像母亲一样，在科学的道路上奋勇攀登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居里夫人一家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母亲、父亲、女儿和女婿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累计获得了三项诺贝尔科学奖，成为迄今为止获诺贝尔奖最多的第一个家庭。这也许同他们把“荣誉”视同“玩具”从不放在心上有关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　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360" y="1231920"/>
            <a:ext cx="4968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7—19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法国物理学家、化学家，巴黎大学理学博士。发现了放射性元素，两次获诺贝尔奖。是法国科学院第一位女院士，同时还被其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国家聘为科学院院士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723" t="3279" r="51657" b="2279"/>
          <a:stretch/>
        </p:blipFill>
        <p:spPr>
          <a:xfrm>
            <a:off x="46836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8569080" cy="216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167600" y="4937400"/>
            <a:ext cx="1595160" cy="1752480"/>
            <a:chOff x="7167600" y="4937400"/>
            <a:chExt cx="1595160" cy="1752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7874280" y="5274720"/>
              <a:ext cx="888480" cy="8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7600" y="493740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6600"/>
                  </a:solidFill>
                  <a:latin typeface="Times New Roman"/>
                  <a:ea typeface="华文彩云"/>
                </a:rPr>
                <a:t>你知道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20" y="457200"/>
            <a:ext cx="1824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</a:rPr>
              <a:t>吝啬有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起，居里夫人的年薪已增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郎，但她照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吝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每次从国外回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要带回一些宴会上的菜单，因为这些菜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很厚很好的纸片，在背面书写物理、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算式，方便极了。有人说居里夫人一直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像一个匆忙的贫穷妇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有一次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美国记者追踪这位著名学者，走到村子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座渔家房舍门前，向赤足坐在门口石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位妇女打听居里夫人，当她抬起头来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者大吃一惊：原来她就是居里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04920"/>
            <a:ext cx="1798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  <a:ea typeface="仿宋_GB2312"/>
              </a:rPr>
              <a:t>居里夫人教女成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里夫人的大女儿伊雷娜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荣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诺贝尔化学奖，小女儿艾芙日后成为杰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乐教育家和传记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伊雷娜和艾芙还在幼年时，居里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不许女儿怕黑，不许雷声轰隆时把头藏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枕头下，不许怕贼与流行病。在第一次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战战火纷飞的恐怖日子里，居里夫人强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的女儿暑假到国内外旅行，并让她俩给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士织毛衣。她俩还加入收获队，代替男子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危险去抢收麦子，从小培养她们勇敢而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见的独立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33380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788000" y="562932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200" y="4299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5380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4724280"/>
            <a:ext cx="185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9228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88930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我幸运的同居里夫人有二十年崇高而真挚的友谊，我对她的人格的伟大越来越感到钦佩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她一生中最伟大的科学功绩——证明放射性元素的存在并把他们分离出来——所以能取得，不仅是靠着大胆的直觉，而且也靠着在难以想象的极端困难情况下工作的热忱和顽强，这样的困难在实验科学中是罕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居里夫人的品德力量和热忱，哪怕只要有一小部分存在于欧洲的知识分子中间，欧洲就会面临一个比较光明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爱因斯坦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《悼念玛丽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居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72000" cy="525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627280" cy="352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3640" y="549360"/>
            <a:ext cx="360036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4356000" y="59500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居里夫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54920" y="58053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10800000">
            <a:off x="8028000" y="42163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65400">
            <a:off x="3704760" y="507996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下列红字的音，你读准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粹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坚韧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拨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心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粉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懊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悔        问心无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奥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仙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5480" y="108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907920"/>
            <a:ext cx="10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732200">
            <a:off x="5003280" y="105120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0720" y="3068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06864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h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724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2360" y="46530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50600" y="5334120"/>
            <a:ext cx="4331160" cy="1523880"/>
            <a:chOff x="4350600" y="5334120"/>
            <a:chExt cx="4331160" cy="1523880"/>
          </a:xfrm>
        </p:grpSpPr>
        <p:pic>
          <p:nvPicPr>
            <p:cNvPr id="124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7410600" y="5334120"/>
              <a:ext cx="1271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78560" y="6248520"/>
              <a:ext cx="84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0600" y="60724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傻瓜才会搞错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762120"/>
            <a:ext cx="2454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执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鞭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盛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报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奢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蹂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迷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问心无愧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5080" y="777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坚持己见，不肯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920" y="119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用鞭和策赶马，喻督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064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很大的名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3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1000" y="29448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过高的希望。          呵责：呵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02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扪心自问，毫无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013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迷恋，陶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408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520" y="6338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突然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探究一  梳理与把握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方法：抓住关键词语，第一步概括要点，第二步分析归纳，第三步整理排列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坚忍不拔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信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勤奋执著目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探讨真理献身科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安静简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淡泊名利追求自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克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沉醉于科学之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坚定的理念（探讨真理、不图财富、沉醉科学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适合的环境（保持安静、追求自由、珍惜时间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良好的工作态度（集中目标、树立信心、坚韧不拔、执著勤奋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（思考：如何才能成为一名真正的科学家？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Verdana"/>
                <a:ea typeface="文鼎妞妞体"/>
              </a:rPr>
              <a:t>探究二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小组合作，针对课文提出问题。</a:t>
            </a:r>
            <a:br>
              <a:rPr sz="3000"/>
            </a:b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要求：每位小组成员先自己认真研读课文，提出疑问，再和小组交流，筛选出最有价值的一个问题，全班交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1:02:58Z</dcterms:created>
  <dc:creator>微软用户</dc:creator>
  <dc:description/>
  <dc:language>en-US</dc:language>
  <cp:lastModifiedBy>小刘</cp:lastModifiedBy>
  <dcterms:modified xsi:type="dcterms:W3CDTF">2009-10-16T09:05:04Z</dcterms:modified>
  <cp:revision>9</cp:revision>
  <dc:subject/>
  <dc:title>幻灯片 1</dc:title>
</cp:coreProperties>
</file>