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whoosh.wav" ContentType="audio/x-wav"/>
  <Override PartName="/ppt/media/image3.png" ContentType="image/png"/>
  <Override PartName="/ppt/media/projctor.wav" ContentType="audio/x-wav"/>
  <Override PartName="/ppt/media/image4.jpeg" ContentType="image/jpeg"/>
  <Override PartName="/ppt/media/laser.wav" ContentType="audio/x-wav"/>
  <Override PartName="/ppt/media/image5.jpeg" ContentType="image/jpeg"/>
  <Override PartName="/ppt/media/%E9%93%83%E5%A3%B05.wav" ContentType="audio/x-wav"/>
  <Override PartName="/ppt/media/image6.jpeg" ContentType="image/jpeg"/>
  <Override PartName="/ppt/media/chimes.wav" ContentType="audio/x-wav"/>
  <Override PartName="/ppt/media/type.wav" ContentType="audio/x-wav"/>
  <Override PartName="/ppt/media/image7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4FF6-E705-4295-9EA5-DB7934C15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09F3-9FFD-4B46-A465-A8624B747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B28F-DB45-4D8A-8B92-8D14B7E89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BF82-1B7B-4FF9-948C-8CBFF127F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A6796-87C9-47A5-8272-43F55ED3C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C6CEE-46D7-4703-A75B-BAA5F61AE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D5BBD-14BD-41E5-A9B1-B44C8172F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D02E8-4105-42A2-8355-FFE02E9B2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65BB3-1C60-4B2C-8277-7983C7705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020E9-276D-4703-BB00-95BC1529E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55F6B-9538-44CF-9A11-B5CAABFB5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57E9-1590-4E9A-9046-BF728F860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3AD38-FE9F-48E0-9F0E-68A53DC20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D7EBF-A91D-44C5-8E8A-0BD21ED48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940B4-1342-4467-8E7F-17DA8DBA1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A721B-19B3-4793-A3B6-2A142CA6A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4A565-FECA-4E99-AB86-08DC4042B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38AB-453D-4C5F-BFA1-E82FF57C1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AA38-24B9-4DC4-92EA-27AA16051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B518-6886-4892-8CFC-91278D3FF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3CB6-2F50-48FF-86F1-6BD2E9B98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3829-02AD-4CCD-9BFE-729DACB58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3190-9538-4DFC-A4B1-ED40FE15B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EB9E-3D12-44A0-BDA0-B0ED532CB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A9B7F-D2B5-4072-887D-64628EB2AE9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F34FF-6B75-4933-B7E0-C1F1A7D7616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&#38083;&#22768;5.wav"/><Relationship Id="rId3" Type="http://schemas.openxmlformats.org/officeDocument/2006/relationships/audio" Target="../media/&#38083;&#22768;5.wav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projctor.wav"/><Relationship Id="rId3" Type="http://schemas.openxmlformats.org/officeDocument/2006/relationships/audio" Target="../media/type.wav"/><Relationship Id="rId4" Type="http://schemas.openxmlformats.org/officeDocument/2006/relationships/audio" Target="../media/chimes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projctor.wav"/><Relationship Id="rId3" Type="http://schemas.openxmlformats.org/officeDocument/2006/relationships/audio" Target="../media/projctor.wav"/><Relationship Id="rId4" Type="http://schemas.openxmlformats.org/officeDocument/2006/relationships/audio" Target="../media/projctor.wav"/><Relationship Id="rId5" Type="http://schemas.openxmlformats.org/officeDocument/2006/relationships/audio" Target="../media/projctor.wav"/><Relationship Id="rId6" Type="http://schemas.openxmlformats.org/officeDocument/2006/relationships/audio" Target="../media/projctor.wav"/><Relationship Id="rId7" Type="http://schemas.openxmlformats.org/officeDocument/2006/relationships/audio" Target="../media/projctor.wav"/><Relationship Id="rId8" Type="http://schemas.openxmlformats.org/officeDocument/2006/relationships/audio" Target="../media/projctor.wav"/><Relationship Id="rId9" Type="http://schemas.openxmlformats.org/officeDocument/2006/relationships/audio" Target="../media/projctor.wav"/><Relationship Id="rId10" Type="http://schemas.openxmlformats.org/officeDocument/2006/relationships/audio" Target="../media/projctor.wav"/><Relationship Id="rId11" Type="http://schemas.openxmlformats.org/officeDocument/2006/relationships/audio" Target="../media/projctor.wav"/><Relationship Id="rId12" Type="http://schemas.openxmlformats.org/officeDocument/2006/relationships/audio" Target="../media/projctor.wav"/><Relationship Id="rId13" Type="http://schemas.openxmlformats.org/officeDocument/2006/relationships/audio" Target="../media/projctor.wav"/><Relationship Id="rId14" Type="http://schemas.openxmlformats.org/officeDocument/2006/relationships/audio" Target="../media/projctor.wav"/><Relationship Id="rId15" Type="http://schemas.openxmlformats.org/officeDocument/2006/relationships/audio" Target="../media/projctor.wav"/><Relationship Id="rId16" Type="http://schemas.openxmlformats.org/officeDocument/2006/relationships/audio" Target="../media/projctor.wav"/><Relationship Id="rId17" Type="http://schemas.openxmlformats.org/officeDocument/2006/relationships/audio" Target="../media/projctor.wav"/><Relationship Id="rId18" Type="http://schemas.openxmlformats.org/officeDocument/2006/relationships/audio" Target="../media/projctor.wav"/><Relationship Id="rId19" Type="http://schemas.openxmlformats.org/officeDocument/2006/relationships/audio" Target="../media/projctor.wav"/><Relationship Id="rId20" Type="http://schemas.openxmlformats.org/officeDocument/2006/relationships/audio" Target="../media/projctor.wav"/><Relationship Id="rId21" Type="http://schemas.openxmlformats.org/officeDocument/2006/relationships/audio" Target="../media/projctor.wav"/><Relationship Id="rId22" Type="http://schemas.openxmlformats.org/officeDocument/2006/relationships/audio" Target="../media/projctor.wav"/><Relationship Id="rId2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133720" y="1008000"/>
            <a:ext cx="183960" cy="11890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270160" y="535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609480"/>
            <a:ext cx="9144000" cy="56390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613240" y="1415880"/>
            <a:ext cx="4118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华文隶书"/>
                <a:ea typeface="华文隶书"/>
              </a:rPr>
              <a:t>陋    室    铭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084720" y="3716280"/>
            <a:ext cx="280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隶书"/>
              </a:rPr>
              <a:t>刘禹锡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4572000" y="-85680"/>
            <a:ext cx="4572000" cy="69436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0" y="-85680"/>
            <a:ext cx="4572000" cy="69436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95280" y="1773360"/>
            <a:ext cx="3851280" cy="12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华文隶书"/>
              </a:rPr>
              <a:t>可以调素琴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华文隶书"/>
              </a:rPr>
              <a:t>阅金经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华文隶书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011560" y="1628640"/>
            <a:ext cx="4132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华文隶书"/>
              </a:rPr>
              <a:t>无丝竹之乱耳，无案牍之劳形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328464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正面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方正姚体"/>
              </a:rPr>
              <a:t>—实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500720" y="328464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反面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方正姚体"/>
              </a:rPr>
              <a:t>—虚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68360" y="3933720"/>
            <a:ext cx="609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99"/>
                </a:solidFill>
                <a:latin typeface="Times New Roman"/>
              </a:rPr>
              <a:t>高雅脱俗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364000" y="3860640"/>
            <a:ext cx="838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99"/>
                </a:solidFill>
                <a:latin typeface="Times New Roman"/>
              </a:rPr>
              <a:t>不慕富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643480" y="476280"/>
            <a:ext cx="34725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隶书"/>
              </a:rPr>
              <a:t>南阳诸葛庐，西蜀子云亭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隶书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隶书"/>
              </a:rPr>
              <a:t>孔子云：何陋之有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55640" y="170028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运用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类比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，引古贤之名室证“陋室”，意在以古代圣贤自比，表明自己也具有古代名贤的志趣和抱负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39640" y="429264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与前文“斯是陋室”遥相呼应，这是全文的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画龙点睛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之笔。突出表明作者高洁傲岸的情操和安贫乐道的情趣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%E9%93%83%E5%A3%B05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%E9%93%83%E5%A3%B05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827080" y="620640"/>
            <a:ext cx="291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80421"/>
                </a:solidFill>
                <a:latin typeface="隶书"/>
                <a:ea typeface="隶书"/>
              </a:rPr>
              <a:t>5</a:t>
            </a:r>
            <a:r>
              <a:rPr b="0" lang="zh-CN" sz="4000" spc="-1" strike="noStrike">
                <a:solidFill>
                  <a:srgbClr val="f80421"/>
                </a:solidFill>
                <a:latin typeface="隶书"/>
                <a:ea typeface="隶书"/>
              </a:rPr>
              <a:t>、分析本文“托物言志”的写法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43840" y="1973160"/>
            <a:ext cx="9122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99"/>
                </a:solidFill>
                <a:latin typeface="Times New Roman"/>
              </a:rPr>
              <a:t>托物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99"/>
                </a:solidFill>
                <a:latin typeface="Times New Roman"/>
              </a:rPr>
              <a:t>言志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50000" y="1981080"/>
            <a:ext cx="168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707ed"/>
                </a:solidFill>
                <a:latin typeface="Times New Roman"/>
              </a:rPr>
              <a:t>—— </a:t>
            </a:r>
            <a:r>
              <a:rPr b="1" lang="zh-CN" sz="3200" spc="-1" strike="noStrike">
                <a:solidFill>
                  <a:srgbClr val="1707ed"/>
                </a:solidFill>
                <a:latin typeface="Times New Roman"/>
              </a:rPr>
              <a:t>陋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625920" y="1916280"/>
            <a:ext cx="5518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对陋室的环境及室主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日常生活进行描写。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057400" y="3429000"/>
            <a:ext cx="647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707ed"/>
                </a:solidFill>
                <a:latin typeface="Times New Roman"/>
              </a:rPr>
              <a:t>—— </a:t>
            </a:r>
            <a:r>
              <a:rPr b="1" lang="zh-CN" sz="3200" spc="-1" strike="noStrike">
                <a:solidFill>
                  <a:srgbClr val="1707ed"/>
                </a:solidFill>
                <a:latin typeface="Times New Roman"/>
              </a:rPr>
              <a:t>表达了作者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高洁傲岸的情操</a:t>
            </a:r>
            <a:r>
              <a:rPr b="1" lang="zh-CN" sz="3200" spc="-1" strike="noStrike">
                <a:solidFill>
                  <a:srgbClr val="1707ed"/>
                </a:solidFill>
                <a:latin typeface="Times New Roman"/>
              </a:rPr>
              <a:t>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安贫乐道的情趣</a:t>
            </a:r>
            <a:r>
              <a:rPr b="1" lang="zh-CN" sz="3200" spc="-1" strike="noStrike">
                <a:solidFill>
                  <a:srgbClr val="1707ed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91320" y="3886200"/>
            <a:ext cx="302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文章主题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026160" y="4653000"/>
            <a:ext cx="84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80421"/>
                </a:solidFill>
                <a:latin typeface="隶书"/>
                <a:ea typeface="隶书"/>
              </a:rPr>
              <a:t>6</a:t>
            </a:r>
            <a:r>
              <a:rPr b="1" lang="zh-CN" sz="4000" spc="-1" strike="noStrike">
                <a:solidFill>
                  <a:srgbClr val="f80421"/>
                </a:solidFill>
                <a:latin typeface="隶书"/>
                <a:ea typeface="隶书"/>
              </a:rPr>
              <a:t>、文中哪句话点明了主题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916360" y="5445000"/>
            <a:ext cx="42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707ed"/>
                </a:solidFill>
                <a:latin typeface="Times New Roman"/>
              </a:rPr>
              <a:t>——“</a:t>
            </a:r>
            <a:r>
              <a:rPr b="1" lang="zh-CN" sz="3200" spc="-1" strike="noStrike">
                <a:solidFill>
                  <a:srgbClr val="1707ed"/>
                </a:solidFill>
                <a:latin typeface="Times New Roman"/>
              </a:rPr>
              <a:t>惟吾德馨”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0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75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75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75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75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75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75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-671040" y="2209680"/>
            <a:ext cx="1642680" cy="22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6633"/>
                </a:solidFill>
                <a:latin typeface="Times New Roman"/>
                <a:ea typeface="楷体_GB2312"/>
              </a:rPr>
              <a:t>陋室铭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247760"/>
            <a:ext cx="227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99"/>
                </a:solidFill>
                <a:latin typeface="Times New Roman"/>
              </a:rPr>
              <a:t>设喻引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505320" y="6094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707ed"/>
                </a:solidFill>
                <a:latin typeface="Times New Roman"/>
              </a:rPr>
              <a:t>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589920" y="14763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707ed"/>
                </a:solidFill>
                <a:latin typeface="Times New Roman"/>
              </a:rPr>
              <a:t>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504320" y="6094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707ed"/>
                </a:solidFill>
                <a:latin typeface="Times New Roman"/>
              </a:rPr>
              <a:t>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80280" y="14763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707ed"/>
                </a:solidFill>
                <a:latin typeface="Times New Roman"/>
              </a:rPr>
              <a:t>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94680" y="6094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707ed"/>
                </a:solidFill>
                <a:latin typeface="Times New Roman"/>
              </a:rPr>
              <a:t>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555160" y="1440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707ed"/>
                </a:solidFill>
                <a:latin typeface="Times New Roman"/>
              </a:rPr>
              <a:t>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644520" y="6094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707ed"/>
                </a:solidFill>
                <a:latin typeface="Times New Roman"/>
              </a:rPr>
              <a:t>陋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641280" y="14479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707ed"/>
                </a:solidFill>
                <a:latin typeface="Times New Roman"/>
              </a:rPr>
              <a:t>德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429000" y="914400"/>
            <a:ext cx="76320" cy="914400"/>
          </a:xfrm>
          <a:custGeom>
            <a:avLst/>
            <a:gdLst>
              <a:gd name="textAreaLeft" fmla="*/ 48960 w 76320"/>
              <a:gd name="textAreaRight" fmla="*/ 76320 w 7632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1707e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219320" y="3228840"/>
            <a:ext cx="241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99"/>
                </a:solidFill>
                <a:latin typeface="Times New Roman"/>
              </a:rPr>
              <a:t>陋室不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429000" y="2666880"/>
            <a:ext cx="304920" cy="1752840"/>
          </a:xfrm>
          <a:custGeom>
            <a:avLst/>
            <a:gdLst>
              <a:gd name="textAreaLeft" fmla="*/ 194760 w 304920"/>
              <a:gd name="textAreaRight" fmla="*/ 305280 w 304920"/>
              <a:gd name="textAreaTop" fmla="*/ 45720 h 1752840"/>
              <a:gd name="textAreaBottom" fmla="*/ 1707120 h 1752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1707e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809880" y="251460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707ed"/>
                </a:solidFill>
                <a:latin typeface="Times New Roman"/>
              </a:rPr>
              <a:t>环境清幽（景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809880" y="3809880"/>
            <a:ext cx="35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707ed"/>
                </a:solidFill>
                <a:latin typeface="Times New Roman"/>
              </a:rPr>
              <a:t>生活恬适（趣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279440" y="4716360"/>
            <a:ext cx="242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99"/>
                </a:solidFill>
                <a:latin typeface="Times New Roman"/>
              </a:rPr>
              <a:t>古贤自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343400" y="46116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707ed"/>
                </a:solidFill>
                <a:latin typeface="Times New Roman"/>
              </a:rPr>
              <a:t>反问点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 rot="10800000">
            <a:off x="912960" y="1676520"/>
            <a:ext cx="228600" cy="3504960"/>
          </a:xfrm>
          <a:custGeom>
            <a:avLst/>
            <a:gdLst>
              <a:gd name="textAreaLeft" fmla="*/ 145800 w 228600"/>
              <a:gd name="textAreaRight" fmla="*/ 228600 w 228600"/>
              <a:gd name="textAreaTop" fmla="*/ 91080 h 3504960"/>
              <a:gd name="textAreaBottom" fmla="*/ 3413880 h 3504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905"/>
                </a:lnTo>
                <a:cubicBezTo>
                  <a:pt x="10800" y="9805"/>
                  <a:pt x="5400" y="10705"/>
                  <a:pt x="0" y="10705"/>
                </a:cubicBezTo>
                <a:cubicBezTo>
                  <a:pt x="5400" y="10705"/>
                  <a:pt x="10800" y="11605"/>
                  <a:pt x="10800" y="12505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1707e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809880" y="312408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707ed"/>
                </a:solidFill>
                <a:latin typeface="Times New Roman"/>
              </a:rPr>
              <a:t>交往高雅（友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81080" y="5562720"/>
            <a:ext cx="44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80421"/>
                </a:solidFill>
                <a:latin typeface="宋体"/>
              </a:rPr>
              <a:t>陪衬比喻  托物言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004600" y="762120"/>
            <a:ext cx="66780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99"/>
                </a:solidFill>
                <a:latin typeface="宋体"/>
              </a:rPr>
              <a:t>安贫乐道  高洁傲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96080" y="1066680"/>
            <a:ext cx="152640" cy="4038840"/>
          </a:xfrm>
          <a:custGeom>
            <a:avLst/>
            <a:gdLst>
              <a:gd name="textAreaLeft" fmla="*/ 0 w 152640"/>
              <a:gd name="textAreaRight" fmla="*/ 55080 w 152640"/>
              <a:gd name="textAreaTop" fmla="*/ 105120 h 4038840"/>
              <a:gd name="textAreaBottom" fmla="*/ 3933720 h 4038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1707e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500"/>
                            </p:stCondLst>
                            <p:childTnLst>
                              <p:par>
                                <p:cTn id="25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500"/>
                            </p:stCondLst>
                            <p:childTnLst>
                              <p:par>
                                <p:cTn id="26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000"/>
                            </p:stCondLst>
                            <p:childTnLst>
                              <p:par>
                                <p:cTn id="27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8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0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00"/>
                            </p:stCondLst>
                            <p:childTnLst>
                              <p:par>
                                <p:cTn id="316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1000"/>
                            </p:stCondLst>
                            <p:childTnLst>
                              <p:par>
                                <p:cTn id="32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500"/>
                            </p:stCondLst>
                            <p:childTnLst>
                              <p:par>
                                <p:cTn id="32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2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763280" y="549360"/>
            <a:ext cx="3198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imes New Roman"/>
                <a:ea typeface="隶书"/>
              </a:rPr>
              <a:t>找出课文中押韵的字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914480" y="2362320"/>
            <a:ext cx="43689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ff"/>
                </a:solidFill>
                <a:latin typeface="Times New Roman"/>
              </a:rPr>
              <a:t>名       灵        馨        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ff"/>
                </a:solidFill>
                <a:latin typeface="Times New Roman"/>
              </a:rPr>
              <a:t>丁       经        形        亭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75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75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413360" y="674640"/>
            <a:ext cx="286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imes New Roman"/>
                <a:ea typeface="隶书"/>
              </a:rPr>
              <a:t>找出课文中对偶句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141000" y="1344600"/>
            <a:ext cx="120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、山不在高，有仙则名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   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水不在深，有龙则灵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953000" y="2286000"/>
            <a:ext cx="1938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、苔痕上阶绿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草色入帘青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02240" y="3200400"/>
            <a:ext cx="193896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隶书"/>
              </a:rPr>
              <a:t>3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、谈笑有鸿儒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往来无白丁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467360" y="4267080"/>
            <a:ext cx="1938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4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、调素琴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阅金经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065680" y="5200560"/>
            <a:ext cx="1938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5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、无丝竹之乱耳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无案牍之劳形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763240" y="3657600"/>
            <a:ext cx="1938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6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、南阳诸葛庐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西蜀子云亭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042920" y="260280"/>
            <a:ext cx="46245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四、填空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95280" y="1052640"/>
            <a:ext cx="8153280" cy="74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、概括全文主旨的句子是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ff"/>
                </a:solidFill>
                <a:uFillTx/>
                <a:latin typeface="隶书"/>
                <a:ea typeface="隶书"/>
              </a:rPr>
              <a:t>                 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，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隶书"/>
                <a:ea typeface="隶书"/>
              </a:rPr>
              <a:t>               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。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隶书"/>
                <a:ea typeface="隶书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、写出“陋室”环境清幽的句子是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ff"/>
                </a:solidFill>
                <a:uFillTx/>
                <a:latin typeface="隶书"/>
                <a:ea typeface="隶书"/>
              </a:rPr>
              <a:t>                 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，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隶书"/>
                <a:ea typeface="隶书"/>
              </a:rPr>
              <a:t>               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3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、表明主人的生活情趣高雅的句子是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ff"/>
                </a:solidFill>
                <a:uFillTx/>
                <a:latin typeface="隶书"/>
                <a:ea typeface="隶书"/>
              </a:rPr>
              <a:t>                 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，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隶书"/>
                <a:ea typeface="隶书"/>
              </a:rPr>
              <a:t>               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ff"/>
                </a:solidFill>
                <a:uFillTx/>
                <a:latin typeface="隶书"/>
                <a:ea typeface="隶书"/>
              </a:rPr>
              <a:t>                 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，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隶书"/>
                <a:ea typeface="隶书"/>
              </a:rPr>
              <a:t>               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。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隶书"/>
                <a:ea typeface="隶书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4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、表明了主人不热衷于名利的句子是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ff"/>
                </a:solidFill>
                <a:uFillTx/>
                <a:latin typeface="隶书"/>
                <a:ea typeface="隶书"/>
              </a:rPr>
              <a:t>                 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，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隶书"/>
                <a:ea typeface="隶书"/>
              </a:rPr>
              <a:t>               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5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、文末提到三位古人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起什么作用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430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500"/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1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84464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隶书"/>
              </a:rPr>
              <a:t>         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隶书"/>
              </a:rPr>
              <a:t>山不在高，有仙则名。水不在深，有龙则灵。斯是陋室，惟吾德馨。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/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隶书"/>
              </a:rPr>
              <a:t>苔痕上阶绿，草色入帘青。谈笑有鸿儒，往来无白丁。可以调素琴，阅金经。无丝竹之乱耳，无案牍之劳形。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/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隶书"/>
              </a:rPr>
              <a:t>南阳诸葛庐，西蜀子云亭。孔子云：何陋之有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16360" y="260280"/>
            <a:ext cx="3112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Times New Roman"/>
                <a:ea typeface="隶书"/>
              </a:rPr>
              <a:t>陋室铭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04080" y="1055520"/>
            <a:ext cx="2671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唐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.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刘禹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8244000" y="6021360"/>
            <a:ext cx="57600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7000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4000" y="1125360"/>
            <a:ext cx="84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本文选自《全唐文》，作者刘禹锡（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772—842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，字梦得，贞元九年进士，唐代诗人，哲学家。刘禹锡生活在安史之乱以后的中唐时期，关心社会现实，忧虑国计民生。因参加王叔文的政治革新运动得罪了当朝的权贵，被贬成安徽省和州通判。按当时规定，他应住衙门里的三间屋子。可是和州知县见他被贬而来，便多方刁难。半年时间连搬三次家，住房一次比一次小，最后成了一间陋室。在此背景下，刘禹锡愤然提笔写了《陋室铭》一文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734480" y="189000"/>
            <a:ext cx="905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、作家作品简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刘禹锡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1056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095640" y="6278400"/>
            <a:ext cx="60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d0754"/>
                </a:solidFill>
                <a:latin typeface="Times New Roman"/>
              </a:rPr>
              <a:t>今天修复的安徽和州刘禹锡陋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36960" y="1268280"/>
            <a:ext cx="1642680" cy="36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花香不在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293160" y="1197000"/>
            <a:ext cx="1642680" cy="367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室雅何须大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68360" y="189000"/>
            <a:ext cx="356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、关于文体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9640" y="119700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铭”</a:t>
            </a:r>
            <a:r>
              <a:rPr b="1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是古代刻在器物上用来警戒自己或者称述功德的文字，后来成为一种文体。这种文体一般都是用韵的</a:t>
            </a:r>
            <a:r>
              <a:rPr b="1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常用</a:t>
            </a:r>
            <a:r>
              <a:rPr b="1" lang="zh-CN" sz="3200" spc="-1" strike="noStrike">
                <a:solidFill>
                  <a:srgbClr val="990099"/>
                </a:solidFill>
                <a:latin typeface="方正姚体"/>
                <a:ea typeface="方正姚体"/>
              </a:rPr>
              <a:t>排比、对偶</a:t>
            </a:r>
            <a:r>
              <a:rPr b="1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句，所以又称</a:t>
            </a:r>
            <a:r>
              <a:rPr b="1" lang="zh-CN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骈文</a:t>
            </a:r>
            <a:r>
              <a:rPr b="1" lang="zh-CN" sz="3200" spc="-1" strike="noStrike">
                <a:solidFill>
                  <a:srgbClr val="1707ed"/>
                </a:solidFill>
                <a:latin typeface="方正姚体"/>
                <a:ea typeface="方正姚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736640" y="5202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1280" y="5157720"/>
            <a:ext cx="7632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502a2"/>
                </a:solidFill>
                <a:latin typeface="Times New Roman"/>
                <a:ea typeface="隶书"/>
              </a:rPr>
              <a:t>本文韵脚</a:t>
            </a:r>
            <a:r>
              <a:rPr b="1" lang="zh-CN" sz="3200" spc="-1" strike="noStrike">
                <a:solidFill>
                  <a:srgbClr val="1502a2"/>
                </a:solidFill>
                <a:latin typeface="Times New Roman"/>
              </a:rPr>
              <a:t>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名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ing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，灵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ing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，馨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， 青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ing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             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ing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，经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ing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，形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ing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，亭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68360" y="3429000"/>
            <a:ext cx="777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本文是一篇骈文。字数相同、意思相对的两个相接的句子，叫骈句。骈句不仅讲究对偶，而且讲究声律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0,-63,-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6,-82,-8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0,-63,-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6,-82,-8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8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0,-63,-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6,-82,-8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0,-63,-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6,-82,-8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8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431800" y="785880"/>
            <a:ext cx="851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3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、给下列字注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547640" y="3645000"/>
            <a:ext cx="111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ī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588000" y="3645000"/>
            <a:ext cx="74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8360" y="1916280"/>
            <a:ext cx="720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cc"/>
                </a:solidFill>
                <a:latin typeface="方正姚体"/>
                <a:ea typeface="方正姚体"/>
              </a:rPr>
              <a:t>陋            铭            鸿            儒            馨            牍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404720" y="2060640"/>
            <a:ext cx="85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lò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508040" y="1544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443640" y="1989000"/>
            <a:ext cx="138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mí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443640" y="2852640"/>
            <a:ext cx="69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478160" y="2852640"/>
            <a:ext cx="125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ó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23760" y="260280"/>
            <a:ext cx="97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80421"/>
                </a:solidFill>
                <a:latin typeface="隶书"/>
                <a:ea typeface="隶书"/>
              </a:rPr>
              <a:t>4</a:t>
            </a:r>
            <a:r>
              <a:rPr b="0" lang="zh-CN" sz="4800" spc="-1" strike="noStrike">
                <a:solidFill>
                  <a:srgbClr val="f80421"/>
                </a:solidFill>
                <a:latin typeface="隶书"/>
                <a:ea typeface="隶书"/>
              </a:rPr>
              <a:t>、译文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-92160" y="1197000"/>
            <a:ext cx="9236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山不一定要高，有仙人（居住）就能天下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名；水不一定要深，有龙（居住）就能显示灵异。这（虽）是间简陋的房子，但主人有美好的德行（就不觉得简陋了）。苔痕碧绿，长到阶上；草色清葱，映入帘内。谈笑的是渊博的学者，往来的没有粗俗的人。可以弹奏素朴的古琴，浏览珍贵的佛经。没有（嘈杂的）音乐声扰乱双耳，没有官府的公文劳累身心。（它好比）诸葛亮的茅庐，西蜀杨子云的亭子。孔子说：“（虽然是陋室，但只要君子住在里面，）有什么简陋的呢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900000" y="5516640"/>
            <a:ext cx="632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之</a:t>
            </a:r>
            <a:r>
              <a:rPr b="1" lang="zh-CN" sz="3200" spc="-1" strike="noStrike">
                <a:solidFill>
                  <a:srgbClr val="0b0a09"/>
                </a:solidFill>
                <a:latin typeface="方正姚体"/>
                <a:ea typeface="方正姚体"/>
              </a:rPr>
              <a:t>，宾语前置的标志，无实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99840" y="1341360"/>
            <a:ext cx="179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有仙则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名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484360" y="1268280"/>
            <a:ext cx="633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名词活用为动词</a:t>
            </a:r>
            <a:r>
              <a:rPr b="1" lang="zh-CN" sz="3200" spc="-1" strike="noStrike">
                <a:solidFill>
                  <a:srgbClr val="3333ff"/>
                </a:solidFill>
                <a:latin typeface="方正姚体"/>
                <a:ea typeface="方正姚体"/>
              </a:rPr>
              <a:t>，闻名</a:t>
            </a:r>
            <a:r>
              <a:rPr b="1" lang="zh-CN" sz="3200" spc="-1" strike="noStrike">
                <a:solidFill>
                  <a:srgbClr val="3333ff"/>
                </a:solidFill>
                <a:latin typeface="方正姚体"/>
                <a:ea typeface="方正姚体"/>
              </a:rPr>
              <a:t>,</a:t>
            </a:r>
            <a:r>
              <a:rPr b="1" lang="zh-CN" sz="3200" spc="-1" strike="noStrike">
                <a:solidFill>
                  <a:srgbClr val="3333ff"/>
                </a:solidFill>
                <a:latin typeface="方正姚体"/>
                <a:ea typeface="方正姚体"/>
              </a:rPr>
              <a:t>出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90920" y="2133720"/>
            <a:ext cx="228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无案牍之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劳形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492360" y="1989000"/>
            <a:ext cx="5112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形容词使动用法</a:t>
            </a:r>
            <a:r>
              <a:rPr b="1" lang="zh-CN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方正姚体"/>
                <a:ea typeface="方正姚体"/>
              </a:rPr>
              <a:t>使…劳累</a:t>
            </a:r>
            <a:r>
              <a:rPr b="1" lang="zh-CN" sz="3200" spc="-1" strike="noStrike">
                <a:solidFill>
                  <a:srgbClr val="3333ff"/>
                </a:solidFill>
                <a:latin typeface="方正姚体"/>
                <a:ea typeface="方正姚体"/>
              </a:rPr>
              <a:t>,</a:t>
            </a:r>
            <a:r>
              <a:rPr b="1" lang="zh-CN" sz="3200" spc="-1" strike="noStrike">
                <a:solidFill>
                  <a:srgbClr val="3333ff"/>
                </a:solidFill>
                <a:latin typeface="方正姚体"/>
                <a:ea typeface="方正姚体"/>
              </a:rPr>
              <a:t>使身体劳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81920" y="3500280"/>
            <a:ext cx="203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苔痕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上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阶绿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3640" y="3429000"/>
            <a:ext cx="56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方正姚体"/>
              </a:rPr>
              <a:t>方位名词活用为动词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方正姚体"/>
              </a:rPr>
              <a:t>，</a:t>
            </a: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方正姚体"/>
              </a:rPr>
              <a:t>长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68360" y="4365720"/>
            <a:ext cx="295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何陋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之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有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987640" y="4221000"/>
            <a:ext cx="539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方正姚体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方正姚体"/>
              </a:rPr>
              <a:t>有何陋”的倒装句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意思是：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方正姚体"/>
              </a:rPr>
              <a:t>有什么简陋的呢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268360" y="549360"/>
            <a:ext cx="46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隶书"/>
              </a:rPr>
              <a:t>特殊句式和词类活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36480" y="620640"/>
            <a:ext cx="8507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99"/>
                </a:solidFill>
                <a:latin typeface="Times New Roman"/>
                <a:ea typeface="方正剪纸简体"/>
              </a:rPr>
              <a:t>“</a:t>
            </a:r>
            <a:r>
              <a:rPr b="1" lang="zh-CN" sz="4000" spc="-1" strike="noStrike">
                <a:solidFill>
                  <a:srgbClr val="990099"/>
                </a:solidFill>
                <a:latin typeface="Times New Roman"/>
                <a:ea typeface="方正剪纸简体"/>
              </a:rPr>
              <a:t>陋室不陋”具体表现在哪些方面呢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79280" y="1268280"/>
            <a:ext cx="871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、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环境之雅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：</a:t>
            </a:r>
            <a:r>
              <a:rPr b="1" lang="zh-CN" sz="3200" spc="-1" strike="noStrike" u="sng">
                <a:solidFill>
                  <a:srgbClr val="008000"/>
                </a:solidFill>
                <a:uFillTx/>
                <a:latin typeface="Times New Roman"/>
              </a:rPr>
              <a:t>“苔痕上阶绿，草色入帘青”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写环境的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清幽、雅致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反映出主人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淡泊名利的志趣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79280" y="2852640"/>
            <a:ext cx="87138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2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、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交往之雅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：</a:t>
            </a:r>
            <a:r>
              <a:rPr b="1" lang="zh-CN" sz="3200" spc="-1" strike="noStrike" u="sng">
                <a:solidFill>
                  <a:srgbClr val="008000"/>
                </a:solidFill>
                <a:uFillTx/>
                <a:latin typeface="Times New Roman"/>
              </a:rPr>
              <a:t>“谈笑有鸿儒，往来无白丁”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写朋友的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贤良儒雅</a:t>
            </a:r>
            <a:r>
              <a:rPr b="1" lang="zh-CN" sz="3200" spc="-1" strike="noStrike">
                <a:solidFill>
                  <a:srgbClr val="800080"/>
                </a:solidFill>
                <a:latin typeface="Times New Roman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反映出室主人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高洁傲岸的情怀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79280" y="4437000"/>
            <a:ext cx="896472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3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、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情趣之雅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：</a:t>
            </a:r>
            <a:r>
              <a:rPr b="1" lang="zh-CN" sz="3200" spc="-1" strike="noStrike" u="sng">
                <a:solidFill>
                  <a:srgbClr val="008000"/>
                </a:solidFill>
                <a:uFillTx/>
                <a:latin typeface="Times New Roman"/>
              </a:rPr>
              <a:t>“可以调素琴，阅金经，无丝竹之乱耳，无案牍之劳形”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写生活的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高雅脱俗</a:t>
            </a:r>
            <a:r>
              <a:rPr b="1" lang="zh-CN" sz="3200" spc="-1" strike="noStrike">
                <a:solidFill>
                  <a:srgbClr val="800080"/>
                </a:solidFill>
                <a:latin typeface="Times New Roman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反映出室主人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不为琐事萦怀的心态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7T01:07:09Z</dcterms:created>
  <dc:creator>陈元华</dc:creator>
  <dc:description/>
  <dc:language>en-US</dc:language>
  <cp:lastModifiedBy>YlmF</cp:lastModifiedBy>
  <dcterms:modified xsi:type="dcterms:W3CDTF">2010-03-03T14:20:37Z</dcterms:modified>
  <cp:revision>50</cp:revision>
  <dc:subject>陋室铭</dc:subject>
  <dc:title>PowerPoint 演示文稿</dc:title>
</cp:coreProperties>
</file>