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push.wav" ContentType="audio/x-wav"/>
  <Override PartName="/ppt/media/image30.gif" ContentType="image/gif"/>
  <Override PartName="/ppt/media/image20.png" ContentType="image/png"/>
  <Override PartName="/ppt/media/image21.png" ContentType="image/png"/>
  <Override PartName="/ppt/media/image19.png" ContentType="image/png"/>
  <Override PartName="/ppt/media/explode.wav" ContentType="audio/x-wav"/>
  <Override PartName="/ppt/media/image18.jpeg" ContentType="image/jpeg"/>
  <Override PartName="/ppt/media/image15.png" ContentType="image/png"/>
  <Override PartName="/ppt/media/chimes.wav" ContentType="audio/x-wav"/>
  <Override PartName="/ppt/media/image36.gif" ContentType="image/gif"/>
  <Override PartName="/ppt/media/image16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27.jpeg" ContentType="image/jpeg"/>
  <Override PartName="/ppt/media/image10.png" ContentType="image/png"/>
  <Override PartName="/ppt/media/drumroll.wav" ContentType="audio/x-wav"/>
  <Override PartName="/ppt/media/applause.wav" ContentType="audio/x-wav"/>
  <Override PartName="/ppt/media/image5.png" ContentType="image/png"/>
  <Override PartName="/ppt/media/image29.gif" ContentType="image/gif"/>
  <Override PartName="/ppt/media/image22.jpeg" ContentType="image/jpeg"/>
  <Override PartName="/ppt/media/image9.png" ContentType="image/png"/>
  <Override PartName="/ppt/media/image31.jpeg" ContentType="image/jpeg"/>
  <Override PartName="/ppt/media/whoosh.wav" ContentType="audio/x-wav"/>
  <Override PartName="/ppt/media/image28.jpeg" ContentType="image/jpeg"/>
  <Override PartName="/ppt/media/image38.wmf" ContentType="image/x-wmf"/>
  <Override PartName="/ppt/media/image35.gif" ContentType="image/gif"/>
  <Override PartName="/ppt/media/image11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4.gif" ContentType="image/gif"/>
  <Override PartName="/ppt/media/image32.jpeg" ContentType="image/jpeg"/>
  <Override PartName="/ppt/media/image3.png" ContentType="image/png"/>
  <Override PartName="/ppt/media/image17.jpeg" ContentType="image/jpeg"/>
  <Override PartName="/ppt/media/image23.gif" ContentType="image/gif"/>
  <Override PartName="/ppt/media/image26.png" ContentType="image/png"/>
  <Override PartName="/ppt/media/image3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135-188D-419D-9D8A-4783B202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F577-8FD7-4B95-9B53-487E9B61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2FE11-E6F6-4F42-BF29-58956606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7A0AC-78CC-47D5-92AE-A6A53529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83B3D-76A6-4BCB-9021-74A2F061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5C0FB-710C-4B72-8560-D6691E85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611F5-255F-4058-B176-DDB90C48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449D7-AF74-4420-9C01-A05331D5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E5A02-C7A5-426C-A713-AEADABDE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0B1A1-BD78-4D43-9B76-4BDEDD7A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ABBEA-049B-439B-ADC4-D779DF49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393D6-6C7C-4260-A41E-C33E3383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435-920E-488A-9039-FC234819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79ECB-3CE4-46DE-B03C-AD7ED4F1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83915-D628-4FEA-AB2E-AC162F34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9C916-694E-4BEE-A198-77349757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A8351-1A75-4277-8BC5-873B4B3F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40EDF-0EDA-4DCE-8645-AF691AA8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64C15-4615-4A70-B63E-2CC9B205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E8BBE-AF25-4B58-B96D-75F1C0FE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25A4D-BE77-4CC7-AD3D-85420B85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D91C0-7CFD-4122-A0DB-D0954F58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14EEE-E4F0-4BB4-BCB9-7A9240CC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A44-210F-473D-802C-B67A29D3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65EF7-5E0D-4AAB-B87C-CE13582E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41B19-B82B-4939-88F7-38430380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CBE13-1654-42A1-845E-B8006304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163CC-D26A-459A-A9DA-EADBD2C9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6727E-7F67-4551-BD84-8D0B134D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4C6EA-BF44-4115-85AF-DB6A4EF6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1CA39-6989-43D4-93D6-998A4859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AEDC2-03BB-42C5-9DCA-97AAA5E0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05B18-08DC-4EFA-A310-65B8A2EE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2DDAF-DB98-4B1A-8547-3E326D6B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0B2F-E74D-4775-A389-680EB4A6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472A8-C420-453C-B7E9-74594880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2D93D-94F9-4315-B0E8-6F48F6BD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53328-8B3C-406A-B1BB-0B54A4DB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38004-0130-4836-BB32-70E662B2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C9382-79C5-4F52-B700-0F92F317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BD370-9881-437D-9506-EEBC030F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C6E08-42C5-4074-A6FA-69787FF5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15726-6488-4AEF-A268-B7B62FBD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BF3D9-B479-46BB-AD38-EEF310B2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AE02D-9280-4E31-8A84-0C768C46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5594-8313-414D-92F1-46FEE1AF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0479D-3E72-49BE-8D80-DA0C9C33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25BA8-9BFB-4636-A70B-793C0347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69578-69FC-4DF1-921D-888407BC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F7B2C-FFF0-4198-AE3D-1CB57357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DD64E-B485-4438-BA55-F888D5C0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C69C-0AF0-4B62-84BE-6042AB50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2451-34FC-48C9-A2B5-98A2E124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95D8-9CEA-4D26-A04F-7092F7B5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EE2A-D5D8-4B83-AB26-E05C49C8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AFD5-D09E-48DD-B485-F8C2FD07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8CF0-2F1D-4B4E-9FAA-89604D89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1752-7878-4AD6-BFBB-1F0E0C46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F409-B451-4EE8-8247-09C0D037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BDCF-11A8-448E-A590-C70CF15A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B89B-6E2A-4FDC-B7A9-25BEE8B3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3128-EF50-4E49-934C-38AA100B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D50F6-4100-4B07-BDCE-DDDB6086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959A6-79A7-46E0-9732-44FBF2AC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B1DC2-ED40-4851-8851-CF960350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19381-49F0-48F7-911A-82793381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4D78B-D081-417B-AC6B-A881C76E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BD6-3BAD-46E4-9847-18BBE3F6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B3177-3FD9-40E4-96E7-CAC78787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D46D0-F01D-4C16-AF20-955A464A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83FBA-C561-4444-AEA1-C1DBC04C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C8C6D-EF35-4694-AD86-A27DDE47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2B62E-A60B-4765-BE42-CBB0E938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47FB1-11E2-4871-B6F2-1CFCB27A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2D2BD-3338-4DC5-AA62-9F285A88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AD18F-4A91-4EAA-A1CB-ADAB5963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6BBEF-323E-4E92-82F4-8F5F6AC5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7A8C6-7541-4991-911B-12AED687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BD92-A731-47AE-AC5E-314764B3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30512-C6A0-42C2-A19E-5A15400E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47E81-3247-41B9-AFD0-E455EE61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D9A2D-9961-4E4A-8FFD-DB8BB013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AC6E5-AC7A-4963-B31F-18F52D1C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ECC38-C490-4245-9EAC-28492320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A9391-420A-4B3F-8A94-597B925A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7CFF0-0CA0-411E-B5DE-32FB6A1D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9BCA9-FE3C-472A-ADF4-D6CBAC0F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1F8D8-26D3-466D-AAB1-2B6B2CB5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F6F20-8D84-45B3-A9C2-5C8D11FB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8A9-C5D5-4254-B376-A76C3276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46F1D-9478-4F88-8ACA-B9B31E81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2D001-61C3-43E5-A3A2-6F071065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0D586-C543-47D4-940F-07A25271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45EB6-496F-4EA3-AC7A-38EA45DB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48692-5909-4CC1-97D0-204E4939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97E5C-7A18-4939-9880-67983F5D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048D9-987E-4122-AB9E-29CDD83E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81DC6-FC4F-4160-852C-53BFE223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9229E-91F8-4D9F-8D02-572A31F9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21746-D945-4946-8144-7B809135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894-A76F-4AFD-B0E9-2ADFB39E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2087F-E5DE-48DB-95A1-B080F80B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54B45-DF22-4E9C-B576-782AE977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C0E3E-BB6E-4C5F-A22C-49E63260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AE5BC-F6EA-4D7D-93E0-37C052B9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4DD0F-D390-486E-B74C-A92CD785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6D87D-CEFA-4DEC-A870-393E5414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9EAE8-6C2F-4AA8-8249-DE68647C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E307B-B59B-41E4-A4DF-510530EA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D1D6E-564B-4FB2-BEA8-3252BD6C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3642E-65CD-4638-9379-9775270A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389C-1DB5-44D0-8E6E-85D7E009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48C35-2C1E-4B8E-82AE-20C866B8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C481D-A239-486A-AB68-26225E39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66706-2D65-415D-9538-35BFA187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DDB7C-92FF-42BD-A2DA-8E26F8F5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7B140-5306-40BF-BDFC-F3A4D195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0B618-358E-482D-B24C-7691E094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49A37-6EC5-4E99-B09E-C8E95548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3AD73-4703-4262-9336-806B42F9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E4B7E-0750-49B5-B33A-30E32CC7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A5DA9-7C72-47FD-BD0C-4F8856A9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221-9E53-494E-B180-7F0F3E58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A8C73-4A7B-4CD1-B8CD-92C55253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BC078-F372-4958-8176-500C480F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1E49B-4353-4235-A60B-2E528E9A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EBFAA-3EE0-4850-8AB3-18EF2553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3E5EE-3A7B-4874-AB98-6DAE23D2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42D8C-F2E8-4672-802E-AE482686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3C8C1-6E99-4C97-850D-05E02266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9388D-1EB3-47B5-96CC-ADE10BE2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55193-C16F-40DA-A4E6-7DAFBE71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424C9-0660-48A8-9D2C-6F992D26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6BD-01DF-418B-9BB2-06453AC2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51254-AB8C-4A81-BADB-75E7DF36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1C145-3EBF-4C00-AFC2-C3BD41FF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C79D1-3EDF-43D3-8158-FB146796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FBE8B-4972-48B9-BAE8-55292A64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7C0F9-916B-4B61-876E-C171CC7B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8AE4B-4909-4DAA-8B8E-D2F59910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E8079-9927-4201-ACF8-21BF9A04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2D452-1289-45DE-BAAB-9B9576BF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2E376-8551-4074-8AAF-27CA3C39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58C52-A6CB-4868-9E37-6DF551CF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6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1E9A-A2F1-4924-8680-E06D74DE9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8723160" y="0"/>
            <a:ext cx="431640" cy="6845040"/>
            <a:chOff x="8723160" y="0"/>
            <a:chExt cx="431640" cy="6845040"/>
          </a:xfrm>
        </p:grpSpPr>
        <p:sp>
          <p:nvSpPr>
            <p:cNvPr id="418" name=""/>
            <p:cNvSpPr/>
            <p:nvPr/>
          </p:nvSpPr>
          <p:spPr>
            <a:xfrm>
              <a:off x="8723160" y="2139840"/>
              <a:ext cx="431640" cy="4705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23160" y="0"/>
              <a:ext cx="431640" cy="4030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421" name="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428" name="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431" name="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49080" y="2439720"/>
            <a:ext cx="71485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dt" idx="28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29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30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88BF-B907-4F72-96E0-542603B479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4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6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dt" idx="3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3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3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EC98-0D3A-431F-9D65-9436CD07E293}" type="slidenum">
              <a:rPr b="0" lang="zh-CN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519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0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dt" idx="3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3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3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05E4-EF6B-4873-865E-E9C13D2C6965}" type="slidenum">
              <a:rPr b="0" lang="zh-CN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DF28-E580-4978-8B64-ADFD426B95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240" y="0"/>
            <a:ext cx="9137520" cy="6853320"/>
            <a:chOff x="3240" y="0"/>
            <a:chExt cx="9137520" cy="6853320"/>
          </a:xfrm>
        </p:grpSpPr>
        <p:sp>
          <p:nvSpPr>
            <p:cNvPr id="83" name="未知"/>
            <p:cNvSpPr/>
            <p:nvPr/>
          </p:nvSpPr>
          <p:spPr>
            <a:xfrm>
              <a:off x="3240" y="0"/>
              <a:ext cx="8391600" cy="2222640"/>
            </a:xfrm>
            <a:custGeom>
              <a:avLst/>
              <a:gdLst/>
              <a:ahLst/>
              <a:rect l="l" t="t" r="r" b="b"/>
              <a:pathLst>
                <a:path w="15857" h="4199">
                  <a:moveTo>
                    <a:pt x="0" y="4199"/>
                  </a:moveTo>
                  <a:lnTo>
                    <a:pt x="112" y="3894"/>
                  </a:lnTo>
                  <a:lnTo>
                    <a:pt x="252" y="3603"/>
                  </a:lnTo>
                  <a:lnTo>
                    <a:pt x="421" y="3327"/>
                  </a:lnTo>
                  <a:lnTo>
                    <a:pt x="618" y="3066"/>
                  </a:lnTo>
                  <a:lnTo>
                    <a:pt x="843" y="2817"/>
                  </a:lnTo>
                  <a:lnTo>
                    <a:pt x="1096" y="2582"/>
                  </a:lnTo>
                  <a:lnTo>
                    <a:pt x="1375" y="2360"/>
                  </a:lnTo>
                  <a:lnTo>
                    <a:pt x="1681" y="2151"/>
                  </a:lnTo>
                  <a:lnTo>
                    <a:pt x="2014" y="1953"/>
                  </a:lnTo>
                  <a:lnTo>
                    <a:pt x="2371" y="1768"/>
                  </a:lnTo>
                  <a:lnTo>
                    <a:pt x="2754" y="1594"/>
                  </a:lnTo>
                  <a:lnTo>
                    <a:pt x="3163" y="1432"/>
                  </a:lnTo>
                  <a:lnTo>
                    <a:pt x="3595" y="1280"/>
                  </a:lnTo>
                  <a:lnTo>
                    <a:pt x="4052" y="1140"/>
                  </a:lnTo>
                  <a:lnTo>
                    <a:pt x="4531" y="1009"/>
                  </a:lnTo>
                  <a:lnTo>
                    <a:pt x="5034" y="888"/>
                  </a:lnTo>
                  <a:lnTo>
                    <a:pt x="5559" y="776"/>
                  </a:lnTo>
                  <a:lnTo>
                    <a:pt x="6107" y="673"/>
                  </a:lnTo>
                  <a:lnTo>
                    <a:pt x="6676" y="580"/>
                  </a:lnTo>
                  <a:lnTo>
                    <a:pt x="7267" y="495"/>
                  </a:lnTo>
                  <a:lnTo>
                    <a:pt x="7879" y="417"/>
                  </a:lnTo>
                  <a:lnTo>
                    <a:pt x="8511" y="348"/>
                  </a:lnTo>
                  <a:lnTo>
                    <a:pt x="9162" y="286"/>
                  </a:lnTo>
                  <a:lnTo>
                    <a:pt x="9834" y="231"/>
                  </a:lnTo>
                  <a:lnTo>
                    <a:pt x="10525" y="183"/>
                  </a:lnTo>
                  <a:lnTo>
                    <a:pt x="11234" y="140"/>
                  </a:lnTo>
                  <a:lnTo>
                    <a:pt x="11961" y="104"/>
                  </a:lnTo>
                  <a:lnTo>
                    <a:pt x="12707" y="73"/>
                  </a:lnTo>
                  <a:lnTo>
                    <a:pt x="13469" y="48"/>
                  </a:lnTo>
                  <a:lnTo>
                    <a:pt x="14249" y="27"/>
                  </a:lnTo>
                  <a:lnTo>
                    <a:pt x="15045" y="12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4199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3240" y="0"/>
              <a:ext cx="8391600" cy="1836720"/>
            </a:xfrm>
            <a:custGeom>
              <a:avLst/>
              <a:gdLst/>
              <a:ahLst/>
              <a:rect l="l" t="t" r="r" b="b"/>
              <a:pathLst>
                <a:path w="15857" h="3472">
                  <a:moveTo>
                    <a:pt x="0" y="3472"/>
                  </a:moveTo>
                  <a:lnTo>
                    <a:pt x="123" y="3202"/>
                  </a:lnTo>
                  <a:lnTo>
                    <a:pt x="272" y="2945"/>
                  </a:lnTo>
                  <a:lnTo>
                    <a:pt x="449" y="2703"/>
                  </a:lnTo>
                  <a:lnTo>
                    <a:pt x="652" y="2475"/>
                  </a:lnTo>
                  <a:lnTo>
                    <a:pt x="883" y="2260"/>
                  </a:lnTo>
                  <a:lnTo>
                    <a:pt x="1140" y="2059"/>
                  </a:lnTo>
                  <a:lnTo>
                    <a:pt x="1423" y="1869"/>
                  </a:lnTo>
                  <a:lnTo>
                    <a:pt x="1732" y="1692"/>
                  </a:lnTo>
                  <a:lnTo>
                    <a:pt x="2065" y="1526"/>
                  </a:lnTo>
                  <a:lnTo>
                    <a:pt x="2424" y="1373"/>
                  </a:lnTo>
                  <a:lnTo>
                    <a:pt x="2807" y="1229"/>
                  </a:lnTo>
                  <a:lnTo>
                    <a:pt x="3215" y="1096"/>
                  </a:lnTo>
                  <a:lnTo>
                    <a:pt x="3647" y="974"/>
                  </a:lnTo>
                  <a:lnTo>
                    <a:pt x="4101" y="861"/>
                  </a:lnTo>
                  <a:lnTo>
                    <a:pt x="4579" y="757"/>
                  </a:lnTo>
                  <a:lnTo>
                    <a:pt x="5079" y="662"/>
                  </a:lnTo>
                  <a:lnTo>
                    <a:pt x="5601" y="576"/>
                  </a:lnTo>
                  <a:lnTo>
                    <a:pt x="6146" y="497"/>
                  </a:lnTo>
                  <a:lnTo>
                    <a:pt x="6712" y="426"/>
                  </a:lnTo>
                  <a:lnTo>
                    <a:pt x="7298" y="362"/>
                  </a:lnTo>
                  <a:lnTo>
                    <a:pt x="7906" y="305"/>
                  </a:lnTo>
                  <a:lnTo>
                    <a:pt x="8535" y="254"/>
                  </a:lnTo>
                  <a:lnTo>
                    <a:pt x="9183" y="208"/>
                  </a:lnTo>
                  <a:lnTo>
                    <a:pt x="9851" y="169"/>
                  </a:lnTo>
                  <a:lnTo>
                    <a:pt x="10538" y="134"/>
                  </a:lnTo>
                  <a:lnTo>
                    <a:pt x="11244" y="105"/>
                  </a:lnTo>
                  <a:lnTo>
                    <a:pt x="11969" y="79"/>
                  </a:lnTo>
                  <a:lnTo>
                    <a:pt x="12712" y="57"/>
                  </a:lnTo>
                  <a:lnTo>
                    <a:pt x="13472" y="39"/>
                  </a:lnTo>
                  <a:lnTo>
                    <a:pt x="14250" y="24"/>
                  </a:lnTo>
                  <a:lnTo>
                    <a:pt x="15046" y="11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3472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5191200" y="5148360"/>
              <a:ext cx="3949560" cy="1704960"/>
            </a:xfrm>
            <a:custGeom>
              <a:avLst/>
              <a:gdLst/>
              <a:ahLst/>
              <a:rect l="l" t="t" r="r" b="b"/>
              <a:pathLst>
                <a:path w="7465" h="3223">
                  <a:moveTo>
                    <a:pt x="7465" y="0"/>
                  </a:moveTo>
                  <a:lnTo>
                    <a:pt x="7413" y="235"/>
                  </a:lnTo>
                  <a:lnTo>
                    <a:pt x="7347" y="457"/>
                  </a:lnTo>
                  <a:lnTo>
                    <a:pt x="7267" y="670"/>
                  </a:lnTo>
                  <a:lnTo>
                    <a:pt x="7174" y="871"/>
                  </a:lnTo>
                  <a:lnTo>
                    <a:pt x="7068" y="1061"/>
                  </a:lnTo>
                  <a:lnTo>
                    <a:pt x="6949" y="1241"/>
                  </a:lnTo>
                  <a:lnTo>
                    <a:pt x="6818" y="1412"/>
                  </a:lnTo>
                  <a:lnTo>
                    <a:pt x="6674" y="1573"/>
                  </a:lnTo>
                  <a:lnTo>
                    <a:pt x="6517" y="1724"/>
                  </a:lnTo>
                  <a:lnTo>
                    <a:pt x="6349" y="1867"/>
                  </a:lnTo>
                  <a:lnTo>
                    <a:pt x="6169" y="2000"/>
                  </a:lnTo>
                  <a:lnTo>
                    <a:pt x="5976" y="2125"/>
                  </a:lnTo>
                  <a:lnTo>
                    <a:pt x="5773" y="2240"/>
                  </a:lnTo>
                  <a:lnTo>
                    <a:pt x="5558" y="2350"/>
                  </a:lnTo>
                  <a:lnTo>
                    <a:pt x="5332" y="2450"/>
                  </a:lnTo>
                  <a:lnTo>
                    <a:pt x="5095" y="2543"/>
                  </a:lnTo>
                  <a:lnTo>
                    <a:pt x="4848" y="2628"/>
                  </a:lnTo>
                  <a:lnTo>
                    <a:pt x="4590" y="2707"/>
                  </a:lnTo>
                  <a:lnTo>
                    <a:pt x="4322" y="2778"/>
                  </a:lnTo>
                  <a:lnTo>
                    <a:pt x="4044" y="2844"/>
                  </a:lnTo>
                  <a:lnTo>
                    <a:pt x="3756" y="2904"/>
                  </a:lnTo>
                  <a:lnTo>
                    <a:pt x="3459" y="2957"/>
                  </a:lnTo>
                  <a:lnTo>
                    <a:pt x="3151" y="3004"/>
                  </a:lnTo>
                  <a:lnTo>
                    <a:pt x="2836" y="3046"/>
                  </a:lnTo>
                  <a:lnTo>
                    <a:pt x="2511" y="3084"/>
                  </a:lnTo>
                  <a:lnTo>
                    <a:pt x="2176" y="3117"/>
                  </a:lnTo>
                  <a:lnTo>
                    <a:pt x="1833" y="3144"/>
                  </a:lnTo>
                  <a:lnTo>
                    <a:pt x="1482" y="3167"/>
                  </a:lnTo>
                  <a:lnTo>
                    <a:pt x="1124" y="3187"/>
                  </a:lnTo>
                  <a:lnTo>
                    <a:pt x="757" y="3203"/>
                  </a:lnTo>
                  <a:lnTo>
                    <a:pt x="382" y="3215"/>
                  </a:lnTo>
                  <a:lnTo>
                    <a:pt x="0" y="3223"/>
                  </a:lnTo>
                  <a:lnTo>
                    <a:pt x="7465" y="3223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191200" y="5443560"/>
              <a:ext cx="3949560" cy="1409760"/>
            </a:xfrm>
            <a:custGeom>
              <a:avLst/>
              <a:gdLst/>
              <a:ahLst/>
              <a:rect l="l" t="t" r="r" b="b"/>
              <a:pathLst>
                <a:path w="7465" h="2664">
                  <a:moveTo>
                    <a:pt x="7465" y="0"/>
                  </a:moveTo>
                  <a:lnTo>
                    <a:pt x="7407" y="207"/>
                  </a:lnTo>
                  <a:lnTo>
                    <a:pt x="7337" y="404"/>
                  </a:lnTo>
                  <a:lnTo>
                    <a:pt x="7254" y="589"/>
                  </a:lnTo>
                  <a:lnTo>
                    <a:pt x="7158" y="764"/>
                  </a:lnTo>
                  <a:lnTo>
                    <a:pt x="7050" y="930"/>
                  </a:lnTo>
                  <a:lnTo>
                    <a:pt x="6929" y="1084"/>
                  </a:lnTo>
                  <a:lnTo>
                    <a:pt x="6795" y="1230"/>
                  </a:lnTo>
                  <a:lnTo>
                    <a:pt x="6650" y="1366"/>
                  </a:lnTo>
                  <a:lnTo>
                    <a:pt x="6493" y="1492"/>
                  </a:lnTo>
                  <a:lnTo>
                    <a:pt x="6324" y="1611"/>
                  </a:lnTo>
                  <a:lnTo>
                    <a:pt x="6144" y="1721"/>
                  </a:lnTo>
                  <a:lnTo>
                    <a:pt x="5951" y="1823"/>
                  </a:lnTo>
                  <a:lnTo>
                    <a:pt x="5748" y="1917"/>
                  </a:lnTo>
                  <a:lnTo>
                    <a:pt x="5535" y="2004"/>
                  </a:lnTo>
                  <a:lnTo>
                    <a:pt x="5310" y="2083"/>
                  </a:lnTo>
                  <a:lnTo>
                    <a:pt x="5074" y="2157"/>
                  </a:lnTo>
                  <a:lnTo>
                    <a:pt x="4828" y="2223"/>
                  </a:lnTo>
                  <a:lnTo>
                    <a:pt x="4572" y="2283"/>
                  </a:lnTo>
                  <a:lnTo>
                    <a:pt x="4306" y="2338"/>
                  </a:lnTo>
                  <a:lnTo>
                    <a:pt x="4029" y="2387"/>
                  </a:lnTo>
                  <a:lnTo>
                    <a:pt x="3743" y="2431"/>
                  </a:lnTo>
                  <a:lnTo>
                    <a:pt x="3447" y="2470"/>
                  </a:lnTo>
                  <a:lnTo>
                    <a:pt x="3142" y="2505"/>
                  </a:lnTo>
                  <a:lnTo>
                    <a:pt x="2827" y="2535"/>
                  </a:lnTo>
                  <a:lnTo>
                    <a:pt x="2504" y="2562"/>
                  </a:lnTo>
                  <a:lnTo>
                    <a:pt x="2171" y="2585"/>
                  </a:lnTo>
                  <a:lnTo>
                    <a:pt x="1830" y="2604"/>
                  </a:lnTo>
                  <a:lnTo>
                    <a:pt x="1480" y="2621"/>
                  </a:lnTo>
                  <a:lnTo>
                    <a:pt x="1123" y="2635"/>
                  </a:lnTo>
                  <a:lnTo>
                    <a:pt x="756" y="2647"/>
                  </a:lnTo>
                  <a:lnTo>
                    <a:pt x="382" y="2657"/>
                  </a:lnTo>
                  <a:lnTo>
                    <a:pt x="0" y="2664"/>
                  </a:lnTo>
                  <a:lnTo>
                    <a:pt x="7465" y="2664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5DBD-554C-4E43-B7CC-AEE8DC118C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1440"/>
            <a:ext cx="9131400" cy="6843960"/>
            <a:chOff x="0" y="1440"/>
            <a:chExt cx="9131400" cy="6843960"/>
          </a:xfrm>
        </p:grpSpPr>
        <p:sp>
          <p:nvSpPr>
            <p:cNvPr id="129" name=""/>
            <p:cNvSpPr/>
            <p:nvPr/>
          </p:nvSpPr>
          <p:spPr>
            <a:xfrm>
              <a:off x="0" y="1440"/>
              <a:ext cx="9128160" cy="6843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4680" y="1454040"/>
              <a:ext cx="9126720" cy="5389560"/>
            </a:xfrm>
            <a:custGeom>
              <a:avLst/>
              <a:gdLst/>
              <a:ahLst/>
              <a:rect l="l" t="t" r="r" b="b"/>
              <a:pathLst>
                <a:path w="17249" h="10185">
                  <a:moveTo>
                    <a:pt x="0" y="0"/>
                  </a:moveTo>
                  <a:lnTo>
                    <a:pt x="121" y="741"/>
                  </a:lnTo>
                  <a:lnTo>
                    <a:pt x="273" y="1445"/>
                  </a:lnTo>
                  <a:lnTo>
                    <a:pt x="456" y="2114"/>
                  </a:lnTo>
                  <a:lnTo>
                    <a:pt x="671" y="2750"/>
                  </a:lnTo>
                  <a:lnTo>
                    <a:pt x="916" y="3353"/>
                  </a:lnTo>
                  <a:lnTo>
                    <a:pt x="1191" y="3923"/>
                  </a:lnTo>
                  <a:lnTo>
                    <a:pt x="1495" y="4461"/>
                  </a:lnTo>
                  <a:lnTo>
                    <a:pt x="1828" y="4969"/>
                  </a:lnTo>
                  <a:lnTo>
                    <a:pt x="2190" y="5448"/>
                  </a:lnTo>
                  <a:lnTo>
                    <a:pt x="2579" y="5897"/>
                  </a:lnTo>
                  <a:lnTo>
                    <a:pt x="2995" y="6318"/>
                  </a:lnTo>
                  <a:lnTo>
                    <a:pt x="3439" y="6711"/>
                  </a:lnTo>
                  <a:lnTo>
                    <a:pt x="3910" y="7079"/>
                  </a:lnTo>
                  <a:lnTo>
                    <a:pt x="4406" y="7421"/>
                  </a:lnTo>
                  <a:lnTo>
                    <a:pt x="4928" y="7738"/>
                  </a:lnTo>
                  <a:lnTo>
                    <a:pt x="5475" y="8032"/>
                  </a:lnTo>
                  <a:lnTo>
                    <a:pt x="6046" y="8303"/>
                  </a:lnTo>
                  <a:lnTo>
                    <a:pt x="6643" y="8551"/>
                  </a:lnTo>
                  <a:lnTo>
                    <a:pt x="7261" y="8778"/>
                  </a:lnTo>
                  <a:lnTo>
                    <a:pt x="7904" y="8985"/>
                  </a:lnTo>
                  <a:lnTo>
                    <a:pt x="8569" y="9172"/>
                  </a:lnTo>
                  <a:lnTo>
                    <a:pt x="9257" y="9341"/>
                  </a:lnTo>
                  <a:lnTo>
                    <a:pt x="9966" y="9492"/>
                  </a:lnTo>
                  <a:lnTo>
                    <a:pt x="10697" y="9626"/>
                  </a:lnTo>
                  <a:lnTo>
                    <a:pt x="11448" y="9742"/>
                  </a:lnTo>
                  <a:lnTo>
                    <a:pt x="12220" y="9845"/>
                  </a:lnTo>
                  <a:lnTo>
                    <a:pt x="13011" y="9932"/>
                  </a:lnTo>
                  <a:lnTo>
                    <a:pt x="13821" y="10007"/>
                  </a:lnTo>
                  <a:lnTo>
                    <a:pt x="14652" y="10068"/>
                  </a:lnTo>
                  <a:lnTo>
                    <a:pt x="15500" y="10118"/>
                  </a:lnTo>
                  <a:lnTo>
                    <a:pt x="16366" y="10156"/>
                  </a:lnTo>
                  <a:lnTo>
                    <a:pt x="17249" y="10185"/>
                  </a:lnTo>
                  <a:lnTo>
                    <a:pt x="0" y="10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4680" y="2389320"/>
              <a:ext cx="9126720" cy="4454280"/>
            </a:xfrm>
            <a:custGeom>
              <a:avLst/>
              <a:gdLst/>
              <a:ahLst/>
              <a:rect l="l" t="t" r="r" b="b"/>
              <a:pathLst>
                <a:path w="17249" h="8420">
                  <a:moveTo>
                    <a:pt x="0" y="0"/>
                  </a:moveTo>
                  <a:lnTo>
                    <a:pt x="132" y="656"/>
                  </a:lnTo>
                  <a:lnTo>
                    <a:pt x="294" y="1277"/>
                  </a:lnTo>
                  <a:lnTo>
                    <a:pt x="487" y="1863"/>
                  </a:lnTo>
                  <a:lnTo>
                    <a:pt x="708" y="2417"/>
                  </a:lnTo>
                  <a:lnTo>
                    <a:pt x="960" y="2938"/>
                  </a:lnTo>
                  <a:lnTo>
                    <a:pt x="1239" y="3427"/>
                  </a:lnTo>
                  <a:lnTo>
                    <a:pt x="1547" y="3886"/>
                  </a:lnTo>
                  <a:lnTo>
                    <a:pt x="1883" y="4316"/>
                  </a:lnTo>
                  <a:lnTo>
                    <a:pt x="2246" y="4717"/>
                  </a:lnTo>
                  <a:lnTo>
                    <a:pt x="2636" y="5091"/>
                  </a:lnTo>
                  <a:lnTo>
                    <a:pt x="3053" y="5438"/>
                  </a:lnTo>
                  <a:lnTo>
                    <a:pt x="3497" y="5760"/>
                  </a:lnTo>
                  <a:lnTo>
                    <a:pt x="3965" y="6057"/>
                  </a:lnTo>
                  <a:lnTo>
                    <a:pt x="4460" y="6332"/>
                  </a:lnTo>
                  <a:lnTo>
                    <a:pt x="4979" y="6583"/>
                  </a:lnTo>
                  <a:lnTo>
                    <a:pt x="5524" y="6814"/>
                  </a:lnTo>
                  <a:lnTo>
                    <a:pt x="6092" y="7024"/>
                  </a:lnTo>
                  <a:lnTo>
                    <a:pt x="6685" y="7215"/>
                  </a:lnTo>
                  <a:lnTo>
                    <a:pt x="7300" y="7388"/>
                  </a:lnTo>
                  <a:lnTo>
                    <a:pt x="7939" y="7543"/>
                  </a:lnTo>
                  <a:lnTo>
                    <a:pt x="8600" y="7681"/>
                  </a:lnTo>
                  <a:lnTo>
                    <a:pt x="9283" y="7806"/>
                  </a:lnTo>
                  <a:lnTo>
                    <a:pt x="9988" y="7915"/>
                  </a:lnTo>
                  <a:lnTo>
                    <a:pt x="10715" y="8010"/>
                  </a:lnTo>
                  <a:lnTo>
                    <a:pt x="11463" y="8094"/>
                  </a:lnTo>
                  <a:lnTo>
                    <a:pt x="12231" y="8166"/>
                  </a:lnTo>
                  <a:lnTo>
                    <a:pt x="13019" y="8228"/>
                  </a:lnTo>
                  <a:lnTo>
                    <a:pt x="13827" y="8281"/>
                  </a:lnTo>
                  <a:lnTo>
                    <a:pt x="14654" y="8325"/>
                  </a:lnTo>
                  <a:lnTo>
                    <a:pt x="15501" y="8363"/>
                  </a:lnTo>
                  <a:lnTo>
                    <a:pt x="16366" y="8394"/>
                  </a:lnTo>
                  <a:lnTo>
                    <a:pt x="17249" y="8420"/>
                  </a:lnTo>
                  <a:lnTo>
                    <a:pt x="0" y="8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3135240" y="4680"/>
              <a:ext cx="5989680" cy="3086280"/>
            </a:xfrm>
            <a:custGeom>
              <a:avLst/>
              <a:gdLst/>
              <a:ahLst/>
              <a:rect l="l" t="t" r="r" b="b"/>
              <a:pathLst>
                <a:path w="11319" h="5832">
                  <a:moveTo>
                    <a:pt x="11319" y="5832"/>
                  </a:moveTo>
                  <a:lnTo>
                    <a:pt x="11239" y="5407"/>
                  </a:lnTo>
                  <a:lnTo>
                    <a:pt x="11140" y="5004"/>
                  </a:lnTo>
                  <a:lnTo>
                    <a:pt x="11019" y="4621"/>
                  </a:lnTo>
                  <a:lnTo>
                    <a:pt x="10879" y="4257"/>
                  </a:lnTo>
                  <a:lnTo>
                    <a:pt x="10718" y="3912"/>
                  </a:lnTo>
                  <a:lnTo>
                    <a:pt x="10537" y="3586"/>
                  </a:lnTo>
                  <a:lnTo>
                    <a:pt x="10338" y="3277"/>
                  </a:lnTo>
                  <a:lnTo>
                    <a:pt x="10119" y="2986"/>
                  </a:lnTo>
                  <a:lnTo>
                    <a:pt x="9882" y="2712"/>
                  </a:lnTo>
                  <a:lnTo>
                    <a:pt x="9627" y="2455"/>
                  </a:lnTo>
                  <a:lnTo>
                    <a:pt x="9353" y="2214"/>
                  </a:lnTo>
                  <a:lnTo>
                    <a:pt x="9062" y="1989"/>
                  </a:lnTo>
                  <a:lnTo>
                    <a:pt x="8753" y="1778"/>
                  </a:lnTo>
                  <a:lnTo>
                    <a:pt x="8427" y="1583"/>
                  </a:lnTo>
                  <a:lnTo>
                    <a:pt x="8085" y="1400"/>
                  </a:lnTo>
                  <a:lnTo>
                    <a:pt x="7726" y="1233"/>
                  </a:lnTo>
                  <a:lnTo>
                    <a:pt x="7351" y="1077"/>
                  </a:lnTo>
                  <a:lnTo>
                    <a:pt x="6960" y="935"/>
                  </a:lnTo>
                  <a:lnTo>
                    <a:pt x="6553" y="805"/>
                  </a:lnTo>
                  <a:lnTo>
                    <a:pt x="6132" y="686"/>
                  </a:lnTo>
                  <a:lnTo>
                    <a:pt x="5696" y="579"/>
                  </a:lnTo>
                  <a:lnTo>
                    <a:pt x="5244" y="483"/>
                  </a:lnTo>
                  <a:lnTo>
                    <a:pt x="4779" y="397"/>
                  </a:lnTo>
                  <a:lnTo>
                    <a:pt x="4299" y="320"/>
                  </a:lnTo>
                  <a:lnTo>
                    <a:pt x="3807" y="253"/>
                  </a:lnTo>
                  <a:lnTo>
                    <a:pt x="3300" y="194"/>
                  </a:lnTo>
                  <a:lnTo>
                    <a:pt x="2781" y="144"/>
                  </a:lnTo>
                  <a:lnTo>
                    <a:pt x="2250" y="101"/>
                  </a:lnTo>
                  <a:lnTo>
                    <a:pt x="1704" y="67"/>
                  </a:lnTo>
                  <a:lnTo>
                    <a:pt x="1148" y="38"/>
                  </a:lnTo>
                  <a:lnTo>
                    <a:pt x="580" y="16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5832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3135240" y="4680"/>
              <a:ext cx="5989680" cy="2551320"/>
            </a:xfrm>
            <a:custGeom>
              <a:avLst/>
              <a:gdLst/>
              <a:ahLst/>
              <a:rect l="l" t="t" r="r" b="b"/>
              <a:pathLst>
                <a:path w="11319" h="4822">
                  <a:moveTo>
                    <a:pt x="11319" y="4822"/>
                  </a:moveTo>
                  <a:lnTo>
                    <a:pt x="11232" y="4446"/>
                  </a:lnTo>
                  <a:lnTo>
                    <a:pt x="11126" y="4090"/>
                  </a:lnTo>
                  <a:lnTo>
                    <a:pt x="11000" y="3754"/>
                  </a:lnTo>
                  <a:lnTo>
                    <a:pt x="10854" y="3438"/>
                  </a:lnTo>
                  <a:lnTo>
                    <a:pt x="10689" y="3139"/>
                  </a:lnTo>
                  <a:lnTo>
                    <a:pt x="10506" y="2859"/>
                  </a:lnTo>
                  <a:lnTo>
                    <a:pt x="10304" y="2595"/>
                  </a:lnTo>
                  <a:lnTo>
                    <a:pt x="10084" y="2350"/>
                  </a:lnTo>
                  <a:lnTo>
                    <a:pt x="9845" y="2120"/>
                  </a:lnTo>
                  <a:lnTo>
                    <a:pt x="9589" y="1907"/>
                  </a:lnTo>
                  <a:lnTo>
                    <a:pt x="9315" y="1707"/>
                  </a:lnTo>
                  <a:lnTo>
                    <a:pt x="9024" y="1523"/>
                  </a:lnTo>
                  <a:lnTo>
                    <a:pt x="8717" y="1353"/>
                  </a:lnTo>
                  <a:lnTo>
                    <a:pt x="8393" y="1195"/>
                  </a:lnTo>
                  <a:lnTo>
                    <a:pt x="8051" y="1051"/>
                  </a:lnTo>
                  <a:lnTo>
                    <a:pt x="7694" y="920"/>
                  </a:lnTo>
                  <a:lnTo>
                    <a:pt x="7321" y="799"/>
                  </a:lnTo>
                  <a:lnTo>
                    <a:pt x="6932" y="690"/>
                  </a:lnTo>
                  <a:lnTo>
                    <a:pt x="6528" y="590"/>
                  </a:lnTo>
                  <a:lnTo>
                    <a:pt x="6109" y="502"/>
                  </a:lnTo>
                  <a:lnTo>
                    <a:pt x="5675" y="423"/>
                  </a:lnTo>
                  <a:lnTo>
                    <a:pt x="5227" y="352"/>
                  </a:lnTo>
                  <a:lnTo>
                    <a:pt x="4765" y="289"/>
                  </a:lnTo>
                  <a:lnTo>
                    <a:pt x="4287" y="234"/>
                  </a:lnTo>
                  <a:lnTo>
                    <a:pt x="3797" y="186"/>
                  </a:lnTo>
                  <a:lnTo>
                    <a:pt x="3293" y="145"/>
                  </a:lnTo>
                  <a:lnTo>
                    <a:pt x="2775" y="110"/>
                  </a:lnTo>
                  <a:lnTo>
                    <a:pt x="2245" y="79"/>
                  </a:lnTo>
                  <a:lnTo>
                    <a:pt x="1703" y="54"/>
                  </a:lnTo>
                  <a:lnTo>
                    <a:pt x="1147" y="32"/>
                  </a:lnTo>
                  <a:lnTo>
                    <a:pt x="580" y="15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4822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9480" y="6070680"/>
              <a:ext cx="270000" cy="361800"/>
            </a:xfrm>
            <a:prstGeom prst="rect">
              <a:avLst/>
            </a:prstGeom>
            <a:solidFill>
              <a:srgbClr val="42b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91640" y="6070680"/>
              <a:ext cx="387360" cy="361800"/>
            </a:xfrm>
            <a:prstGeom prst="rect">
              <a:avLst/>
            </a:prstGeom>
            <a:solidFill>
              <a:srgbClr val="009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53360" y="6070680"/>
              <a:ext cx="185760" cy="361800"/>
            </a:xfrm>
            <a:prstGeom prst="rect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88440" y="5872320"/>
              <a:ext cx="388800" cy="758520"/>
            </a:xfrm>
            <a:custGeom>
              <a:avLst/>
              <a:gdLst/>
              <a:ahLst/>
              <a:rect l="l" t="t" r="r" b="b"/>
              <a:pathLst>
                <a:path w="736" h="1435">
                  <a:moveTo>
                    <a:pt x="0" y="0"/>
                  </a:moveTo>
                  <a:lnTo>
                    <a:pt x="736" y="716"/>
                  </a:lnTo>
                  <a:lnTo>
                    <a:pt x="0" y="14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1144440" y="334800"/>
              <a:ext cx="203400" cy="203400"/>
            </a:xfrm>
            <a:custGeom>
              <a:avLst/>
              <a:gdLst/>
              <a:ahLst/>
              <a:rect l="l" t="t" r="r" b="b"/>
              <a:pathLst>
                <a:path w="386" h="386">
                  <a:moveTo>
                    <a:pt x="386" y="193"/>
                  </a:moveTo>
                  <a:lnTo>
                    <a:pt x="386" y="174"/>
                  </a:lnTo>
                  <a:lnTo>
                    <a:pt x="382" y="154"/>
                  </a:lnTo>
                  <a:lnTo>
                    <a:pt x="377" y="136"/>
                  </a:lnTo>
                  <a:lnTo>
                    <a:pt x="371" y="117"/>
                  </a:lnTo>
                  <a:lnTo>
                    <a:pt x="363" y="101"/>
                  </a:lnTo>
                  <a:lnTo>
                    <a:pt x="353" y="85"/>
                  </a:lnTo>
                  <a:lnTo>
                    <a:pt x="343" y="70"/>
                  </a:lnTo>
                  <a:lnTo>
                    <a:pt x="330" y="56"/>
                  </a:lnTo>
                  <a:lnTo>
                    <a:pt x="316" y="44"/>
                  </a:lnTo>
                  <a:lnTo>
                    <a:pt x="300" y="32"/>
                  </a:lnTo>
                  <a:lnTo>
                    <a:pt x="285" y="23"/>
                  </a:lnTo>
                  <a:lnTo>
                    <a:pt x="268" y="15"/>
                  </a:lnTo>
                  <a:lnTo>
                    <a:pt x="251" y="8"/>
                  </a:lnTo>
                  <a:lnTo>
                    <a:pt x="232" y="4"/>
                  </a:lnTo>
                  <a:lnTo>
                    <a:pt x="213" y="1"/>
                  </a:lnTo>
                  <a:lnTo>
                    <a:pt x="193" y="0"/>
                  </a:lnTo>
                  <a:lnTo>
                    <a:pt x="173" y="1"/>
                  </a:lnTo>
                  <a:lnTo>
                    <a:pt x="155" y="4"/>
                  </a:lnTo>
                  <a:lnTo>
                    <a:pt x="135" y="8"/>
                  </a:lnTo>
                  <a:lnTo>
                    <a:pt x="118" y="15"/>
                  </a:lnTo>
                  <a:lnTo>
                    <a:pt x="101" y="23"/>
                  </a:lnTo>
                  <a:lnTo>
                    <a:pt x="85" y="32"/>
                  </a:lnTo>
                  <a:lnTo>
                    <a:pt x="70" y="44"/>
                  </a:lnTo>
                  <a:lnTo>
                    <a:pt x="56" y="56"/>
                  </a:lnTo>
                  <a:lnTo>
                    <a:pt x="44" y="70"/>
                  </a:lnTo>
                  <a:lnTo>
                    <a:pt x="33" y="85"/>
                  </a:lnTo>
                  <a:lnTo>
                    <a:pt x="23" y="101"/>
                  </a:lnTo>
                  <a:lnTo>
                    <a:pt x="15" y="117"/>
                  </a:lnTo>
                  <a:lnTo>
                    <a:pt x="9" y="136"/>
                  </a:lnTo>
                  <a:lnTo>
                    <a:pt x="3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2"/>
                  </a:lnTo>
                  <a:lnTo>
                    <a:pt x="3" y="232"/>
                  </a:lnTo>
                  <a:lnTo>
                    <a:pt x="9" y="250"/>
                  </a:lnTo>
                  <a:lnTo>
                    <a:pt x="15" y="267"/>
                  </a:lnTo>
                  <a:lnTo>
                    <a:pt x="23" y="285"/>
                  </a:lnTo>
                  <a:lnTo>
                    <a:pt x="33" y="301"/>
                  </a:lnTo>
                  <a:lnTo>
                    <a:pt x="44" y="315"/>
                  </a:lnTo>
                  <a:lnTo>
                    <a:pt x="56" y="329"/>
                  </a:lnTo>
                  <a:lnTo>
                    <a:pt x="70" y="342"/>
                  </a:lnTo>
                  <a:lnTo>
                    <a:pt x="85" y="353"/>
                  </a:lnTo>
                  <a:lnTo>
                    <a:pt x="101" y="363"/>
                  </a:lnTo>
                  <a:lnTo>
                    <a:pt x="118" y="371"/>
                  </a:lnTo>
                  <a:lnTo>
                    <a:pt x="135" y="378"/>
                  </a:lnTo>
                  <a:lnTo>
                    <a:pt x="155" y="382"/>
                  </a:lnTo>
                  <a:lnTo>
                    <a:pt x="173" y="385"/>
                  </a:lnTo>
                  <a:lnTo>
                    <a:pt x="193" y="386"/>
                  </a:lnTo>
                  <a:lnTo>
                    <a:pt x="213" y="385"/>
                  </a:lnTo>
                  <a:lnTo>
                    <a:pt x="232" y="382"/>
                  </a:lnTo>
                  <a:lnTo>
                    <a:pt x="251" y="378"/>
                  </a:lnTo>
                  <a:lnTo>
                    <a:pt x="268" y="371"/>
                  </a:lnTo>
                  <a:lnTo>
                    <a:pt x="285" y="363"/>
                  </a:lnTo>
                  <a:lnTo>
                    <a:pt x="300" y="353"/>
                  </a:lnTo>
                  <a:lnTo>
                    <a:pt x="316" y="342"/>
                  </a:lnTo>
                  <a:lnTo>
                    <a:pt x="330" y="329"/>
                  </a:lnTo>
                  <a:lnTo>
                    <a:pt x="343" y="315"/>
                  </a:lnTo>
                  <a:lnTo>
                    <a:pt x="353" y="301"/>
                  </a:lnTo>
                  <a:lnTo>
                    <a:pt x="363" y="285"/>
                  </a:lnTo>
                  <a:lnTo>
                    <a:pt x="371" y="267"/>
                  </a:lnTo>
                  <a:lnTo>
                    <a:pt x="377" y="250"/>
                  </a:lnTo>
                  <a:lnTo>
                    <a:pt x="382" y="232"/>
                  </a:lnTo>
                  <a:lnTo>
                    <a:pt x="386" y="212"/>
                  </a:lnTo>
                  <a:lnTo>
                    <a:pt x="386" y="193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693720" y="314280"/>
              <a:ext cx="246240" cy="244440"/>
            </a:xfrm>
            <a:custGeom>
              <a:avLst/>
              <a:gdLst/>
              <a:ahLst/>
              <a:rect l="l" t="t" r="r" b="b"/>
              <a:pathLst>
                <a:path w="465" h="463">
                  <a:moveTo>
                    <a:pt x="465" y="232"/>
                  </a:moveTo>
                  <a:lnTo>
                    <a:pt x="465" y="220"/>
                  </a:lnTo>
                  <a:lnTo>
                    <a:pt x="464" y="208"/>
                  </a:lnTo>
                  <a:lnTo>
                    <a:pt x="461" y="196"/>
                  </a:lnTo>
                  <a:lnTo>
                    <a:pt x="460" y="186"/>
                  </a:lnTo>
                  <a:lnTo>
                    <a:pt x="457" y="174"/>
                  </a:lnTo>
                  <a:lnTo>
                    <a:pt x="454" y="163"/>
                  </a:lnTo>
                  <a:lnTo>
                    <a:pt x="451" y="152"/>
                  </a:lnTo>
                  <a:lnTo>
                    <a:pt x="446" y="141"/>
                  </a:lnTo>
                  <a:lnTo>
                    <a:pt x="442" y="132"/>
                  </a:lnTo>
                  <a:lnTo>
                    <a:pt x="437" y="122"/>
                  </a:lnTo>
                  <a:lnTo>
                    <a:pt x="431" y="112"/>
                  </a:lnTo>
                  <a:lnTo>
                    <a:pt x="425" y="102"/>
                  </a:lnTo>
                  <a:lnTo>
                    <a:pt x="412" y="84"/>
                  </a:lnTo>
                  <a:lnTo>
                    <a:pt x="397" y="68"/>
                  </a:lnTo>
                  <a:lnTo>
                    <a:pt x="380" y="53"/>
                  </a:lnTo>
                  <a:lnTo>
                    <a:pt x="362" y="40"/>
                  </a:lnTo>
                  <a:lnTo>
                    <a:pt x="352" y="33"/>
                  </a:lnTo>
                  <a:lnTo>
                    <a:pt x="343" y="28"/>
                  </a:lnTo>
                  <a:lnTo>
                    <a:pt x="333" y="22"/>
                  </a:lnTo>
                  <a:lnTo>
                    <a:pt x="323" y="18"/>
                  </a:lnTo>
                  <a:lnTo>
                    <a:pt x="312" y="14"/>
                  </a:lnTo>
                  <a:lnTo>
                    <a:pt x="302" y="11"/>
                  </a:lnTo>
                  <a:lnTo>
                    <a:pt x="291" y="7"/>
                  </a:lnTo>
                  <a:lnTo>
                    <a:pt x="279" y="4"/>
                  </a:lnTo>
                  <a:lnTo>
                    <a:pt x="268" y="3"/>
                  </a:lnTo>
                  <a:lnTo>
                    <a:pt x="256" y="1"/>
                  </a:lnTo>
                  <a:lnTo>
                    <a:pt x="244" y="0"/>
                  </a:lnTo>
                  <a:lnTo>
                    <a:pt x="232" y="0"/>
                  </a:lnTo>
                  <a:lnTo>
                    <a:pt x="221" y="0"/>
                  </a:lnTo>
                  <a:lnTo>
                    <a:pt x="209" y="1"/>
                  </a:lnTo>
                  <a:lnTo>
                    <a:pt x="198" y="3"/>
                  </a:lnTo>
                  <a:lnTo>
                    <a:pt x="186" y="4"/>
                  </a:lnTo>
                  <a:lnTo>
                    <a:pt x="175" y="7"/>
                  </a:lnTo>
                  <a:lnTo>
                    <a:pt x="163" y="11"/>
                  </a:lnTo>
                  <a:lnTo>
                    <a:pt x="152" y="14"/>
                  </a:lnTo>
                  <a:lnTo>
                    <a:pt x="143" y="18"/>
                  </a:lnTo>
                  <a:lnTo>
                    <a:pt x="132" y="22"/>
                  </a:lnTo>
                  <a:lnTo>
                    <a:pt x="122" y="28"/>
                  </a:lnTo>
                  <a:lnTo>
                    <a:pt x="113" y="33"/>
                  </a:lnTo>
                  <a:lnTo>
                    <a:pt x="103" y="40"/>
                  </a:lnTo>
                  <a:lnTo>
                    <a:pt x="86" y="53"/>
                  </a:lnTo>
                  <a:lnTo>
                    <a:pt x="68" y="68"/>
                  </a:lnTo>
                  <a:lnTo>
                    <a:pt x="54" y="84"/>
                  </a:lnTo>
                  <a:lnTo>
                    <a:pt x="40" y="102"/>
                  </a:lnTo>
                  <a:lnTo>
                    <a:pt x="35" y="112"/>
                  </a:lnTo>
                  <a:lnTo>
                    <a:pt x="28" y="122"/>
                  </a:lnTo>
                  <a:lnTo>
                    <a:pt x="24" y="132"/>
                  </a:lnTo>
                  <a:lnTo>
                    <a:pt x="19" y="141"/>
                  </a:lnTo>
                  <a:lnTo>
                    <a:pt x="15" y="152"/>
                  </a:lnTo>
                  <a:lnTo>
                    <a:pt x="11" y="163"/>
                  </a:lnTo>
                  <a:lnTo>
                    <a:pt x="8" y="174"/>
                  </a:lnTo>
                  <a:lnTo>
                    <a:pt x="6" y="186"/>
                  </a:lnTo>
                  <a:lnTo>
                    <a:pt x="3" y="196"/>
                  </a:lnTo>
                  <a:lnTo>
                    <a:pt x="2" y="208"/>
                  </a:lnTo>
                  <a:lnTo>
                    <a:pt x="1" y="220"/>
                  </a:lnTo>
                  <a:lnTo>
                    <a:pt x="0" y="232"/>
                  </a:lnTo>
                  <a:lnTo>
                    <a:pt x="1" y="244"/>
                  </a:lnTo>
                  <a:lnTo>
                    <a:pt x="2" y="256"/>
                  </a:lnTo>
                  <a:lnTo>
                    <a:pt x="3" y="267"/>
                  </a:lnTo>
                  <a:lnTo>
                    <a:pt x="6" y="278"/>
                  </a:lnTo>
                  <a:lnTo>
                    <a:pt x="8" y="289"/>
                  </a:lnTo>
                  <a:lnTo>
                    <a:pt x="11" y="301"/>
                  </a:lnTo>
                  <a:lnTo>
                    <a:pt x="15" y="311"/>
                  </a:lnTo>
                  <a:lnTo>
                    <a:pt x="19" y="322"/>
                  </a:lnTo>
                  <a:lnTo>
                    <a:pt x="24" y="332"/>
                  </a:lnTo>
                  <a:lnTo>
                    <a:pt x="28" y="342"/>
                  </a:lnTo>
                  <a:lnTo>
                    <a:pt x="35" y="352"/>
                  </a:lnTo>
                  <a:lnTo>
                    <a:pt x="40" y="362"/>
                  </a:lnTo>
                  <a:lnTo>
                    <a:pt x="54" y="379"/>
                  </a:lnTo>
                  <a:lnTo>
                    <a:pt x="68" y="395"/>
                  </a:lnTo>
                  <a:lnTo>
                    <a:pt x="86" y="410"/>
                  </a:lnTo>
                  <a:lnTo>
                    <a:pt x="103" y="424"/>
                  </a:lnTo>
                  <a:lnTo>
                    <a:pt x="113" y="430"/>
                  </a:lnTo>
                  <a:lnTo>
                    <a:pt x="122" y="436"/>
                  </a:lnTo>
                  <a:lnTo>
                    <a:pt x="132" y="440"/>
                  </a:lnTo>
                  <a:lnTo>
                    <a:pt x="143" y="446"/>
                  </a:lnTo>
                  <a:lnTo>
                    <a:pt x="152" y="449"/>
                  </a:lnTo>
                  <a:lnTo>
                    <a:pt x="163" y="453"/>
                  </a:lnTo>
                  <a:lnTo>
                    <a:pt x="175" y="457"/>
                  </a:lnTo>
                  <a:lnTo>
                    <a:pt x="186" y="459"/>
                  </a:lnTo>
                  <a:lnTo>
                    <a:pt x="198" y="461"/>
                  </a:lnTo>
                  <a:lnTo>
                    <a:pt x="209" y="462"/>
                  </a:lnTo>
                  <a:lnTo>
                    <a:pt x="221" y="463"/>
                  </a:lnTo>
                  <a:lnTo>
                    <a:pt x="232" y="463"/>
                  </a:lnTo>
                  <a:lnTo>
                    <a:pt x="244" y="463"/>
                  </a:lnTo>
                  <a:lnTo>
                    <a:pt x="256" y="462"/>
                  </a:lnTo>
                  <a:lnTo>
                    <a:pt x="268" y="461"/>
                  </a:lnTo>
                  <a:lnTo>
                    <a:pt x="279" y="459"/>
                  </a:lnTo>
                  <a:lnTo>
                    <a:pt x="291" y="457"/>
                  </a:lnTo>
                  <a:lnTo>
                    <a:pt x="302" y="453"/>
                  </a:lnTo>
                  <a:lnTo>
                    <a:pt x="312" y="449"/>
                  </a:lnTo>
                  <a:lnTo>
                    <a:pt x="323" y="446"/>
                  </a:lnTo>
                  <a:lnTo>
                    <a:pt x="333" y="440"/>
                  </a:lnTo>
                  <a:lnTo>
                    <a:pt x="343" y="436"/>
                  </a:lnTo>
                  <a:lnTo>
                    <a:pt x="352" y="430"/>
                  </a:lnTo>
                  <a:lnTo>
                    <a:pt x="362" y="424"/>
                  </a:lnTo>
                  <a:lnTo>
                    <a:pt x="380" y="410"/>
                  </a:lnTo>
                  <a:lnTo>
                    <a:pt x="397" y="395"/>
                  </a:lnTo>
                  <a:lnTo>
                    <a:pt x="412" y="379"/>
                  </a:lnTo>
                  <a:lnTo>
                    <a:pt x="425" y="362"/>
                  </a:lnTo>
                  <a:lnTo>
                    <a:pt x="431" y="352"/>
                  </a:lnTo>
                  <a:lnTo>
                    <a:pt x="437" y="342"/>
                  </a:lnTo>
                  <a:lnTo>
                    <a:pt x="442" y="332"/>
                  </a:lnTo>
                  <a:lnTo>
                    <a:pt x="446" y="322"/>
                  </a:lnTo>
                  <a:lnTo>
                    <a:pt x="451" y="311"/>
                  </a:lnTo>
                  <a:lnTo>
                    <a:pt x="454" y="301"/>
                  </a:lnTo>
                  <a:lnTo>
                    <a:pt x="457" y="289"/>
                  </a:lnTo>
                  <a:lnTo>
                    <a:pt x="460" y="278"/>
                  </a:lnTo>
                  <a:lnTo>
                    <a:pt x="461" y="267"/>
                  </a:lnTo>
                  <a:lnTo>
                    <a:pt x="464" y="256"/>
                  </a:lnTo>
                  <a:lnTo>
                    <a:pt x="465" y="244"/>
                  </a:lnTo>
                  <a:lnTo>
                    <a:pt x="465" y="232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246240" y="293760"/>
              <a:ext cx="287280" cy="285840"/>
            </a:xfrm>
            <a:custGeom>
              <a:avLst/>
              <a:gdLst/>
              <a:ahLst/>
              <a:rect l="l" t="t" r="r" b="b"/>
              <a:pathLst>
                <a:path w="542" h="541">
                  <a:moveTo>
                    <a:pt x="542" y="271"/>
                  </a:moveTo>
                  <a:lnTo>
                    <a:pt x="542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6" y="216"/>
                  </a:lnTo>
                  <a:lnTo>
                    <a:pt x="533" y="203"/>
                  </a:lnTo>
                  <a:lnTo>
                    <a:pt x="530" y="190"/>
                  </a:lnTo>
                  <a:lnTo>
                    <a:pt x="525" y="178"/>
                  </a:lnTo>
                  <a:lnTo>
                    <a:pt x="520" y="165"/>
                  </a:lnTo>
                  <a:lnTo>
                    <a:pt x="515" y="153"/>
                  </a:lnTo>
                  <a:lnTo>
                    <a:pt x="509" y="142"/>
                  </a:lnTo>
                  <a:lnTo>
                    <a:pt x="503" y="131"/>
                  </a:lnTo>
                  <a:lnTo>
                    <a:pt x="495" y="120"/>
                  </a:lnTo>
                  <a:lnTo>
                    <a:pt x="488" y="109"/>
                  </a:lnTo>
                  <a:lnTo>
                    <a:pt x="480" y="99"/>
                  </a:lnTo>
                  <a:lnTo>
                    <a:pt x="471" y="90"/>
                  </a:lnTo>
                  <a:lnTo>
                    <a:pt x="462" y="80"/>
                  </a:lnTo>
                  <a:lnTo>
                    <a:pt x="453" y="70"/>
                  </a:lnTo>
                  <a:lnTo>
                    <a:pt x="443" y="63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1" y="40"/>
                  </a:lnTo>
                  <a:lnTo>
                    <a:pt x="400" y="33"/>
                  </a:lnTo>
                  <a:lnTo>
                    <a:pt x="388" y="27"/>
                  </a:lnTo>
                  <a:lnTo>
                    <a:pt x="376" y="22"/>
                  </a:lnTo>
                  <a:lnTo>
                    <a:pt x="363" y="17"/>
                  </a:lnTo>
                  <a:lnTo>
                    <a:pt x="351" y="13"/>
                  </a:lnTo>
                  <a:lnTo>
                    <a:pt x="339" y="9"/>
                  </a:lnTo>
                  <a:lnTo>
                    <a:pt x="326" y="5"/>
                  </a:lnTo>
                  <a:lnTo>
                    <a:pt x="312" y="3"/>
                  </a:lnTo>
                  <a:lnTo>
                    <a:pt x="299" y="2"/>
                  </a:lnTo>
                  <a:lnTo>
                    <a:pt x="285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3" y="2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4" y="9"/>
                  </a:lnTo>
                  <a:lnTo>
                    <a:pt x="191" y="13"/>
                  </a:lnTo>
                  <a:lnTo>
                    <a:pt x="178" y="17"/>
                  </a:lnTo>
                  <a:lnTo>
                    <a:pt x="166" y="22"/>
                  </a:lnTo>
                  <a:lnTo>
                    <a:pt x="154" y="27"/>
                  </a:lnTo>
                  <a:lnTo>
                    <a:pt x="142" y="33"/>
                  </a:lnTo>
                  <a:lnTo>
                    <a:pt x="131" y="40"/>
                  </a:lnTo>
                  <a:lnTo>
                    <a:pt x="120" y="46"/>
                  </a:lnTo>
                  <a:lnTo>
                    <a:pt x="110" y="54"/>
                  </a:lnTo>
                  <a:lnTo>
                    <a:pt x="99" y="63"/>
                  </a:lnTo>
                  <a:lnTo>
                    <a:pt x="89" y="70"/>
                  </a:lnTo>
                  <a:lnTo>
                    <a:pt x="79" y="80"/>
                  </a:lnTo>
                  <a:lnTo>
                    <a:pt x="71" y="90"/>
                  </a:lnTo>
                  <a:lnTo>
                    <a:pt x="62" y="99"/>
                  </a:lnTo>
                  <a:lnTo>
                    <a:pt x="54" y="109"/>
                  </a:lnTo>
                  <a:lnTo>
                    <a:pt x="47" y="120"/>
                  </a:lnTo>
                  <a:lnTo>
                    <a:pt x="39" y="131"/>
                  </a:lnTo>
                  <a:lnTo>
                    <a:pt x="33" y="142"/>
                  </a:lnTo>
                  <a:lnTo>
                    <a:pt x="27" y="153"/>
                  </a:lnTo>
                  <a:lnTo>
                    <a:pt x="22" y="165"/>
                  </a:lnTo>
                  <a:lnTo>
                    <a:pt x="17" y="178"/>
                  </a:lnTo>
                  <a:lnTo>
                    <a:pt x="12" y="190"/>
                  </a:lnTo>
                  <a:lnTo>
                    <a:pt x="9" y="203"/>
                  </a:lnTo>
                  <a:lnTo>
                    <a:pt x="6" y="216"/>
                  </a:lnTo>
                  <a:lnTo>
                    <a:pt x="4" y="230"/>
                  </a:lnTo>
                  <a:lnTo>
                    <a:pt x="2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2" y="298"/>
                  </a:lnTo>
                  <a:lnTo>
                    <a:pt x="4" y="312"/>
                  </a:lnTo>
                  <a:lnTo>
                    <a:pt x="6" y="325"/>
                  </a:lnTo>
                  <a:lnTo>
                    <a:pt x="9" y="338"/>
                  </a:lnTo>
                  <a:lnTo>
                    <a:pt x="12" y="351"/>
                  </a:lnTo>
                  <a:lnTo>
                    <a:pt x="17" y="364"/>
                  </a:lnTo>
                  <a:lnTo>
                    <a:pt x="22" y="376"/>
                  </a:lnTo>
                  <a:lnTo>
                    <a:pt x="27" y="388"/>
                  </a:lnTo>
                  <a:lnTo>
                    <a:pt x="33" y="399"/>
                  </a:lnTo>
                  <a:lnTo>
                    <a:pt x="39" y="411"/>
                  </a:lnTo>
                  <a:lnTo>
                    <a:pt x="47" y="422"/>
                  </a:lnTo>
                  <a:lnTo>
                    <a:pt x="54" y="432"/>
                  </a:lnTo>
                  <a:lnTo>
                    <a:pt x="62" y="443"/>
                  </a:lnTo>
                  <a:lnTo>
                    <a:pt x="71" y="452"/>
                  </a:lnTo>
                  <a:lnTo>
                    <a:pt x="79" y="462"/>
                  </a:lnTo>
                  <a:lnTo>
                    <a:pt x="89" y="471"/>
                  </a:lnTo>
                  <a:lnTo>
                    <a:pt x="99" y="479"/>
                  </a:lnTo>
                  <a:lnTo>
                    <a:pt x="110" y="487"/>
                  </a:lnTo>
                  <a:lnTo>
                    <a:pt x="120" y="494"/>
                  </a:lnTo>
                  <a:lnTo>
                    <a:pt x="131" y="502"/>
                  </a:lnTo>
                  <a:lnTo>
                    <a:pt x="142" y="509"/>
                  </a:lnTo>
                  <a:lnTo>
                    <a:pt x="154" y="515"/>
                  </a:lnTo>
                  <a:lnTo>
                    <a:pt x="166" y="520"/>
                  </a:lnTo>
                  <a:lnTo>
                    <a:pt x="178" y="525"/>
                  </a:lnTo>
                  <a:lnTo>
                    <a:pt x="191" y="529"/>
                  </a:lnTo>
                  <a:lnTo>
                    <a:pt x="204" y="532"/>
                  </a:lnTo>
                  <a:lnTo>
                    <a:pt x="216" y="536"/>
                  </a:lnTo>
                  <a:lnTo>
                    <a:pt x="229" y="538"/>
                  </a:lnTo>
                  <a:lnTo>
                    <a:pt x="243" y="540"/>
                  </a:lnTo>
                  <a:lnTo>
                    <a:pt x="258" y="541"/>
                  </a:lnTo>
                  <a:lnTo>
                    <a:pt x="270" y="541"/>
                  </a:lnTo>
                  <a:lnTo>
                    <a:pt x="285" y="541"/>
                  </a:lnTo>
                  <a:lnTo>
                    <a:pt x="299" y="540"/>
                  </a:lnTo>
                  <a:lnTo>
                    <a:pt x="312" y="538"/>
                  </a:lnTo>
                  <a:lnTo>
                    <a:pt x="326" y="536"/>
                  </a:lnTo>
                  <a:lnTo>
                    <a:pt x="339" y="532"/>
                  </a:lnTo>
                  <a:lnTo>
                    <a:pt x="351" y="529"/>
                  </a:lnTo>
                  <a:lnTo>
                    <a:pt x="363" y="525"/>
                  </a:lnTo>
                  <a:lnTo>
                    <a:pt x="376" y="520"/>
                  </a:lnTo>
                  <a:lnTo>
                    <a:pt x="388" y="515"/>
                  </a:lnTo>
                  <a:lnTo>
                    <a:pt x="400" y="509"/>
                  </a:lnTo>
                  <a:lnTo>
                    <a:pt x="411" y="502"/>
                  </a:lnTo>
                  <a:lnTo>
                    <a:pt x="422" y="494"/>
                  </a:lnTo>
                  <a:lnTo>
                    <a:pt x="432" y="487"/>
                  </a:lnTo>
                  <a:lnTo>
                    <a:pt x="443" y="479"/>
                  </a:lnTo>
                  <a:lnTo>
                    <a:pt x="453" y="471"/>
                  </a:lnTo>
                  <a:lnTo>
                    <a:pt x="462" y="462"/>
                  </a:lnTo>
                  <a:lnTo>
                    <a:pt x="471" y="452"/>
                  </a:lnTo>
                  <a:lnTo>
                    <a:pt x="480" y="443"/>
                  </a:lnTo>
                  <a:lnTo>
                    <a:pt x="488" y="432"/>
                  </a:lnTo>
                  <a:lnTo>
                    <a:pt x="495" y="422"/>
                  </a:lnTo>
                  <a:lnTo>
                    <a:pt x="503" y="411"/>
                  </a:lnTo>
                  <a:lnTo>
                    <a:pt x="509" y="399"/>
                  </a:lnTo>
                  <a:lnTo>
                    <a:pt x="515" y="388"/>
                  </a:lnTo>
                  <a:lnTo>
                    <a:pt x="520" y="376"/>
                  </a:lnTo>
                  <a:lnTo>
                    <a:pt x="525" y="364"/>
                  </a:lnTo>
                  <a:lnTo>
                    <a:pt x="530" y="351"/>
                  </a:lnTo>
                  <a:lnTo>
                    <a:pt x="533" y="338"/>
                  </a:lnTo>
                  <a:lnTo>
                    <a:pt x="536" y="325"/>
                  </a:lnTo>
                  <a:lnTo>
                    <a:pt x="538" y="312"/>
                  </a:lnTo>
                  <a:lnTo>
                    <a:pt x="540" y="298"/>
                  </a:lnTo>
                  <a:lnTo>
                    <a:pt x="542" y="285"/>
                  </a:lnTo>
                  <a:lnTo>
                    <a:pt x="542" y="271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8211-DC6A-4092-80EF-ABF70FCE21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785880" cy="6858000"/>
            <a:chOff x="0" y="0"/>
            <a:chExt cx="785880" cy="6858000"/>
          </a:xfrm>
        </p:grpSpPr>
        <p:grpSp>
          <p:nvGrpSpPr>
            <p:cNvPr id="182" name=""/>
            <p:cNvGrpSpPr/>
            <p:nvPr/>
          </p:nvGrpSpPr>
          <p:grpSpPr>
            <a:xfrm>
              <a:off x="0" y="0"/>
              <a:ext cx="785880" cy="6858000"/>
              <a:chOff x="0" y="0"/>
              <a:chExt cx="785880" cy="685800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74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520" y="0"/>
                <a:ext cx="252360" cy="6858000"/>
              </a:xfrm>
              <a:prstGeom prst="rect">
                <a:avLst/>
              </a:prstGeom>
              <a:solidFill>
                <a:srgbClr val="085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0" y="6324480"/>
              <a:ext cx="762120" cy="25236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6324480"/>
              <a:ext cx="252360" cy="252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0" y="379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48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7488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53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555720" y="6244920"/>
            <a:ext cx="2600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68664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B816-76E2-4B0F-AE5F-FD8B99070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0" y="1379520"/>
            <a:ext cx="9144000" cy="449280"/>
            <a:chOff x="0" y="1379520"/>
            <a:chExt cx="9144000" cy="449280"/>
          </a:xfrm>
        </p:grpSpPr>
        <p:sp>
          <p:nvSpPr>
            <p:cNvPr id="230" name=""/>
            <p:cNvSpPr/>
            <p:nvPr/>
          </p:nvSpPr>
          <p:spPr>
            <a:xfrm>
              <a:off x="0" y="1379520"/>
              <a:ext cx="9144000" cy="6984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1484280"/>
              <a:ext cx="9144000" cy="252360"/>
            </a:xfrm>
            <a:prstGeom prst="rect">
              <a:avLst/>
            </a:prstGeom>
            <a:solidFill>
              <a:srgbClr val="074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1758960"/>
              <a:ext cx="9144000" cy="6984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93840" y="0"/>
            <a:ext cx="392040" cy="6858000"/>
            <a:chOff x="393840" y="0"/>
            <a:chExt cx="392040" cy="6858000"/>
          </a:xfrm>
        </p:grpSpPr>
        <p:sp>
          <p:nvSpPr>
            <p:cNvPr id="234" name=""/>
            <p:cNvSpPr/>
            <p:nvPr/>
          </p:nvSpPr>
          <p:spPr>
            <a:xfrm>
              <a:off x="533520" y="0"/>
              <a:ext cx="252360" cy="685800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93840" y="0"/>
              <a:ext cx="69840" cy="6858000"/>
            </a:xfrm>
            <a:prstGeom prst="rect">
              <a:avLst/>
            </a:prstGeom>
            <a:solidFill>
              <a:srgbClr val="074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33520" y="1479600"/>
            <a:ext cx="252360" cy="252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032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48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74888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897E-6E61-4840-8579-917BFD01A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0880" y="0"/>
            <a:ext cx="1447920" cy="68421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c1c0c6"/>
              </a:gs>
              <a:gs pos="100000">
                <a:srgbClr val="003c9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628640"/>
            <a:ext cx="5030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549360"/>
            <a:ext cx="8747280" cy="9745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4920" y="606600"/>
            <a:ext cx="82803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7F28-554C-4DF2-B9B0-9633439201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0880" y="0"/>
            <a:ext cx="1447920" cy="68421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c1c0c6"/>
              </a:gs>
              <a:gs pos="100000">
                <a:srgbClr val="003c9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205000"/>
            <a:ext cx="8456760" cy="122400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505320"/>
            <a:ext cx="503856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71400" y="2219040"/>
            <a:ext cx="80042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9116-A713-4BF9-A175-5489091106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367" name="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370" name="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985F-5F6E-4273-9168-DFB6F04053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ush.wav" TargetMode="External"/><Relationship Id="rId2" Type="http://schemas.microsoft.com/office/2007/relationships/media" Target="file:///tmp/home/.config/libreoffice/4/user/gallery/push.wav" TargetMode="External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2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xplode.wav" TargetMode="External"/><Relationship Id="rId2" Type="http://schemas.microsoft.com/office/2007/relationships/media" Target="file:///tmp/home/.config/libreoffice/4/user/gallery/explode.wav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beijing" descr=""/>
          <p:cNvPicPr/>
          <p:nvPr/>
        </p:nvPicPr>
        <p:blipFill>
          <a:blip r:embed="rId1"/>
          <a:stretch/>
        </p:blipFill>
        <p:spPr>
          <a:xfrm>
            <a:off x="-166680" y="-84240"/>
            <a:ext cx="9348840" cy="694224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-93600" y="115920"/>
            <a:ext cx="44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Arial"/>
              </a:rPr>
              <a:t>苏教版八年级下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6920" y="1484280"/>
            <a:ext cx="7202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两小儿辩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sp>
        <p:nvSpPr>
          <p:cNvPr id="565" name=""/>
          <p:cNvSpPr/>
          <p:nvPr/>
        </p:nvSpPr>
        <p:spPr>
          <a:xfrm>
            <a:off x="1490760" y="5877000"/>
            <a:ext cx="387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cc99"/>
                </a:solidFill>
                <a:latin typeface="Arial"/>
              </a:rPr>
              <a:t>淅川县寺湾镇中     王栋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8e09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532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8" name=""/>
          <p:cNvGrpSpPr/>
          <p:nvPr/>
        </p:nvGrpSpPr>
        <p:grpSpPr>
          <a:xfrm>
            <a:off x="5866920" y="0"/>
            <a:ext cx="1143360" cy="1066680"/>
            <a:chOff x="5866920" y="0"/>
            <a:chExt cx="1143360" cy="1066680"/>
          </a:xfrm>
        </p:grpSpPr>
        <p:sp>
          <p:nvSpPr>
            <p:cNvPr id="629" name=""/>
            <p:cNvSpPr/>
            <p:nvPr/>
          </p:nvSpPr>
          <p:spPr>
            <a:xfrm>
              <a:off x="6172200" y="0"/>
              <a:ext cx="685800" cy="609480"/>
            </a:xfrm>
            <a:prstGeom prst="flowChartConnector">
              <a:avLst/>
            </a:prstGeom>
            <a:gradFill rotWithShape="0">
              <a:gsLst>
                <a:gs pos="0">
                  <a:srgbClr val="fde953"/>
                </a:gs>
                <a:gs pos="100000">
                  <a:srgbClr val="fdfbd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943600" y="533520"/>
              <a:ext cx="304560" cy="228600"/>
            </a:xfrm>
            <a:prstGeom prst="line">
              <a:avLst/>
            </a:prstGeom>
            <a:ln w="19080">
              <a:solidFill>
                <a:srgbClr val="fdfa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476760" y="609480"/>
              <a:ext cx="76320" cy="457200"/>
            </a:xfrm>
            <a:prstGeom prst="line">
              <a:avLst/>
            </a:prstGeom>
            <a:ln w="9360">
              <a:solidFill>
                <a:srgbClr val="f3f0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05360" y="457200"/>
              <a:ext cx="304920" cy="304920"/>
            </a:xfrm>
            <a:prstGeom prst="line">
              <a:avLst/>
            </a:prstGeom>
            <a:ln w="19080">
              <a:solidFill>
                <a:srgbClr val="fdfa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flipV="1">
              <a:off x="5866920" y="228600"/>
              <a:ext cx="304920" cy="76320"/>
            </a:xfrm>
            <a:prstGeom prst="line">
              <a:avLst/>
            </a:prstGeom>
            <a:ln w="9360">
              <a:solidFill>
                <a:srgbClr val="f3f0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324480" y="4191120"/>
            <a:ext cx="990720" cy="838080"/>
            <a:chOff x="6324480" y="4191120"/>
            <a:chExt cx="990720" cy="838080"/>
          </a:xfrm>
        </p:grpSpPr>
        <p:sp>
          <p:nvSpPr>
            <p:cNvPr id="635" name=""/>
            <p:cNvSpPr/>
            <p:nvPr/>
          </p:nvSpPr>
          <p:spPr>
            <a:xfrm>
              <a:off x="6324480" y="4191120"/>
              <a:ext cx="990720" cy="838080"/>
            </a:xfrm>
            <a:prstGeom prst="wedgeEllipseCallout">
              <a:avLst>
                <a:gd name="adj1" fmla="val -36055"/>
                <a:gd name="adj2" fmla="val 97347"/>
              </a:avLst>
            </a:prstGeom>
            <a:gradFill rotWithShape="0">
              <a:gsLst>
                <a:gs pos="0">
                  <a:srgbClr val="eed07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00800" y="441972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3300"/>
                  </a:solidFill>
                  <a:latin typeface="Arial"/>
                </a:rPr>
                <a:t>好热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/>
          <p:cNvSpPr txBox="1"/>
          <p:nvPr/>
        </p:nvSpPr>
        <p:spPr>
          <a:xfrm rot="5400000">
            <a:off x="-611640" y="3273480"/>
            <a:ext cx="244188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烈日当空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715000" y="5029200"/>
            <a:ext cx="1143000" cy="13939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6934320" y="5105520"/>
            <a:ext cx="718920" cy="121896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838080" y="457200"/>
            <a:ext cx="800100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</a:rPr>
              <a:t>一儿曰：“日初出            ，及其日中如        ，此不为近者热而远者凉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029200" y="1143000"/>
            <a:ext cx="2224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沧沧凉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76520" y="1600200"/>
            <a:ext cx="116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探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ubOvalCallout"/>
          <p:cNvSpPr/>
          <p:nvPr/>
        </p:nvSpPr>
        <p:spPr>
          <a:xfrm>
            <a:off x="4648320" y="-182520"/>
            <a:ext cx="3295440" cy="1554120"/>
          </a:xfrm>
          <a:custGeom>
            <a:avLst/>
            <a:gdLst>
              <a:gd name="textAreaLeft" fmla="*/ 482400 w 3295440"/>
              <a:gd name="textAreaRight" fmla="*/ 2813040 w 3295440"/>
              <a:gd name="textAreaTop" fmla="*/ 170640 h 1554120"/>
              <a:gd name="textAreaBottom" fmla="*/ 995400 h 1554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阴阴冷冷、天气凉爽的样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ubOvalCallout"/>
          <p:cNvSpPr/>
          <p:nvPr/>
        </p:nvSpPr>
        <p:spPr>
          <a:xfrm>
            <a:off x="-112680" y="-189000"/>
            <a:ext cx="4265640" cy="1827360"/>
          </a:xfrm>
          <a:custGeom>
            <a:avLst/>
            <a:gdLst>
              <a:gd name="textAreaLeft" fmla="*/ 624600 w 4265640"/>
              <a:gd name="textAreaRight" fmla="*/ 3641040 w 4265640"/>
              <a:gd name="textAreaTop" fmla="*/ 200520 h 1827360"/>
              <a:gd name="textAreaBottom" fmla="*/ 1170720 h 182736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把手伸到热水里去。意思是天气很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4" name="chimes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914400"/>
            <a:ext cx="914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孔子东游，见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两小儿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辩斗，问其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儿曰：“我以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始出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去人近，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中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远也。”一儿以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初出远，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中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近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儿曰：“日初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大如车盖，及日中，则如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盘盂，此不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远者小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近者大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儿曰：“日初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沧沧凉凉，及其日中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如探汤，此不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近者热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远者凉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孔子不能决也。两小儿笑曰：“孰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为汝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多知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32000" y="26028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两 小 儿 辩 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8508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  <p:sndAc>
      <p:stSnd>
        <p:snd r:embed="rId4" name="chimes.wav"/>
      </p:stSnd>
    </p:sndAc>
  </p:transition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10965" fill="hold"/>
                                        <p:tgtEl>
                                          <p:spTgt spid="6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2101680" cy="342900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85840" cy="343368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ff3399"/>
                </a:solidFill>
                <a:latin typeface="Times New Roman"/>
              </a:rPr>
              <a:t>思考题：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676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两小儿到底辩论太阳的什么？（    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辩论太阳的大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辩论太阳的凉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辩论太阳离人的远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28195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324480" y="685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40a89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762120" y="1295280"/>
            <a:ext cx="6629400" cy="1486080"/>
            <a:chOff x="762120" y="1295280"/>
            <a:chExt cx="6629400" cy="1486080"/>
          </a:xfrm>
        </p:grpSpPr>
        <p:sp>
          <p:nvSpPr>
            <p:cNvPr id="655" name=""/>
            <p:cNvSpPr/>
            <p:nvPr/>
          </p:nvSpPr>
          <p:spPr>
            <a:xfrm>
              <a:off x="1219320" y="1295280"/>
              <a:ext cx="6172200" cy="1486080"/>
            </a:xfrm>
            <a:prstGeom prst="rect">
              <a:avLst/>
            </a:prstGeom>
            <a:gradFill rotWithShape="0">
              <a:gsLst>
                <a:gs pos="0">
                  <a:srgbClr val="29e9fd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一儿曰：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日初出大如车盖，及日中，则如盘盂，此不为远者小而近者大乎？ ”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—</a:t>
              </a:r>
              <a:r>
                <a:rPr b="0" lang="zh-CN" sz="1800" spc="-1" strike="noStrike">
                  <a:solidFill>
                    <a:srgbClr val="ff3399"/>
                  </a:solidFill>
                  <a:latin typeface="Arial"/>
                </a:rPr>
                <a:t>远者小    近者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" descr=""/>
            <p:cNvPicPr/>
            <p:nvPr/>
          </p:nvPicPr>
          <p:blipFill>
            <a:blip r:embed="rId1"/>
            <a:stretch/>
          </p:blipFill>
          <p:spPr>
            <a:xfrm>
              <a:off x="762120" y="1676160"/>
              <a:ext cx="5716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7" name=""/>
          <p:cNvGrpSpPr/>
          <p:nvPr/>
        </p:nvGrpSpPr>
        <p:grpSpPr>
          <a:xfrm>
            <a:off x="914400" y="3809880"/>
            <a:ext cx="7010280" cy="1486080"/>
            <a:chOff x="914400" y="3809880"/>
            <a:chExt cx="7010280" cy="1486080"/>
          </a:xfrm>
        </p:grpSpPr>
        <p:sp>
          <p:nvSpPr>
            <p:cNvPr id="658" name=""/>
            <p:cNvSpPr/>
            <p:nvPr/>
          </p:nvSpPr>
          <p:spPr>
            <a:xfrm>
              <a:off x="1371600" y="3809880"/>
              <a:ext cx="6553080" cy="1486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一儿曰</a:t>
              </a:r>
              <a:r>
                <a:rPr b="0" lang="zh-CN" sz="2800" spc="-1" strike="noStrike">
                  <a:solidFill>
                    <a:srgbClr val="7d7a0b"/>
                  </a:solidFill>
                  <a:latin typeface="Arial"/>
                </a:rPr>
                <a:t>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日初出沧沧凉凉，及其日中如探汤，此不为近者热而远者凉乎？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——</a:t>
              </a:r>
              <a:r>
                <a:rPr b="0" lang="zh-CN" sz="1800" spc="-1" strike="noStrike">
                  <a:solidFill>
                    <a:srgbClr val="ff3399"/>
                  </a:solidFill>
                  <a:latin typeface="Arial"/>
                </a:rPr>
                <a:t>远者凉    近者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9" name="" descr=""/>
            <p:cNvPicPr/>
            <p:nvPr/>
          </p:nvPicPr>
          <p:blipFill>
            <a:blip r:embed="rId3"/>
            <a:stretch/>
          </p:blipFill>
          <p:spPr>
            <a:xfrm>
              <a:off x="914400" y="426708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0" name=""/>
          <p:cNvGrpSpPr/>
          <p:nvPr/>
        </p:nvGrpSpPr>
        <p:grpSpPr>
          <a:xfrm>
            <a:off x="6095880" y="0"/>
            <a:ext cx="2438280" cy="1143000"/>
            <a:chOff x="6095880" y="0"/>
            <a:chExt cx="2438280" cy="1143000"/>
          </a:xfrm>
        </p:grpSpPr>
        <p:sp>
          <p:nvSpPr>
            <p:cNvPr id="661" name=""/>
            <p:cNvSpPr/>
            <p:nvPr/>
          </p:nvSpPr>
          <p:spPr>
            <a:xfrm>
              <a:off x="6095880" y="0"/>
              <a:ext cx="2438280" cy="1143000"/>
            </a:xfrm>
            <a:prstGeom prst="cloudCallout">
              <a:avLst>
                <a:gd name="adj1" fmla="val 29689"/>
                <a:gd name="adj2" fmla="val 141666"/>
              </a:avLst>
            </a:prstGeom>
            <a:gradFill rotWithShape="0">
              <a:gsLst>
                <a:gs pos="0">
                  <a:srgbClr val="6cda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我可以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2" name="" descr=""/>
            <p:cNvPicPr/>
            <p:nvPr/>
          </p:nvPicPr>
          <p:blipFill>
            <a:blip r:embed="rId4"/>
            <a:stretch/>
          </p:blipFill>
          <p:spPr>
            <a:xfrm>
              <a:off x="7696080" y="53352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"/>
          <p:cNvSpPr txBox="1"/>
          <p:nvPr/>
        </p:nvSpPr>
        <p:spPr>
          <a:xfrm>
            <a:off x="3048120" y="228600"/>
            <a:ext cx="2057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234b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细黑"/>
              </a:rPr>
              <a:t>两种理由</a:t>
            </a:r>
            <a:endParaRPr b="1" lang="en-US" sz="1800" spc="-1" strike="noStrike">
              <a:ln w="0">
                <a:noFill/>
              </a:ln>
              <a:solidFill>
                <a:srgbClr val="f234b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细黑"/>
              <a:ea typeface="华文细黑"/>
            </a:endParaRPr>
          </a:p>
        </p:txBody>
      </p:sp>
    </p:spTree>
  </p:cSld>
  <p:transition>
    <p:dissolve/>
    <p:sndAc>
      <p:stSnd>
        <p:snd r:embed="rId5" name="whoosh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2629080" y="0"/>
            <a:ext cx="6553080" cy="68659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 rot="5400000">
            <a:off x="157680" y="2947320"/>
            <a:ext cx="3024000" cy="1250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孔子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我会写       我会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两小儿笑曰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“孰为汝多知乎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孔子曰：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………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-92160" y="46080"/>
            <a:ext cx="9345600" cy="73803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669" name=""/>
          <p:cNvSpPr/>
          <p:nvPr/>
        </p:nvSpPr>
        <p:spPr>
          <a:xfrm>
            <a:off x="1836720" y="2276640"/>
            <a:ext cx="2743200" cy="914400"/>
          </a:xfrm>
          <a:prstGeom prst="rightArrowCallout">
            <a:avLst>
              <a:gd name="adj1" fmla="val 25002"/>
              <a:gd name="adj2" fmla="val 25000"/>
              <a:gd name="adj3" fmla="val 50000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95480" y="3049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会写   我会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038480" y="3809880"/>
            <a:ext cx="1447920" cy="2590920"/>
          </a:xfrm>
          <a:prstGeom prst="leftArrowCallout">
            <a:avLst>
              <a:gd name="adj1" fmla="val 44739"/>
              <a:gd name="adj2" fmla="val 44735"/>
              <a:gd name="adj3" fmla="val 16667"/>
              <a:gd name="adj4" fmla="val 66673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00560" y="3886200"/>
            <a:ext cx="1033560" cy="2514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孰为汝多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乎？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267080" y="914400"/>
            <a:ext cx="4040280" cy="5638680"/>
          </a:xfrm>
          <a:prstGeom prst="rect">
            <a:avLst/>
          </a:prstGeom>
          <a:ln w="0">
            <a:noFill/>
          </a:ln>
        </p:spPr>
      </p:pic>
      <p:sp>
        <p:nvSpPr>
          <p:cNvPr id="674" name="PubOvalCallout"/>
          <p:cNvSpPr/>
          <p:nvPr/>
        </p:nvSpPr>
        <p:spPr>
          <a:xfrm>
            <a:off x="2362320" y="0"/>
            <a:ext cx="3867120" cy="1886040"/>
          </a:xfrm>
          <a:custGeom>
            <a:avLst/>
            <a:gdLst>
              <a:gd name="textAreaLeft" fmla="*/ 566280 w 3867120"/>
              <a:gd name="textAreaRight" fmla="*/ 3300840 w 3867120"/>
              <a:gd name="textAreaTop" fmla="*/ 207000 h 1886040"/>
              <a:gd name="textAreaBottom" fmla="*/ 1208160 h 188604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知之为知之，不知为不知，是知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 rot="5400000">
            <a:off x="1599480" y="4114800"/>
            <a:ext cx="2514600" cy="99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孔子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d"/>
    <p:sndAc>
      <p:stSnd>
        <p:snd r:embed="rId2" name="chimes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334120" y="228600"/>
            <a:ext cx="2133360" cy="1295280"/>
          </a:xfrm>
          <a:custGeom>
            <a:avLst/>
            <a:gdLst>
              <a:gd name="textAreaLeft" fmla="*/ 333360 w 2133360"/>
              <a:gd name="textAreaRight" fmla="*/ 1866960 w 21333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得出的道理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219320" y="2133720"/>
            <a:ext cx="6019560" cy="7855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5076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习孔子“知之为知之、不知为不知，是知也。”实事求是的治学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295280" y="3809880"/>
            <a:ext cx="6248520" cy="785520"/>
          </a:xfrm>
          <a:prstGeom prst="rect">
            <a:avLst/>
          </a:prstGeom>
          <a:gradFill rotWithShape="0">
            <a:gsLst>
              <a:gs pos="0">
                <a:srgbClr val="22cac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习两小儿善于从日常的自然事物中发现问题，独立思考，大胆质疑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523880" y="5638680"/>
            <a:ext cx="6096240" cy="3682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海无涯，即使最有学问的人也有难解的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523880" y="762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1760" cy="29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作  业  超 市</a:t>
            </a:r>
            <a:endParaRPr b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388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搜集文言文                 开拓视野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选择孔子的名言         自我积累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搜集资料                     解答疑问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改编课本剧                 陶冶情操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466560" y="685800"/>
            <a:ext cx="83725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9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再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  <p:transition>
    <p:wedge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4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-950760" y="-2322360"/>
            <a:ext cx="10780560" cy="91803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-141120" y="-2365200"/>
            <a:ext cx="10437480" cy="10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ff66"/>
                </a:solidFill>
                <a:latin typeface="Arial"/>
                <a:ea typeface="幼圆"/>
              </a:rPr>
              <a:t>文言故事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永中粗黑"/>
              </a:rPr>
              <a:t>文言故事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导  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: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王 老 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演  员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: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寺湾镇中八二班学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寺 湾 镇 中 心 学 校 电 视 剧 制 作 中 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258920" y="1341360"/>
            <a:ext cx="6119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两小儿辩日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newsflash/>
    <p:sndAc>
      <p:stSnd>
        <p:snd r:embed="rId2" name="explode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91440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东游，见两小儿辩斗，问其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儿曰：“我以日始出时去人近，而日中时远也。”一儿以日初出远，而日中时近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儿曰：“日初出大如车盖，及日中，则如盘盂，此不为远者小而近者大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儿曰：“日初出沧沧凉凉，及其日中如探汤，此不为近者热而远者凉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不能决也。两小儿笑曰：“孰为汝多知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332000" y="54936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556000" y="477720"/>
            <a:ext cx="3817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宋体"/>
              </a:rPr>
              <a:t>两小儿辩日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pic>
        <p:nvPicPr>
          <p:cNvPr id="57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79280" y="-19080"/>
            <a:ext cx="878544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7491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  <a:ea typeface="华文行楷"/>
              </a:rPr>
              <a:t>          </a:t>
            </a:r>
            <a:r>
              <a:rPr b="0" lang="zh-CN" sz="5400" spc="-1" strike="noStrike">
                <a:solidFill>
                  <a:srgbClr val="3333cc"/>
                </a:solidFill>
                <a:latin typeface="Arial"/>
                <a:ea typeface="华文行楷"/>
              </a:rPr>
              <a:t>温   馨   提   示</a:t>
            </a:r>
            <a:endParaRPr b="1" lang="en-US" sz="5400" spc="-1" strike="noStrike">
              <a:solidFill>
                <a:srgbClr val="074888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时间：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五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分 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工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结合注释理解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联系上下文读通句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方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主探究    小组合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做好分工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24360" y="5086440"/>
            <a:ext cx="6094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300720" y="508644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渔  歌  问  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对阵双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男生         女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规       则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方读句子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方说句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2057400"/>
            <a:ext cx="1981080" cy="40244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备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认为对方读的不够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权不对这句话作出解释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362320" y="3505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pu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5105520" y="19810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《列子</a:t>
            </a:r>
            <a:r>
              <a:rPr b="0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·</a:t>
            </a: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汤问》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5"/>
          <a:stretch/>
        </p:blipFill>
        <p:spPr>
          <a:xfrm>
            <a:off x="990720" y="1600200"/>
            <a:ext cx="8001000" cy="49500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6"/>
          <a:stretch/>
        </p:blipFill>
        <p:spPr>
          <a:xfrm>
            <a:off x="6095880" y="49528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4419720" y="4038480"/>
            <a:ext cx="1143000" cy="990720"/>
          </a:xfrm>
          <a:prstGeom prst="wedgeEllipseCallout">
            <a:avLst>
              <a:gd name="adj1" fmla="val -20555"/>
              <a:gd name="adj2" fmla="val 573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早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太阳离离人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400800" y="3505320"/>
            <a:ext cx="914400" cy="1067400"/>
            <a:chOff x="6400800" y="3505320"/>
            <a:chExt cx="914400" cy="1067400"/>
          </a:xfrm>
        </p:grpSpPr>
        <p:sp>
          <p:nvSpPr>
            <p:cNvPr id="587" name=""/>
            <p:cNvSpPr/>
            <p:nvPr/>
          </p:nvSpPr>
          <p:spPr>
            <a:xfrm>
              <a:off x="6400800" y="3505320"/>
              <a:ext cx="914400" cy="1067400"/>
            </a:xfrm>
            <a:prstGeom prst="cloudCallout">
              <a:avLst>
                <a:gd name="adj1" fmla="val 5504"/>
                <a:gd name="adj2" fmla="val 10185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65960" y="3505320"/>
              <a:ext cx="718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3300"/>
                  </a:solidFill>
                  <a:latin typeface="Arial"/>
                </a:rPr>
                <a:t>早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3300"/>
                  </a:solidFill>
                  <a:latin typeface="Arial"/>
                </a:rPr>
                <a:t>太阳离人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3276720" y="3124080"/>
            <a:ext cx="533160" cy="457200"/>
          </a:xfrm>
          <a:prstGeom prst="ellipse">
            <a:avLst/>
          </a:prstGeom>
          <a:gradFill rotWithShape="0">
            <a:gsLst>
              <a:gs pos="0">
                <a:srgbClr val="fbf4e7"/>
              </a:gs>
              <a:gs pos="100000">
                <a:srgbClr val="fdfa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85800" y="1828800"/>
            <a:ext cx="7696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儿曰：“我                       时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近，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远也。”一儿以日初出远，而日中时近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81280" y="1752480"/>
            <a:ext cx="5828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022640" y="1755720"/>
            <a:ext cx="1692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Comic Sans MS"/>
              </a:rPr>
              <a:t>日始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27760" y="1736640"/>
            <a:ext cx="7621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Comic Sans MS"/>
              </a:rPr>
              <a:t>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2819520"/>
            <a:ext cx="17082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omic Sans MS"/>
              </a:rPr>
              <a:t>日中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ubOvalCallout"/>
          <p:cNvSpPr/>
          <p:nvPr/>
        </p:nvSpPr>
        <p:spPr>
          <a:xfrm>
            <a:off x="3290760" y="322200"/>
            <a:ext cx="1086120" cy="1600200"/>
          </a:xfrm>
          <a:custGeom>
            <a:avLst/>
            <a:gdLst>
              <a:gd name="textAreaLeft" fmla="*/ 158760 w 1086120"/>
              <a:gd name="textAreaRight" fmla="*/ 927360 w 108612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认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ubOvalCallout"/>
          <p:cNvSpPr/>
          <p:nvPr/>
        </p:nvSpPr>
        <p:spPr>
          <a:xfrm>
            <a:off x="4317840" y="284040"/>
            <a:ext cx="1828800" cy="160020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6038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太阳刚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ubOvalCallout"/>
          <p:cNvSpPr/>
          <p:nvPr/>
        </p:nvSpPr>
        <p:spPr>
          <a:xfrm>
            <a:off x="6186600" y="533520"/>
            <a:ext cx="933480" cy="1371600"/>
          </a:xfrm>
          <a:custGeom>
            <a:avLst/>
            <a:gdLst>
              <a:gd name="textAreaLeft" fmla="*/ 136440 w 933480"/>
              <a:gd name="textAreaRight" fmla="*/ 797040 w 933480"/>
              <a:gd name="textAreaTop" fmla="*/ 150480 h 1371600"/>
              <a:gd name="textAreaBottom" fmla="*/ 878760 h 1371600"/>
            </a:gdLst>
            <a:ahLst/>
            <a:rect l="textAreaLeft" t="textAreaTop" r="textAreaRight" b="textAreaBottom"/>
            <a:pathLst>
              <a:path w="21600" h="21600">
                <a:moveTo>
                  <a:pt x="1947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ubOvalCallout"/>
          <p:cNvSpPr/>
          <p:nvPr/>
        </p:nvSpPr>
        <p:spPr>
          <a:xfrm>
            <a:off x="108000" y="765000"/>
            <a:ext cx="1238040" cy="2190960"/>
          </a:xfrm>
          <a:custGeom>
            <a:avLst/>
            <a:gdLst>
              <a:gd name="textAreaLeft" fmla="*/ 181080 w 1238040"/>
              <a:gd name="textAreaRight" fmla="*/ 1056960 w 1238040"/>
              <a:gd name="textAreaTop" fmla="*/ 240840 h 2190960"/>
              <a:gd name="textAreaBottom" fmla="*/ 1403640 h 2190960"/>
            </a:gdLst>
            <a:ahLst/>
            <a:rect l="textAreaLeft" t="textAreaTop" r="textAreaRight" b="textAreaBottom"/>
            <a:pathLst>
              <a:path w="21600" h="21600">
                <a:moveTo>
                  <a:pt x="10538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中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7"/>
          <a:stretch/>
        </p:blipFill>
        <p:spPr>
          <a:xfrm>
            <a:off x="4343400" y="5029200"/>
            <a:ext cx="1219320" cy="9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pic>
          <p:nvPicPr>
            <p:cNvPr id="602" name="" descr=""/>
            <p:cNvPicPr/>
            <p:nvPr/>
          </p:nvPicPr>
          <p:blipFill>
            <a:blip r:embed="rId1"/>
            <a:stretch/>
          </p:blipFill>
          <p:spPr>
            <a:xfrm>
              <a:off x="0" y="3594240"/>
              <a:ext cx="91440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2"/>
            <a:srcRect l="0" t="0" r="0" b="43255"/>
            <a:stretch/>
          </p:blipFill>
          <p:spPr>
            <a:xfrm>
              <a:off x="0" y="0"/>
              <a:ext cx="9144000" cy="389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4" name=""/>
          <p:cNvSpPr txBox="1"/>
          <p:nvPr/>
        </p:nvSpPr>
        <p:spPr>
          <a:xfrm rot="5400000">
            <a:off x="-1237320" y="1618200"/>
            <a:ext cx="3465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9900"/>
                </a:solidFill>
                <a:effectLst>
                  <a:outerShdw dist="107932" dir="8100000" blurRad="0" rotWithShape="0">
                    <a:srgbClr val="000080"/>
                  </a:outerShdw>
                </a:effectLst>
                <a:latin typeface="宋体"/>
              </a:rPr>
              <a:t>初升的太阳</a:t>
            </a:r>
            <a:endParaRPr b="1" lang="en-US" sz="1800" spc="-1" strike="noStrike">
              <a:ln w="0">
                <a:noFill/>
              </a:ln>
              <a:solidFill>
                <a:srgbClr val="ff9900"/>
              </a:solidFill>
              <a:effectLst>
                <a:outerShdw dist="107932" dir="8100000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5" name=""/>
          <p:cNvSpPr/>
          <p:nvPr/>
        </p:nvSpPr>
        <p:spPr>
          <a:xfrm>
            <a:off x="2057400" y="3886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14400" y="3962520"/>
            <a:ext cx="822960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儿曰：“日初出大如车盖，    日中，                如盘盂，    不    远者小而近者大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81680" y="3962520"/>
            <a:ext cx="6890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" y="4419720"/>
            <a:ext cx="960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666880" y="4419720"/>
            <a:ext cx="8636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57600" y="4419720"/>
            <a:ext cx="90324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ubRRectCallout"/>
          <p:cNvSpPr/>
          <p:nvPr/>
        </p:nvSpPr>
        <p:spPr>
          <a:xfrm>
            <a:off x="6553080" y="3200400"/>
            <a:ext cx="1219320" cy="795240"/>
          </a:xfrm>
          <a:custGeom>
            <a:avLst/>
            <a:gdLst>
              <a:gd name="textAreaLeft" fmla="*/ 7920 w 1219320"/>
              <a:gd name="textAreaRight" fmla="*/ 1208880 w 1219320"/>
              <a:gd name="textAreaTop" fmla="*/ 5040 h 795240"/>
              <a:gd name="textAreaBottom" fmla="*/ 630000 h 795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到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ubRRectCallout"/>
          <p:cNvSpPr/>
          <p:nvPr/>
        </p:nvSpPr>
        <p:spPr>
          <a:xfrm>
            <a:off x="457200" y="3733920"/>
            <a:ext cx="760320" cy="809640"/>
          </a:xfrm>
          <a:custGeom>
            <a:avLst/>
            <a:gdLst>
              <a:gd name="textAreaLeft" fmla="*/ 5040 w 760320"/>
              <a:gd name="textAreaRight" fmla="*/ 753840 w 760320"/>
              <a:gd name="textAreaTop" fmla="*/ 5400 h 809640"/>
              <a:gd name="textAreaBottom" fmla="*/ 641160 h 8096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19843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ubTriangle"/>
          <p:cNvSpPr/>
          <p:nvPr/>
        </p:nvSpPr>
        <p:spPr>
          <a:xfrm>
            <a:off x="2209680" y="4876920"/>
            <a:ext cx="1486080" cy="152064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ubTriangle"/>
          <p:cNvSpPr/>
          <p:nvPr/>
        </p:nvSpPr>
        <p:spPr>
          <a:xfrm>
            <a:off x="3657600" y="4952880"/>
            <a:ext cx="1390680" cy="13525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3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533520" y="5029200"/>
            <a:ext cx="1600200" cy="1447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895480" y="3352680"/>
            <a:ext cx="129564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257800" y="1981080"/>
            <a:ext cx="99072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620120" y="457200"/>
            <a:ext cx="685800" cy="68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666880" y="3124080"/>
            <a:ext cx="1752840" cy="1600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05520" y="1523880"/>
            <a:ext cx="1447560" cy="1828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14600" y="57150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581280" y="541008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日初出大如车盖</a:t>
            </a:r>
            <a:endParaRPr b="0" lang="en-US" sz="6000" spc="-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623" name=""/>
          <p:cNvSpPr/>
          <p:nvPr/>
        </p:nvSpPr>
        <p:spPr>
          <a:xfrm>
            <a:off x="6553080" y="76212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228600" y="533520"/>
            <a:ext cx="6095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及日中，则如盘盂</a:t>
            </a:r>
            <a:endParaRPr b="0" lang="en-US" sz="6000" spc="-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838080" y="2362320"/>
            <a:ext cx="7696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ff"/>
                </a:solidFill>
                <a:latin typeface="楷体_GB2312"/>
              </a:rPr>
              <a:t>此不为远者小而近者大乎？</a:t>
            </a:r>
            <a:endParaRPr b="0" lang="en-US" sz="1800" spc="-1" strike="noStrike">
              <a:ln w="0">
                <a:noFill/>
              </a:ln>
              <a:solidFill>
                <a:srgbClr val="3366ff"/>
              </a:solidFill>
              <a:latin typeface="楷体_GB2312"/>
              <a:ea typeface="楷体_GB2312"/>
            </a:endParaRPr>
          </a:p>
        </p:txBody>
      </p:sp>
      <p:sp>
        <p:nvSpPr>
          <p:cNvPr id="626" name=""/>
          <p:cNvSpPr/>
          <p:nvPr/>
        </p:nvSpPr>
        <p:spPr>
          <a:xfrm>
            <a:off x="8381880" y="6324480"/>
            <a:ext cx="381240" cy="304920"/>
          </a:xfrm>
          <a:prstGeom prst="smileyFace">
            <a:avLst>
              <a:gd name="adj" fmla="val 465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1:23:30Z</dcterms:created>
  <dc:creator>王栋梁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