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gif" ContentType="image/gif"/>
  <Override PartName="/ppt/media/image20.jpeg" ContentType="image/jpeg"/>
  <Override PartName="/ppt/media/type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27.gif" ContentType="image/gif"/>
  <Override PartName="/ppt/media/image8.jpeg" ContentType="image/jpeg"/>
  <Override PartName="/ppt/media/image5.png" ContentType="image/png"/>
  <Override PartName="/ppt/media/image24.jpeg" ContentType="image/jpeg"/>
  <Override PartName="/ppt/media/image3.jpeg" ContentType="image/jpeg"/>
  <Override PartName="/ppt/media/drumroll.wav" ContentType="audio/x-wav"/>
  <Override PartName="/ppt/media/image28.gif" ContentType="image/gif"/>
  <Override PartName="/ppt/media/image29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9.gif" ContentType="image/gif"/>
  <Override PartName="/ppt/media/recycle.wav" ContentType="audio/x-wav"/>
  <Override PartName="/ppt/media/image12.jpeg" ContentType="image/jpeg"/>
  <Override PartName="/ppt/media/image13.jpeg" ContentType="image/jpeg"/>
  <Override PartName="/ppt/media/image15.gif" ContentType="image/gif"/>
  <Override PartName="/ppt/media/image16.gif" ContentType="image/gif"/>
  <Override PartName="/ppt/media/image17.gif" ContentType="image/gif"/>
  <Override PartName="/ppt/media/image22.gif" ContentType="image/gi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A72-9ACC-4AD4-ABA8-2E82CFAF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684-5A91-4E1B-BA25-EEF86991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962-1118-4F9A-9954-7C43456B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7E1-982A-4642-BCAC-1446EB83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6E32-90F0-4339-967F-CE0C0B6D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819C-3F1C-46B3-89A4-4AD2EB5C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4B09-E6AC-4953-9C5A-0E07F59D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D9F4-3E7F-4599-A42F-1670BC04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9BDE-8104-48D3-AC81-82CC566B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5F94-B99D-4DFE-85D6-26969D90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B341-3F45-464B-B5A5-A5A0EE5D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0D2-1327-4F83-B89E-BC80E312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AC02-D213-4CA4-AFF5-C9E1BB8B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AAA9-12C0-47DE-AC84-5CCD30D0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5BE8-8207-41EC-BD71-0FE3CF80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9455-1667-4615-950F-327E89E0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A0F8-A39D-43C2-9951-085E3D71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5EF-9B55-4E3F-98E3-EED18A55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CE5-6330-4DF5-98F0-F8BAAFD7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870-951B-4937-9B9B-5924582B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44A-EB63-4ABF-BE77-0F90DC19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E56-6417-4540-885E-A2AD30F2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A99-E581-42CF-8340-4186D3CA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31B-96B5-401D-8600-DBC645A7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F869-5C85-43AC-9E94-29AE7BAA661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A9E6-12DA-476E-8131-E1B5E0C13F6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27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33920" y="11430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225576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5680" y="19051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00600" y="2133720"/>
            <a:ext cx="308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我的信念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4120" y="3902040"/>
            <a:ext cx="2890080" cy="581400"/>
            <a:chOff x="5334120" y="3902040"/>
            <a:chExt cx="2890080" cy="581400"/>
          </a:xfrm>
        </p:grpSpPr>
        <p:sp>
          <p:nvSpPr>
            <p:cNvPr id="91" name=""/>
            <p:cNvSpPr/>
            <p:nvPr/>
          </p:nvSpPr>
          <p:spPr>
            <a:xfrm>
              <a:off x="5334120" y="426708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0560" y="3902040"/>
              <a:ext cx="16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玛丽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居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304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“我之所以如此，或许是因为有某种力量在鞭策着我——正如蚕被鞭策着去结茧一般。”某种力量指什么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3480" y="2057400"/>
            <a:ext cx="679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完成的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真理的渴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科学事业的使命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科学魅力的吸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4572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“孤独地过着求学的岁月”却成了“美好快乐的记忆”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9718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远离欢乐喧闹的人群，潜心学业，静心读书，大有收获，回忆起来觉得没有虚度年华，所以这样的大学生活是美好快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居里夫人所说的“讲究现实”与“梦想家”是什么意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205740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讲究现实”是通过工作取得物质利益。“梦想家”是为研究而研究，为工作而工作，为理想而研究而工作，完全不存在物质利益的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梦想家”的最基本特征是献身事业，全身心地投入事业，事业就是一切，根本不考虑物质利益。从放弃专利可看出居里夫人就是这种“梦想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“我一直沉醉于世界的优美之中，我所热爱的科学也不断增加它崭新的远景”中“不断增加它崭新的远景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200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此句中的“世界的优美”指的是物质运动规律以及物质内部结构，科学越是发展，世界越是展现它的优美，所以说不断增加它崭新的前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629400" y="49338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476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作者说，科学家也应当是“一个小孩儿”？这反映了作者怎样的心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2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因科学本身具有伟大的美，魅力无穷，如同神话般，在这美妙的科学世界面前，科学家就好像沉醉于神话故事的小孩儿一样，反映作者在科学研究中如痴如醉的心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87280" y="1197000"/>
            <a:ext cx="2333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拓展与延伸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2565360"/>
            <a:ext cx="8640720" cy="3017160"/>
            <a:chOff x="324000" y="2565360"/>
            <a:chExt cx="8640720" cy="3017160"/>
          </a:xfrm>
        </p:grpSpPr>
        <p:sp>
          <p:nvSpPr>
            <p:cNvPr id="162" name=""/>
            <p:cNvSpPr/>
            <p:nvPr/>
          </p:nvSpPr>
          <p:spPr>
            <a:xfrm>
              <a:off x="1116000" y="2565360"/>
              <a:ext cx="287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居里夫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4720" y="2637000"/>
              <a:ext cx="18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“</a:t>
              </a: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我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4076640"/>
              <a:ext cx="8640720" cy="15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</a:t>
              </a:r>
              <a:r>
                <a:rPr b="1" lang="zh-CN" sz="4400" spc="-1" strike="noStrike">
                  <a:solidFill>
                    <a:srgbClr val="660066"/>
                  </a:solidFill>
                  <a:latin typeface="Arial"/>
                  <a:ea typeface="幼圆"/>
                </a:rPr>
                <a:t>说说心里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     找差距      得到的启迪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851280" y="2924280"/>
              <a:ext cx="1944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flipH="1" rot="16200000">
              <a:off x="4140000" y="3572640"/>
              <a:ext cx="71892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332000" y="1052640"/>
            <a:ext cx="2016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学习了这篇文章，就如同与伟人对话。我们感受了居里夫人坚忍不拔，抛弃财富，献身科学等伟大的人格。我们深深地被居里夫人的人格魅力所打动。如果说我们过去没有生活目标，现在我们明确了人生；如果说我们过去一味贪图安逸，现在我们学会了艰苦；如果说我们过去只能依赖他人，现在我们懂得了奉献；如果说过去我们意志薄弱，现在我们拥有了信念。让我们在居里夫人的光辉照耀下，把自己的人生也献给人类的进步事业。我们在学习、生活乃至将来的工作中，以此为楷模，努力使自己成为一个大写的人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339640" y="2204640"/>
            <a:ext cx="410364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愿你们每天都愉快地过着生活，不要等到日子过去了才找出它们的可爱之处，也不要把所有特别合意的希望都放在未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居里夫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40384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245916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课外搜集一些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0481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关居里夫人的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料，用其中的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0384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两个材料证明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文中的一些观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5013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写成一个小片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1760" y="2666880"/>
            <a:ext cx="2009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课外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5562720"/>
            <a:ext cx="990720" cy="9903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229280" y="3086280"/>
            <a:ext cx="9144000" cy="360"/>
            <a:chOff x="4229280" y="3086280"/>
            <a:chExt cx="9144000" cy="360"/>
          </a:xfrm>
        </p:grpSpPr>
        <p:sp>
          <p:nvSpPr>
            <p:cNvPr id="182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0" y="-565200"/>
            <a:ext cx="9144000" cy="7989840"/>
            <a:chOff x="0" y="-565200"/>
            <a:chExt cx="9144000" cy="7989840"/>
          </a:xfrm>
        </p:grpSpPr>
        <p:sp>
          <p:nvSpPr>
            <p:cNvPr id="185" name=""/>
            <p:cNvSpPr/>
            <p:nvPr/>
          </p:nvSpPr>
          <p:spPr>
            <a:xfrm>
              <a:off x="0" y="-565200"/>
              <a:ext cx="8686800" cy="79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0" y="-565200"/>
              <a:ext cx="9144000" cy="360"/>
              <a:chOff x="0" y="-565200"/>
              <a:chExt cx="9144000" cy="36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3886200" y="2743200"/>
            <a:ext cx="9144000" cy="360"/>
            <a:chOff x="3886200" y="2743200"/>
            <a:chExt cx="9144000" cy="360"/>
          </a:xfrm>
        </p:grpSpPr>
        <p:sp>
          <p:nvSpPr>
            <p:cNvPr id="190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75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05120" y="304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居里夫人和“玩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82800"/>
            <a:ext cx="9144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有一次，居里夫人的两个女儿正在玩英国皇家学会奖给她的一枚金质奖章。一位来访的客人看了惊讶地叫起来：“这么贵重的奖章，您怎么能随便给孩子玩呢？”居里夫人告诉客人说：“是我故意给他们玩的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 我是想让孩子从小就知道，荣誉就像玩具一样，只能玩玩而已。如果让子女躺在父母的荣誉簿上，他们将来就会一事无成。” 　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　 </a:t>
            </a:r>
            <a:br>
              <a:rPr sz="2800"/>
            </a:b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92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年，居里夫人应邀访问美国，美国妇女主动捐给她一克价值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万元以上的镭，但她坚持把镭送给她所在的实验室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她时常告诉女儿们说：“你们将来必须走自谋生活之路，这是一件妥当而又自然的事情。” 由于居里夫人的良好教育，她的孩子们也像母亲一样，在科学的道路上奋勇攀登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居里夫人一家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母亲、父亲、女儿和女婿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累计获得了三项诺贝尔科学奖，成为迄今为止获诺贝尔奖最多的第一个家庭。这也许同他们把“荣誉”视同“玩具”从不放在心上有关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　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4360" y="1231920"/>
            <a:ext cx="49687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居里夫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7—19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法国物理学家、化学家，巴黎大学理学博士。发现了放射性元素，两次获诺贝尔奖。是法国科学院第一位女院士，同时还被其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国家聘为科学院院士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723" t="3279" r="51657" b="2279"/>
          <a:stretch/>
        </p:blipFill>
        <p:spPr>
          <a:xfrm>
            <a:off x="468360" y="1052640"/>
            <a:ext cx="3168720" cy="47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8569080" cy="216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7167600" y="4937400"/>
            <a:ext cx="1595160" cy="1752480"/>
            <a:chOff x="7167600" y="4937400"/>
            <a:chExt cx="1595160" cy="1752480"/>
          </a:xfrm>
        </p:grpSpPr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7874280" y="5274720"/>
              <a:ext cx="888480" cy="87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67600" y="4937400"/>
              <a:ext cx="54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6600"/>
                  </a:solidFill>
                  <a:latin typeface="Times New Roman"/>
                  <a:ea typeface="华文彩云"/>
                </a:rPr>
                <a:t>你知道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520" y="457200"/>
            <a:ext cx="1824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</a:rPr>
              <a:t>吝啬有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起，居里夫人的年薪已增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法郎，但她照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吝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她每次从国外回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要带回一些宴会上的菜单，因为这些菜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很厚很好的纸片，在背面书写物理、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算式，方便极了。有人说居里夫人一直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像一个匆忙的贫穷妇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有一次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美国记者追踪这位著名学者，走到村子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座渔家房舍门前，向赤足坐在门口石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位妇女打听居里夫人，当她抬起头来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者大吃一惊：原来她就是居里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04920"/>
            <a:ext cx="1798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  <a:ea typeface="仿宋_GB2312"/>
              </a:rPr>
              <a:t>居里夫人教女成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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居里夫人的大女儿伊雷娜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荣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诺贝尔化学奖，小女儿艾芙日后成为杰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音乐教育家和传记作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伊雷娜和艾芙还在幼年时，居里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不许女儿怕黑，不许雷声轰隆时把头藏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枕头下，不许怕贼与流行病。在第一次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战战火纷飞的恐怖日子里，居里夫人强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的女儿暑假到国内外旅行，并让她俩给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士织毛衣。她俩还加入收获队，代替男子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危险去抢收麦子，从小培养她们勇敢而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见的独立人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da"/>
                </a:solidFill>
                <a:latin typeface="Times New Roman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33380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788000" y="5629320"/>
            <a:ext cx="324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88200" y="4299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120" y="5380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4724280"/>
            <a:ext cx="185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6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9228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88930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我幸运的同居里夫人有二十年崇高而真挚的友谊，我对她的人格的伟大越来越感到钦佩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她一生中最伟大的科学功绩——证明放射性元素的存在并把他们分离出来——所以能取得，不仅是靠着大胆的直觉，而且也靠着在难以想象的极端困难情况下工作的热忱和顽强，这样的困难在实验科学中是罕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居里夫人的品德力量和热忱，哪怕只要有一小部分存在于欧洲的知识分子中间，欧洲就会面临一个比较光明的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爱因斯坦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《悼念玛丽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居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672000" cy="525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16720" y="1125360"/>
            <a:ext cx="2627280" cy="3522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03640" y="549360"/>
            <a:ext cx="3600360" cy="475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4356000" y="59500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居里夫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54920" y="58053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 rot="10800000">
            <a:off x="8028000" y="42163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10865400">
            <a:off x="3704760" y="507996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老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260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下列红字的音，你读准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52640"/>
            <a:ext cx="9144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粹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坚韧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然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拨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动心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粉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懊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悔        问心无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深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奥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还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魂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仙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估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95480" y="108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907920"/>
            <a:ext cx="10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732200">
            <a:off x="5003280" y="105120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0720" y="3068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3068640"/>
            <a:ext cx="9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hú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7242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2360" y="4653000"/>
            <a:ext cx="14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h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350600" y="5334120"/>
            <a:ext cx="4331160" cy="1523880"/>
            <a:chOff x="4350600" y="5334120"/>
            <a:chExt cx="4331160" cy="1523880"/>
          </a:xfrm>
        </p:grpSpPr>
        <p:pic>
          <p:nvPicPr>
            <p:cNvPr id="124" name="" descr=""/>
            <p:cNvPicPr/>
            <p:nvPr/>
          </p:nvPicPr>
          <p:blipFill>
            <a:blip r:embed="rId2">
              <a:lum contrast="-30000"/>
            </a:blip>
            <a:stretch/>
          </p:blipFill>
          <p:spPr>
            <a:xfrm>
              <a:off x="7410600" y="5334120"/>
              <a:ext cx="1271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478560" y="6248520"/>
              <a:ext cx="84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0600" y="60724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傻瓜才会搞错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762120"/>
            <a:ext cx="2454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执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鞭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盛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报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奢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蹂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沉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迷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问心无愧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猝然长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解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5080" y="777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坚持己见，不肯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920" y="1197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用鞭和策赶马，喻督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00640" y="17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很大的名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13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由于使用别人的劳动、物件等而会给别人的钱或实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81000" y="29448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过高的希望。          呵责：呵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0240" y="544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扪心自问，毫无惭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踩踏；践踏辗压。引申为侵扰、侵略。欺凌、糟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5013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迷恋，陶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7408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比喻深深地迷恋某种事物或沉浸在某种境界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3520" y="6338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突然死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探究一  梳理与把握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方法：抓住关键词语，第一步概括要点，第二步分析归纳，第三步整理排列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坚忍不拔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信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勤奋执著目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探讨真理献身科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安静简单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淡泊名利追求自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克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沉醉于科学之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坚定的理念（探讨真理、不图财富、沉醉科学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二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适合的环境（保持安静、追求自由、珍惜时间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三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良好的工作态度（集中目标、树立信心、坚韧不拔、执著勤奋）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（思考：如何才能成为一名真正的科学家？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Verdana"/>
                <a:ea typeface="文鼎妞妞体"/>
              </a:rPr>
              <a:t>探究二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小组合作，针对课文提出问题。</a:t>
            </a:r>
            <a:br>
              <a:rPr sz="3000"/>
            </a:b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要求：每位小组成员先自己认真研读课文，提出疑问，再和小组交流，筛选出最有价值的一个问题，全班交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1:02:58Z</dcterms:created>
  <dc:creator>微软用户</dc:creator>
  <dc:description/>
  <dc:language>en-US</dc:language>
  <cp:lastModifiedBy>小刘</cp:lastModifiedBy>
  <dcterms:modified xsi:type="dcterms:W3CDTF">2009-10-16T09:05:04Z</dcterms:modified>
  <cp:revision>9</cp:revision>
  <dc:subject/>
  <dc:title>幻灯片 1</dc:title>
</cp:coreProperties>
</file>