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push.wav" ContentType="audio/x-wav"/>
  <Override PartName="/ppt/media/image30.gif" ContentType="image/gif"/>
  <Override PartName="/ppt/media/image20.png" ContentType="image/png"/>
  <Override PartName="/ppt/media/image21.png" ContentType="image/png"/>
  <Override PartName="/ppt/media/image19.png" ContentType="image/png"/>
  <Override PartName="/ppt/media/explode.wav" ContentType="audio/x-wav"/>
  <Override PartName="/ppt/media/image18.jpeg" ContentType="image/jpeg"/>
  <Override PartName="/ppt/media/image15.png" ContentType="image/png"/>
  <Override PartName="/ppt/media/chimes.wav" ContentType="audio/x-wav"/>
  <Override PartName="/ppt/media/image36.gif" ContentType="image/gif"/>
  <Override PartName="/ppt/media/image16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27.jpeg" ContentType="image/jpeg"/>
  <Override PartName="/ppt/media/image10.png" ContentType="image/png"/>
  <Override PartName="/ppt/media/drumroll.wav" ContentType="audio/x-wav"/>
  <Override PartName="/ppt/media/applause.wav" ContentType="audio/x-wav"/>
  <Override PartName="/ppt/media/image5.png" ContentType="image/png"/>
  <Override PartName="/ppt/media/image29.gif" ContentType="image/gif"/>
  <Override PartName="/ppt/media/image22.jpeg" ContentType="image/jpeg"/>
  <Override PartName="/ppt/media/image9.png" ContentType="image/png"/>
  <Override PartName="/ppt/media/image31.jpeg" ContentType="image/jpeg"/>
  <Override PartName="/ppt/media/whoosh.wav" ContentType="audio/x-wav"/>
  <Override PartName="/ppt/media/image28.jpeg" ContentType="image/jpeg"/>
  <Override PartName="/ppt/media/image38.wmf" ContentType="image/x-wmf"/>
  <Override PartName="/ppt/media/image35.gif" ContentType="image/gif"/>
  <Override PartName="/ppt/media/image11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4.gif" ContentType="image/gif"/>
  <Override PartName="/ppt/media/image32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media/image3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CE9-F39C-480B-A76B-32248250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6C5-2DFC-48FE-8718-0A72CD0A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CFD84-8CEC-476E-AB6E-1691EB20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08CE0-6375-459C-A252-18070FBF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A672E-99F1-4D1F-8E4B-C4800F8A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DD5B9-E603-4477-A20E-2FE3D372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9D1D7-0F1C-4909-BFCC-95B2AC8E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9122D-7BB6-46E8-91DF-C151A06C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33C74-0048-4F2D-BE93-4281C93A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598CA-4683-4E30-8ADD-F4C5BEE6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DF80E-8F6B-47AF-8F3B-A6E4B155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45BD9-DCA6-4BB0-BB05-22ABBA0F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646-023C-4F53-A51D-17E4D875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F0497-90EB-4F3C-8BF8-83C9FD32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C7D42-223A-4EE8-A508-19FB5837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E4643-AD85-49D2-8851-9D2A20E5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C9FDA-570F-4DCB-AC05-8C7F5F3A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7ECF5-78BE-48D7-A2BE-964F0381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F3F33-738F-44DE-B625-45557EFC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93060-6F40-441A-AD21-82D3153C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9EA86-22AA-4BAB-A355-D5AF44BF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7C744-F625-47A6-8A18-7FC726BF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18D69-76F2-45FB-B1F4-E2758E7C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1D1-D0DE-4309-8A80-248EA97F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FABB1-B545-4F00-B8B4-63DFAA6A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2C307-7B82-49B3-B466-5A51D3DE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5BB76-888C-4091-BAAE-E398F4C8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8BF00-DAD2-4A05-9B8E-E7F5B244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3CAEE-0799-456D-A51E-8111B74D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A074A-3095-4E16-A1A4-A4D32A58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792C8-9B6C-4396-BE95-4BD835F1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2FE91-F3FF-4E9F-975E-CAF36CCE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2B83E-7D0E-408A-84ED-CB51B0F5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CBF03-E45C-4524-9F35-6B05B983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A271-A865-4F1A-9DE4-2D3B064D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322C0-F7F0-4D3A-8FC9-E4B87FF1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00FB2-AD14-4704-B05A-91E4CBDF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2784F-079B-439C-8A32-05883518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01013-E0B7-4D44-8D8F-53BCA938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F0B42-6F7F-4CBD-B20F-1231B674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44EBD-920D-4EBB-AD79-DFE4EA6E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F468E-BCC7-45E9-A92A-AD250A98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D39B1-E993-4CDA-B768-87BA6EB0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E2881-6285-4230-9332-EAF05162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A136B-6691-4B3D-999D-DCA00A20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6448-F0AD-4298-9AD0-80134932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0404B-914C-4609-823D-1B0AD4D8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DD2F6-F324-4610-9F30-F53DDC92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45619-F244-4D12-8494-3EC6AC57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EDB3F-0A8A-4DC3-9C08-605CDEF8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536FB-11B3-41BC-BE87-BD636327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C487-C670-4C68-AA73-10670DE6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5B0D-8F87-4E18-A275-9383F388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EA19-62EE-4011-B3AE-797993D6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D65E-79D8-4EA9-8926-7628FE56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7A57-58C1-4269-AB70-861BEA10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724-4A40-4683-8C12-E74087AF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B6FE-9CC7-427E-8531-C59A3F2B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CAB5-3CCF-474F-92B9-C3495684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2D11-8ED4-4E90-8DED-B78DD025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F0A6-F1B3-4DBF-A270-1105EE88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A287-028B-4C05-9875-3A799FC5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9A5AC-8BAF-483E-8CE8-B3EBB004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CE2BA-4AB5-48C3-ABF9-942ED737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4C788-DCB0-4DC4-8257-3C640AD6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D6C6D-770A-4E86-9E00-8D01CCD8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618AC-0846-4AD1-BBA3-E70D38B2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1C0-4686-4E14-BD3D-1F2D3BEA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6E5C2-1DC8-44B6-86DC-61C17046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32234-D095-45F3-93DC-C8082A18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F5869-ADEA-468E-A9A2-E721D63A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08BBE-129C-4B6B-A5A0-B53709A7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A8BE5-6ACC-4CDA-921F-73EE1923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DDFFF-7F96-413C-9A55-8C8C4D44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CF727-9A97-4346-BE90-F0EF376A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2AA28-25F4-43EC-9FBD-878AB1CB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E385B-7A41-418A-89C5-5A7ED349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CEE11-FC87-4842-ACFB-44C89EEC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708-135D-49AA-8D44-4A7D9DC2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28687-9178-408C-863D-EABDD713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D4A8C-09F1-4DE5-BC48-D175B15B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C570D-DDA0-4ACD-B8F5-FE8C6664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3D76A-FB4F-499F-A6AD-991B3150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04E3F-5DF7-4964-8F27-F83A3CD9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A6980-BF92-44D8-B7AB-36A9B82E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00A51-40DF-4779-88FF-B114FB76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A8E06-056B-469D-A8EB-B8D1BEB5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E4D7D-5314-4628-BE0F-F77C611B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6228B-7B7F-44DB-8919-05484D64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A9F-645D-4E90-B327-0A29E58C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8AF09-A6BF-4484-91DB-412FA1C3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73E58-1CB1-4046-95B1-23E44373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BCB71-8ADA-401D-ADF2-67BD2003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69E12-17E8-4450-A76C-BFB4907D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E1854-6792-4BC3-99CC-F9C6A629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CF2B6-E126-4D92-A518-573F37E1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5DBFF-4D72-48CE-818E-29D1D75E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53B27-BD5C-4DB9-9432-1541B438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F188B-BACE-48E1-8602-56AE967D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69BEB-4ACD-4609-85C1-D789ACAF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5D9B-D638-4DDC-AC79-1430FBAA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4C1DE-202D-4AC6-84A5-E045DBBF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F56A2-A4DA-4758-AF11-AB15B30A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D0641-35C5-4843-BEEC-18AD6945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89213-DCF7-456C-9B2E-5BC8952A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1C733-CCCE-4F28-AD16-347FE34A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F9159-D938-496E-B4D2-C2EB4B1F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9A20E-5035-4FF3-8576-8F058C2C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6C618-4E17-418D-9ADD-0C739E1B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1A6A0-9052-458C-983A-09F388D1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C7F58-8552-4671-B381-6AB6431C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AE6-E20C-4468-A5BD-DA83E2C1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ECB48-7AC5-427D-AAD7-E906C144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67221-6AE8-46F8-92A1-E9695CC9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B14A1-288A-4C51-BFB1-206FAA1B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0B33D-DD8D-44D9-83E1-0DE27054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3E2BF-A9EC-4740-8E26-C8C8487B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A45D2-929D-4C9D-A906-24C688A9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5A274-9223-4577-9593-D6CD1DFD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F423C-8144-4718-B0D4-59A235B9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AD61B-7893-47F8-A141-5DA223BB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910B5-0CA2-4C42-9015-D795C0C9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884-3FA8-4FD8-A96C-97128678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0EEE2-C111-45D4-8279-54B2C577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8FEB3-BAD1-461F-BED9-8AF97101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A55FC-85E6-4C13-A7C5-2321B868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B74BE-764C-462B-9FBB-5DD985D9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6E992-B3AF-49CE-BE04-6DD61155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9BB8F-BFE1-49F7-B821-4DCAAD0C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B33B1-4C73-4A9A-9488-082B35EE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D6481-1224-4B94-AFC9-6A748572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B98CC-6347-47A1-ABDD-E5CD78A6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E7EF6-EFDC-4BFC-B4D6-40FBFE4D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22A-B5F4-4C0E-B487-5C8C4CC7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45336-2107-4943-B3DA-B7B4413E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12F4E-3984-4917-BAFF-B01DFBF7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AC2B0-C593-4BC0-B59A-C8E084F2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E8D4A-EEE1-4273-BBCA-F4BE7D04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B69B1-4622-461A-B51A-6EEC1001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C4E4E-9E3C-4282-A83B-DF1F20C4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4FCBE-C44A-47BB-82D0-60627642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E180C-7F8C-4687-B407-3281DECF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49E0E-0F07-4F81-9F1B-B0AE791A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1C0A2-AA02-4BE4-84C4-E882D5CF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69CA-115C-4454-8680-9C9A36764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8723160" y="0"/>
            <a:ext cx="431640" cy="6845040"/>
            <a:chOff x="8723160" y="0"/>
            <a:chExt cx="431640" cy="6845040"/>
          </a:xfrm>
        </p:grpSpPr>
        <p:sp>
          <p:nvSpPr>
            <p:cNvPr id="418" name=""/>
            <p:cNvSpPr/>
            <p:nvPr/>
          </p:nvSpPr>
          <p:spPr>
            <a:xfrm>
              <a:off x="8723160" y="2139840"/>
              <a:ext cx="431640" cy="4705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23160" y="0"/>
              <a:ext cx="431640" cy="4030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0" y="1440"/>
            <a:ext cx="1725120" cy="6842160"/>
            <a:chOff x="0" y="1440"/>
            <a:chExt cx="1725120" cy="6842160"/>
          </a:xfrm>
        </p:grpSpPr>
        <p:sp>
          <p:nvSpPr>
            <p:cNvPr id="421" name=""/>
            <p:cNvSpPr/>
            <p:nvPr/>
          </p:nvSpPr>
          <p:spPr>
            <a:xfrm>
              <a:off x="0" y="4586040"/>
              <a:ext cx="781200" cy="225756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0" y="1440"/>
              <a:ext cx="781200" cy="2751120"/>
            </a:xfrm>
            <a:prstGeom prst="rect">
              <a:avLst/>
            </a:prstGeom>
            <a:solidFill>
              <a:srgbClr val="a4e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1200" y="1440"/>
              <a:ext cx="576000" cy="17892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1200" y="1760400"/>
              <a:ext cx="576000" cy="5083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0" y="2741400"/>
              <a:ext cx="7812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3709800"/>
              <a:ext cx="7812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362240" y="2431800"/>
              <a:ext cx="362880" cy="1562040"/>
              <a:chOff x="1362240" y="2431800"/>
              <a:chExt cx="362880" cy="1562040"/>
            </a:xfrm>
          </p:grpSpPr>
          <p:sp>
            <p:nvSpPr>
              <p:cNvPr id="428" name=""/>
              <p:cNvSpPr/>
              <p:nvPr/>
            </p:nvSpPr>
            <p:spPr>
              <a:xfrm>
                <a:off x="1362240" y="2431800"/>
                <a:ext cx="182160" cy="156204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42960" y="3882600"/>
                <a:ext cx="182160" cy="108000"/>
              </a:xfrm>
              <a:prstGeom prst="rect">
                <a:avLst/>
              </a:prstGeom>
              <a:solidFill>
                <a:srgbClr val="3189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216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1533600" y="3645000"/>
            <a:ext cx="7142040" cy="3240"/>
            <a:chOff x="1533600" y="3645000"/>
            <a:chExt cx="7142040" cy="3240"/>
          </a:xfrm>
        </p:grpSpPr>
        <p:sp>
          <p:nvSpPr>
            <p:cNvPr id="431" name=""/>
            <p:cNvSpPr/>
            <p:nvPr/>
          </p:nvSpPr>
          <p:spPr>
            <a:xfrm>
              <a:off x="1533600" y="3645000"/>
              <a:ext cx="7142040" cy="3240"/>
            </a:xfrm>
            <a:prstGeom prst="line">
              <a:avLst/>
            </a:prstGeom>
            <a:ln w="7200">
              <a:solidFill>
                <a:srgbClr val="3189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1533600" y="3645000"/>
              <a:ext cx="71420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49080" y="2439720"/>
            <a:ext cx="71485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dt" idx="28"/>
          </p:nvPr>
        </p:nvSpPr>
        <p:spPr>
          <a:xfrm>
            <a:off x="134568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29"/>
          </p:nvPr>
        </p:nvSpPr>
        <p:spPr>
          <a:xfrm>
            <a:off x="411012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30"/>
          </p:nvPr>
        </p:nvSpPr>
        <p:spPr>
          <a:xfrm>
            <a:off x="6875640" y="6244920"/>
            <a:ext cx="180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17AC-19E2-4A92-945A-C5C2F5DC16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74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dt" idx="3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3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3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464F-51D7-4D1F-8645-4C574A55C1D6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519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3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3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3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8BCE-6993-46DF-B2A5-754719796577}" type="slidenum">
              <a:rPr b="0" lang="zh-CN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9116-71DB-4852-8BE9-4EC017044A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3240" y="0"/>
            <a:ext cx="9137520" cy="6853320"/>
            <a:chOff x="3240" y="0"/>
            <a:chExt cx="9137520" cy="6853320"/>
          </a:xfrm>
        </p:grpSpPr>
        <p:sp>
          <p:nvSpPr>
            <p:cNvPr id="83" name="未知"/>
            <p:cNvSpPr/>
            <p:nvPr/>
          </p:nvSpPr>
          <p:spPr>
            <a:xfrm>
              <a:off x="3240" y="0"/>
              <a:ext cx="8391600" cy="2222640"/>
            </a:xfrm>
            <a:custGeom>
              <a:avLst/>
              <a:gdLst/>
              <a:ahLst/>
              <a:rect l="l" t="t" r="r" b="b"/>
              <a:pathLst>
                <a:path w="15857" h="4199">
                  <a:moveTo>
                    <a:pt x="0" y="4199"/>
                  </a:moveTo>
                  <a:lnTo>
                    <a:pt x="112" y="3894"/>
                  </a:lnTo>
                  <a:lnTo>
                    <a:pt x="252" y="3603"/>
                  </a:lnTo>
                  <a:lnTo>
                    <a:pt x="421" y="3327"/>
                  </a:lnTo>
                  <a:lnTo>
                    <a:pt x="618" y="3066"/>
                  </a:lnTo>
                  <a:lnTo>
                    <a:pt x="843" y="2817"/>
                  </a:lnTo>
                  <a:lnTo>
                    <a:pt x="1096" y="2582"/>
                  </a:lnTo>
                  <a:lnTo>
                    <a:pt x="1375" y="2360"/>
                  </a:lnTo>
                  <a:lnTo>
                    <a:pt x="1681" y="2151"/>
                  </a:lnTo>
                  <a:lnTo>
                    <a:pt x="2014" y="1953"/>
                  </a:lnTo>
                  <a:lnTo>
                    <a:pt x="2371" y="1768"/>
                  </a:lnTo>
                  <a:lnTo>
                    <a:pt x="2754" y="1594"/>
                  </a:lnTo>
                  <a:lnTo>
                    <a:pt x="3163" y="1432"/>
                  </a:lnTo>
                  <a:lnTo>
                    <a:pt x="3595" y="1280"/>
                  </a:lnTo>
                  <a:lnTo>
                    <a:pt x="4052" y="1140"/>
                  </a:lnTo>
                  <a:lnTo>
                    <a:pt x="4531" y="1009"/>
                  </a:lnTo>
                  <a:lnTo>
                    <a:pt x="5034" y="888"/>
                  </a:lnTo>
                  <a:lnTo>
                    <a:pt x="5559" y="776"/>
                  </a:lnTo>
                  <a:lnTo>
                    <a:pt x="6107" y="673"/>
                  </a:lnTo>
                  <a:lnTo>
                    <a:pt x="6676" y="580"/>
                  </a:lnTo>
                  <a:lnTo>
                    <a:pt x="7267" y="495"/>
                  </a:lnTo>
                  <a:lnTo>
                    <a:pt x="7879" y="417"/>
                  </a:lnTo>
                  <a:lnTo>
                    <a:pt x="8511" y="348"/>
                  </a:lnTo>
                  <a:lnTo>
                    <a:pt x="9162" y="286"/>
                  </a:lnTo>
                  <a:lnTo>
                    <a:pt x="9834" y="231"/>
                  </a:lnTo>
                  <a:lnTo>
                    <a:pt x="10525" y="183"/>
                  </a:lnTo>
                  <a:lnTo>
                    <a:pt x="11234" y="140"/>
                  </a:lnTo>
                  <a:lnTo>
                    <a:pt x="11961" y="104"/>
                  </a:lnTo>
                  <a:lnTo>
                    <a:pt x="12707" y="73"/>
                  </a:lnTo>
                  <a:lnTo>
                    <a:pt x="13469" y="48"/>
                  </a:lnTo>
                  <a:lnTo>
                    <a:pt x="14249" y="27"/>
                  </a:lnTo>
                  <a:lnTo>
                    <a:pt x="15045" y="12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4199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3240" y="0"/>
              <a:ext cx="8391600" cy="1836720"/>
            </a:xfrm>
            <a:custGeom>
              <a:avLst/>
              <a:gdLst/>
              <a:ahLst/>
              <a:rect l="l" t="t" r="r" b="b"/>
              <a:pathLst>
                <a:path w="15857" h="3472">
                  <a:moveTo>
                    <a:pt x="0" y="3472"/>
                  </a:moveTo>
                  <a:lnTo>
                    <a:pt x="123" y="3202"/>
                  </a:lnTo>
                  <a:lnTo>
                    <a:pt x="272" y="2945"/>
                  </a:lnTo>
                  <a:lnTo>
                    <a:pt x="449" y="2703"/>
                  </a:lnTo>
                  <a:lnTo>
                    <a:pt x="652" y="2475"/>
                  </a:lnTo>
                  <a:lnTo>
                    <a:pt x="883" y="2260"/>
                  </a:lnTo>
                  <a:lnTo>
                    <a:pt x="1140" y="2059"/>
                  </a:lnTo>
                  <a:lnTo>
                    <a:pt x="1423" y="1869"/>
                  </a:lnTo>
                  <a:lnTo>
                    <a:pt x="1732" y="1692"/>
                  </a:lnTo>
                  <a:lnTo>
                    <a:pt x="2065" y="1526"/>
                  </a:lnTo>
                  <a:lnTo>
                    <a:pt x="2424" y="1373"/>
                  </a:lnTo>
                  <a:lnTo>
                    <a:pt x="2807" y="1229"/>
                  </a:lnTo>
                  <a:lnTo>
                    <a:pt x="3215" y="1096"/>
                  </a:lnTo>
                  <a:lnTo>
                    <a:pt x="3647" y="974"/>
                  </a:lnTo>
                  <a:lnTo>
                    <a:pt x="4101" y="861"/>
                  </a:lnTo>
                  <a:lnTo>
                    <a:pt x="4579" y="757"/>
                  </a:lnTo>
                  <a:lnTo>
                    <a:pt x="5079" y="662"/>
                  </a:lnTo>
                  <a:lnTo>
                    <a:pt x="5601" y="576"/>
                  </a:lnTo>
                  <a:lnTo>
                    <a:pt x="6146" y="497"/>
                  </a:lnTo>
                  <a:lnTo>
                    <a:pt x="6712" y="426"/>
                  </a:lnTo>
                  <a:lnTo>
                    <a:pt x="7298" y="362"/>
                  </a:lnTo>
                  <a:lnTo>
                    <a:pt x="7906" y="305"/>
                  </a:lnTo>
                  <a:lnTo>
                    <a:pt x="8535" y="254"/>
                  </a:lnTo>
                  <a:lnTo>
                    <a:pt x="9183" y="208"/>
                  </a:lnTo>
                  <a:lnTo>
                    <a:pt x="9851" y="169"/>
                  </a:lnTo>
                  <a:lnTo>
                    <a:pt x="10538" y="134"/>
                  </a:lnTo>
                  <a:lnTo>
                    <a:pt x="11244" y="105"/>
                  </a:lnTo>
                  <a:lnTo>
                    <a:pt x="11969" y="79"/>
                  </a:lnTo>
                  <a:lnTo>
                    <a:pt x="12712" y="57"/>
                  </a:lnTo>
                  <a:lnTo>
                    <a:pt x="13472" y="39"/>
                  </a:lnTo>
                  <a:lnTo>
                    <a:pt x="14250" y="24"/>
                  </a:lnTo>
                  <a:lnTo>
                    <a:pt x="15046" y="11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3472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5191200" y="5148360"/>
              <a:ext cx="3949560" cy="1704960"/>
            </a:xfrm>
            <a:custGeom>
              <a:avLst/>
              <a:gdLst/>
              <a:ahLst/>
              <a:rect l="l" t="t" r="r" b="b"/>
              <a:pathLst>
                <a:path w="7465" h="3223">
                  <a:moveTo>
                    <a:pt x="7465" y="0"/>
                  </a:moveTo>
                  <a:lnTo>
                    <a:pt x="7413" y="235"/>
                  </a:lnTo>
                  <a:lnTo>
                    <a:pt x="7347" y="457"/>
                  </a:lnTo>
                  <a:lnTo>
                    <a:pt x="7267" y="670"/>
                  </a:lnTo>
                  <a:lnTo>
                    <a:pt x="7174" y="871"/>
                  </a:lnTo>
                  <a:lnTo>
                    <a:pt x="7068" y="1061"/>
                  </a:lnTo>
                  <a:lnTo>
                    <a:pt x="6949" y="1241"/>
                  </a:lnTo>
                  <a:lnTo>
                    <a:pt x="6818" y="1412"/>
                  </a:lnTo>
                  <a:lnTo>
                    <a:pt x="6674" y="1573"/>
                  </a:lnTo>
                  <a:lnTo>
                    <a:pt x="6517" y="1724"/>
                  </a:lnTo>
                  <a:lnTo>
                    <a:pt x="6349" y="1867"/>
                  </a:lnTo>
                  <a:lnTo>
                    <a:pt x="6169" y="2000"/>
                  </a:lnTo>
                  <a:lnTo>
                    <a:pt x="5976" y="2125"/>
                  </a:lnTo>
                  <a:lnTo>
                    <a:pt x="5773" y="2240"/>
                  </a:lnTo>
                  <a:lnTo>
                    <a:pt x="5558" y="2350"/>
                  </a:lnTo>
                  <a:lnTo>
                    <a:pt x="5332" y="2450"/>
                  </a:lnTo>
                  <a:lnTo>
                    <a:pt x="5095" y="2543"/>
                  </a:lnTo>
                  <a:lnTo>
                    <a:pt x="4848" y="2628"/>
                  </a:lnTo>
                  <a:lnTo>
                    <a:pt x="4590" y="2707"/>
                  </a:lnTo>
                  <a:lnTo>
                    <a:pt x="4322" y="2778"/>
                  </a:lnTo>
                  <a:lnTo>
                    <a:pt x="4044" y="2844"/>
                  </a:lnTo>
                  <a:lnTo>
                    <a:pt x="3756" y="2904"/>
                  </a:lnTo>
                  <a:lnTo>
                    <a:pt x="3459" y="2957"/>
                  </a:lnTo>
                  <a:lnTo>
                    <a:pt x="3151" y="3004"/>
                  </a:lnTo>
                  <a:lnTo>
                    <a:pt x="2836" y="3046"/>
                  </a:lnTo>
                  <a:lnTo>
                    <a:pt x="2511" y="3084"/>
                  </a:lnTo>
                  <a:lnTo>
                    <a:pt x="2176" y="3117"/>
                  </a:lnTo>
                  <a:lnTo>
                    <a:pt x="1833" y="3144"/>
                  </a:lnTo>
                  <a:lnTo>
                    <a:pt x="1482" y="3167"/>
                  </a:lnTo>
                  <a:lnTo>
                    <a:pt x="1124" y="3187"/>
                  </a:lnTo>
                  <a:lnTo>
                    <a:pt x="757" y="3203"/>
                  </a:lnTo>
                  <a:lnTo>
                    <a:pt x="382" y="3215"/>
                  </a:lnTo>
                  <a:lnTo>
                    <a:pt x="0" y="3223"/>
                  </a:lnTo>
                  <a:lnTo>
                    <a:pt x="7465" y="3223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191200" y="5443560"/>
              <a:ext cx="3949560" cy="1409760"/>
            </a:xfrm>
            <a:custGeom>
              <a:avLst/>
              <a:gdLst/>
              <a:ahLst/>
              <a:rect l="l" t="t" r="r" b="b"/>
              <a:pathLst>
                <a:path w="7465" h="2664">
                  <a:moveTo>
                    <a:pt x="7465" y="0"/>
                  </a:moveTo>
                  <a:lnTo>
                    <a:pt x="7407" y="207"/>
                  </a:lnTo>
                  <a:lnTo>
                    <a:pt x="7337" y="404"/>
                  </a:lnTo>
                  <a:lnTo>
                    <a:pt x="7254" y="589"/>
                  </a:lnTo>
                  <a:lnTo>
                    <a:pt x="7158" y="764"/>
                  </a:lnTo>
                  <a:lnTo>
                    <a:pt x="7050" y="930"/>
                  </a:lnTo>
                  <a:lnTo>
                    <a:pt x="6929" y="1084"/>
                  </a:lnTo>
                  <a:lnTo>
                    <a:pt x="6795" y="1230"/>
                  </a:lnTo>
                  <a:lnTo>
                    <a:pt x="6650" y="1366"/>
                  </a:lnTo>
                  <a:lnTo>
                    <a:pt x="6493" y="1492"/>
                  </a:lnTo>
                  <a:lnTo>
                    <a:pt x="6324" y="1611"/>
                  </a:lnTo>
                  <a:lnTo>
                    <a:pt x="6144" y="1721"/>
                  </a:lnTo>
                  <a:lnTo>
                    <a:pt x="5951" y="1823"/>
                  </a:lnTo>
                  <a:lnTo>
                    <a:pt x="5748" y="1917"/>
                  </a:lnTo>
                  <a:lnTo>
                    <a:pt x="5535" y="2004"/>
                  </a:lnTo>
                  <a:lnTo>
                    <a:pt x="5310" y="2083"/>
                  </a:lnTo>
                  <a:lnTo>
                    <a:pt x="5074" y="2157"/>
                  </a:lnTo>
                  <a:lnTo>
                    <a:pt x="4828" y="2223"/>
                  </a:lnTo>
                  <a:lnTo>
                    <a:pt x="4572" y="2283"/>
                  </a:lnTo>
                  <a:lnTo>
                    <a:pt x="4306" y="2338"/>
                  </a:lnTo>
                  <a:lnTo>
                    <a:pt x="4029" y="2387"/>
                  </a:lnTo>
                  <a:lnTo>
                    <a:pt x="3743" y="2431"/>
                  </a:lnTo>
                  <a:lnTo>
                    <a:pt x="3447" y="2470"/>
                  </a:lnTo>
                  <a:lnTo>
                    <a:pt x="3142" y="2505"/>
                  </a:lnTo>
                  <a:lnTo>
                    <a:pt x="2827" y="2535"/>
                  </a:lnTo>
                  <a:lnTo>
                    <a:pt x="2504" y="2562"/>
                  </a:lnTo>
                  <a:lnTo>
                    <a:pt x="2171" y="2585"/>
                  </a:lnTo>
                  <a:lnTo>
                    <a:pt x="1830" y="2604"/>
                  </a:lnTo>
                  <a:lnTo>
                    <a:pt x="1480" y="2621"/>
                  </a:lnTo>
                  <a:lnTo>
                    <a:pt x="1123" y="2635"/>
                  </a:lnTo>
                  <a:lnTo>
                    <a:pt x="756" y="2647"/>
                  </a:lnTo>
                  <a:lnTo>
                    <a:pt x="382" y="2657"/>
                  </a:lnTo>
                  <a:lnTo>
                    <a:pt x="0" y="2664"/>
                  </a:lnTo>
                  <a:lnTo>
                    <a:pt x="7465" y="2664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6AC1-7F01-4C93-89B3-EEB9EF75BC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1440"/>
            <a:ext cx="9131400" cy="6843960"/>
            <a:chOff x="0" y="1440"/>
            <a:chExt cx="9131400" cy="6843960"/>
          </a:xfrm>
        </p:grpSpPr>
        <p:sp>
          <p:nvSpPr>
            <p:cNvPr id="129" name=""/>
            <p:cNvSpPr/>
            <p:nvPr/>
          </p:nvSpPr>
          <p:spPr>
            <a:xfrm>
              <a:off x="0" y="1440"/>
              <a:ext cx="9128160" cy="684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4680" y="1454040"/>
              <a:ext cx="9126720" cy="5389560"/>
            </a:xfrm>
            <a:custGeom>
              <a:avLst/>
              <a:gdLst/>
              <a:ahLst/>
              <a:rect l="l" t="t" r="r" b="b"/>
              <a:pathLst>
                <a:path w="17249" h="10185">
                  <a:moveTo>
                    <a:pt x="0" y="0"/>
                  </a:moveTo>
                  <a:lnTo>
                    <a:pt x="121" y="741"/>
                  </a:lnTo>
                  <a:lnTo>
                    <a:pt x="273" y="1445"/>
                  </a:lnTo>
                  <a:lnTo>
                    <a:pt x="456" y="2114"/>
                  </a:lnTo>
                  <a:lnTo>
                    <a:pt x="671" y="2750"/>
                  </a:lnTo>
                  <a:lnTo>
                    <a:pt x="916" y="3353"/>
                  </a:lnTo>
                  <a:lnTo>
                    <a:pt x="1191" y="3923"/>
                  </a:lnTo>
                  <a:lnTo>
                    <a:pt x="1495" y="4461"/>
                  </a:lnTo>
                  <a:lnTo>
                    <a:pt x="1828" y="4969"/>
                  </a:lnTo>
                  <a:lnTo>
                    <a:pt x="2190" y="5448"/>
                  </a:lnTo>
                  <a:lnTo>
                    <a:pt x="2579" y="5897"/>
                  </a:lnTo>
                  <a:lnTo>
                    <a:pt x="2995" y="6318"/>
                  </a:lnTo>
                  <a:lnTo>
                    <a:pt x="3439" y="6711"/>
                  </a:lnTo>
                  <a:lnTo>
                    <a:pt x="3910" y="7079"/>
                  </a:lnTo>
                  <a:lnTo>
                    <a:pt x="4406" y="7421"/>
                  </a:lnTo>
                  <a:lnTo>
                    <a:pt x="4928" y="7738"/>
                  </a:lnTo>
                  <a:lnTo>
                    <a:pt x="5475" y="8032"/>
                  </a:lnTo>
                  <a:lnTo>
                    <a:pt x="6046" y="8303"/>
                  </a:lnTo>
                  <a:lnTo>
                    <a:pt x="6643" y="8551"/>
                  </a:lnTo>
                  <a:lnTo>
                    <a:pt x="7261" y="8778"/>
                  </a:lnTo>
                  <a:lnTo>
                    <a:pt x="7904" y="8985"/>
                  </a:lnTo>
                  <a:lnTo>
                    <a:pt x="8569" y="9172"/>
                  </a:lnTo>
                  <a:lnTo>
                    <a:pt x="9257" y="9341"/>
                  </a:lnTo>
                  <a:lnTo>
                    <a:pt x="9966" y="9492"/>
                  </a:lnTo>
                  <a:lnTo>
                    <a:pt x="10697" y="9626"/>
                  </a:lnTo>
                  <a:lnTo>
                    <a:pt x="11448" y="9742"/>
                  </a:lnTo>
                  <a:lnTo>
                    <a:pt x="12220" y="9845"/>
                  </a:lnTo>
                  <a:lnTo>
                    <a:pt x="13011" y="9932"/>
                  </a:lnTo>
                  <a:lnTo>
                    <a:pt x="13821" y="10007"/>
                  </a:lnTo>
                  <a:lnTo>
                    <a:pt x="14652" y="10068"/>
                  </a:lnTo>
                  <a:lnTo>
                    <a:pt x="15500" y="10118"/>
                  </a:lnTo>
                  <a:lnTo>
                    <a:pt x="16366" y="10156"/>
                  </a:lnTo>
                  <a:lnTo>
                    <a:pt x="17249" y="10185"/>
                  </a:lnTo>
                  <a:lnTo>
                    <a:pt x="0" y="10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4680" y="2389320"/>
              <a:ext cx="9126720" cy="4454280"/>
            </a:xfrm>
            <a:custGeom>
              <a:avLst/>
              <a:gdLst/>
              <a:ahLst/>
              <a:rect l="l" t="t" r="r" b="b"/>
              <a:pathLst>
                <a:path w="17249" h="8420">
                  <a:moveTo>
                    <a:pt x="0" y="0"/>
                  </a:moveTo>
                  <a:lnTo>
                    <a:pt x="132" y="656"/>
                  </a:lnTo>
                  <a:lnTo>
                    <a:pt x="294" y="1277"/>
                  </a:lnTo>
                  <a:lnTo>
                    <a:pt x="487" y="1863"/>
                  </a:lnTo>
                  <a:lnTo>
                    <a:pt x="708" y="2417"/>
                  </a:lnTo>
                  <a:lnTo>
                    <a:pt x="960" y="2938"/>
                  </a:lnTo>
                  <a:lnTo>
                    <a:pt x="1239" y="3427"/>
                  </a:lnTo>
                  <a:lnTo>
                    <a:pt x="1547" y="3886"/>
                  </a:lnTo>
                  <a:lnTo>
                    <a:pt x="1883" y="4316"/>
                  </a:lnTo>
                  <a:lnTo>
                    <a:pt x="2246" y="4717"/>
                  </a:lnTo>
                  <a:lnTo>
                    <a:pt x="2636" y="5091"/>
                  </a:lnTo>
                  <a:lnTo>
                    <a:pt x="3053" y="5438"/>
                  </a:lnTo>
                  <a:lnTo>
                    <a:pt x="3497" y="5760"/>
                  </a:lnTo>
                  <a:lnTo>
                    <a:pt x="3965" y="6057"/>
                  </a:lnTo>
                  <a:lnTo>
                    <a:pt x="4460" y="6332"/>
                  </a:lnTo>
                  <a:lnTo>
                    <a:pt x="4979" y="6583"/>
                  </a:lnTo>
                  <a:lnTo>
                    <a:pt x="5524" y="6814"/>
                  </a:lnTo>
                  <a:lnTo>
                    <a:pt x="6092" y="7024"/>
                  </a:lnTo>
                  <a:lnTo>
                    <a:pt x="6685" y="7215"/>
                  </a:lnTo>
                  <a:lnTo>
                    <a:pt x="7300" y="7388"/>
                  </a:lnTo>
                  <a:lnTo>
                    <a:pt x="7939" y="7543"/>
                  </a:lnTo>
                  <a:lnTo>
                    <a:pt x="8600" y="7681"/>
                  </a:lnTo>
                  <a:lnTo>
                    <a:pt x="9283" y="7806"/>
                  </a:lnTo>
                  <a:lnTo>
                    <a:pt x="9988" y="7915"/>
                  </a:lnTo>
                  <a:lnTo>
                    <a:pt x="10715" y="8010"/>
                  </a:lnTo>
                  <a:lnTo>
                    <a:pt x="11463" y="8094"/>
                  </a:lnTo>
                  <a:lnTo>
                    <a:pt x="12231" y="8166"/>
                  </a:lnTo>
                  <a:lnTo>
                    <a:pt x="13019" y="8228"/>
                  </a:lnTo>
                  <a:lnTo>
                    <a:pt x="13827" y="8281"/>
                  </a:lnTo>
                  <a:lnTo>
                    <a:pt x="14654" y="8325"/>
                  </a:lnTo>
                  <a:lnTo>
                    <a:pt x="15501" y="8363"/>
                  </a:lnTo>
                  <a:lnTo>
                    <a:pt x="16366" y="8394"/>
                  </a:lnTo>
                  <a:lnTo>
                    <a:pt x="17249" y="8420"/>
                  </a:lnTo>
                  <a:lnTo>
                    <a:pt x="0" y="8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3135240" y="4680"/>
              <a:ext cx="5989680" cy="3086280"/>
            </a:xfrm>
            <a:custGeom>
              <a:avLst/>
              <a:gdLst/>
              <a:ahLst/>
              <a:rect l="l" t="t" r="r" b="b"/>
              <a:pathLst>
                <a:path w="11319" h="5832">
                  <a:moveTo>
                    <a:pt x="11319" y="5832"/>
                  </a:moveTo>
                  <a:lnTo>
                    <a:pt x="11239" y="5407"/>
                  </a:lnTo>
                  <a:lnTo>
                    <a:pt x="11140" y="5004"/>
                  </a:lnTo>
                  <a:lnTo>
                    <a:pt x="11019" y="4621"/>
                  </a:lnTo>
                  <a:lnTo>
                    <a:pt x="10879" y="4257"/>
                  </a:lnTo>
                  <a:lnTo>
                    <a:pt x="10718" y="3912"/>
                  </a:lnTo>
                  <a:lnTo>
                    <a:pt x="10537" y="3586"/>
                  </a:lnTo>
                  <a:lnTo>
                    <a:pt x="10338" y="3277"/>
                  </a:lnTo>
                  <a:lnTo>
                    <a:pt x="10119" y="2986"/>
                  </a:lnTo>
                  <a:lnTo>
                    <a:pt x="9882" y="2712"/>
                  </a:lnTo>
                  <a:lnTo>
                    <a:pt x="9627" y="2455"/>
                  </a:lnTo>
                  <a:lnTo>
                    <a:pt x="9353" y="2214"/>
                  </a:lnTo>
                  <a:lnTo>
                    <a:pt x="9062" y="1989"/>
                  </a:lnTo>
                  <a:lnTo>
                    <a:pt x="8753" y="1778"/>
                  </a:lnTo>
                  <a:lnTo>
                    <a:pt x="8427" y="1583"/>
                  </a:lnTo>
                  <a:lnTo>
                    <a:pt x="8085" y="1400"/>
                  </a:lnTo>
                  <a:lnTo>
                    <a:pt x="7726" y="1233"/>
                  </a:lnTo>
                  <a:lnTo>
                    <a:pt x="7351" y="1077"/>
                  </a:lnTo>
                  <a:lnTo>
                    <a:pt x="6960" y="935"/>
                  </a:lnTo>
                  <a:lnTo>
                    <a:pt x="6553" y="805"/>
                  </a:lnTo>
                  <a:lnTo>
                    <a:pt x="6132" y="686"/>
                  </a:lnTo>
                  <a:lnTo>
                    <a:pt x="5696" y="579"/>
                  </a:lnTo>
                  <a:lnTo>
                    <a:pt x="5244" y="483"/>
                  </a:lnTo>
                  <a:lnTo>
                    <a:pt x="4779" y="397"/>
                  </a:lnTo>
                  <a:lnTo>
                    <a:pt x="4299" y="320"/>
                  </a:lnTo>
                  <a:lnTo>
                    <a:pt x="3807" y="253"/>
                  </a:lnTo>
                  <a:lnTo>
                    <a:pt x="3300" y="194"/>
                  </a:lnTo>
                  <a:lnTo>
                    <a:pt x="2781" y="144"/>
                  </a:lnTo>
                  <a:lnTo>
                    <a:pt x="2250" y="101"/>
                  </a:lnTo>
                  <a:lnTo>
                    <a:pt x="1704" y="67"/>
                  </a:lnTo>
                  <a:lnTo>
                    <a:pt x="1148" y="38"/>
                  </a:lnTo>
                  <a:lnTo>
                    <a:pt x="580" y="16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5832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3135240" y="4680"/>
              <a:ext cx="5989680" cy="2551320"/>
            </a:xfrm>
            <a:custGeom>
              <a:avLst/>
              <a:gdLst/>
              <a:ahLst/>
              <a:rect l="l" t="t" r="r" b="b"/>
              <a:pathLst>
                <a:path w="11319" h="4822">
                  <a:moveTo>
                    <a:pt x="11319" y="4822"/>
                  </a:moveTo>
                  <a:lnTo>
                    <a:pt x="11232" y="4446"/>
                  </a:lnTo>
                  <a:lnTo>
                    <a:pt x="11126" y="4090"/>
                  </a:lnTo>
                  <a:lnTo>
                    <a:pt x="11000" y="3754"/>
                  </a:lnTo>
                  <a:lnTo>
                    <a:pt x="10854" y="3438"/>
                  </a:lnTo>
                  <a:lnTo>
                    <a:pt x="10689" y="3139"/>
                  </a:lnTo>
                  <a:lnTo>
                    <a:pt x="10506" y="2859"/>
                  </a:lnTo>
                  <a:lnTo>
                    <a:pt x="10304" y="2595"/>
                  </a:lnTo>
                  <a:lnTo>
                    <a:pt x="10084" y="2350"/>
                  </a:lnTo>
                  <a:lnTo>
                    <a:pt x="9845" y="2120"/>
                  </a:lnTo>
                  <a:lnTo>
                    <a:pt x="9589" y="1907"/>
                  </a:lnTo>
                  <a:lnTo>
                    <a:pt x="9315" y="1707"/>
                  </a:lnTo>
                  <a:lnTo>
                    <a:pt x="9024" y="1523"/>
                  </a:lnTo>
                  <a:lnTo>
                    <a:pt x="8717" y="1353"/>
                  </a:lnTo>
                  <a:lnTo>
                    <a:pt x="8393" y="1195"/>
                  </a:lnTo>
                  <a:lnTo>
                    <a:pt x="8051" y="1051"/>
                  </a:lnTo>
                  <a:lnTo>
                    <a:pt x="7694" y="920"/>
                  </a:lnTo>
                  <a:lnTo>
                    <a:pt x="7321" y="799"/>
                  </a:lnTo>
                  <a:lnTo>
                    <a:pt x="6932" y="690"/>
                  </a:lnTo>
                  <a:lnTo>
                    <a:pt x="6528" y="590"/>
                  </a:lnTo>
                  <a:lnTo>
                    <a:pt x="6109" y="502"/>
                  </a:lnTo>
                  <a:lnTo>
                    <a:pt x="5675" y="423"/>
                  </a:lnTo>
                  <a:lnTo>
                    <a:pt x="5227" y="352"/>
                  </a:lnTo>
                  <a:lnTo>
                    <a:pt x="4765" y="289"/>
                  </a:lnTo>
                  <a:lnTo>
                    <a:pt x="4287" y="234"/>
                  </a:lnTo>
                  <a:lnTo>
                    <a:pt x="3797" y="186"/>
                  </a:lnTo>
                  <a:lnTo>
                    <a:pt x="3293" y="145"/>
                  </a:lnTo>
                  <a:lnTo>
                    <a:pt x="2775" y="110"/>
                  </a:lnTo>
                  <a:lnTo>
                    <a:pt x="2245" y="79"/>
                  </a:lnTo>
                  <a:lnTo>
                    <a:pt x="1703" y="54"/>
                  </a:lnTo>
                  <a:lnTo>
                    <a:pt x="1147" y="32"/>
                  </a:lnTo>
                  <a:lnTo>
                    <a:pt x="580" y="15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4822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9480" y="6070680"/>
              <a:ext cx="270000" cy="361800"/>
            </a:xfrm>
            <a:prstGeom prst="rect">
              <a:avLst/>
            </a:prstGeom>
            <a:solidFill>
              <a:srgbClr val="42b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91640" y="6070680"/>
              <a:ext cx="387360" cy="361800"/>
            </a:xfrm>
            <a:prstGeom prst="rect">
              <a:avLst/>
            </a:prstGeom>
            <a:solidFill>
              <a:srgbClr val="009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53360" y="6070680"/>
              <a:ext cx="185760" cy="3618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88440" y="5872320"/>
              <a:ext cx="388800" cy="758520"/>
            </a:xfrm>
            <a:custGeom>
              <a:avLst/>
              <a:gdLst/>
              <a:ahLst/>
              <a:rect l="l" t="t" r="r" b="b"/>
              <a:pathLst>
                <a:path w="736" h="1435">
                  <a:moveTo>
                    <a:pt x="0" y="0"/>
                  </a:moveTo>
                  <a:lnTo>
                    <a:pt x="736" y="716"/>
                  </a:lnTo>
                  <a:lnTo>
                    <a:pt x="0" y="14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1144440" y="334800"/>
              <a:ext cx="203400" cy="203400"/>
            </a:xfrm>
            <a:custGeom>
              <a:avLst/>
              <a:gdLst/>
              <a:ahLst/>
              <a:rect l="l" t="t" r="r" b="b"/>
              <a:pathLst>
                <a:path w="386" h="386">
                  <a:moveTo>
                    <a:pt x="386" y="193"/>
                  </a:moveTo>
                  <a:lnTo>
                    <a:pt x="386" y="174"/>
                  </a:lnTo>
                  <a:lnTo>
                    <a:pt x="382" y="154"/>
                  </a:lnTo>
                  <a:lnTo>
                    <a:pt x="377" y="136"/>
                  </a:lnTo>
                  <a:lnTo>
                    <a:pt x="371" y="117"/>
                  </a:lnTo>
                  <a:lnTo>
                    <a:pt x="363" y="101"/>
                  </a:lnTo>
                  <a:lnTo>
                    <a:pt x="353" y="85"/>
                  </a:lnTo>
                  <a:lnTo>
                    <a:pt x="343" y="70"/>
                  </a:lnTo>
                  <a:lnTo>
                    <a:pt x="330" y="56"/>
                  </a:lnTo>
                  <a:lnTo>
                    <a:pt x="316" y="44"/>
                  </a:lnTo>
                  <a:lnTo>
                    <a:pt x="300" y="32"/>
                  </a:lnTo>
                  <a:lnTo>
                    <a:pt x="285" y="23"/>
                  </a:lnTo>
                  <a:lnTo>
                    <a:pt x="268" y="15"/>
                  </a:lnTo>
                  <a:lnTo>
                    <a:pt x="251" y="8"/>
                  </a:lnTo>
                  <a:lnTo>
                    <a:pt x="232" y="4"/>
                  </a:lnTo>
                  <a:lnTo>
                    <a:pt x="213" y="1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5" y="4"/>
                  </a:lnTo>
                  <a:lnTo>
                    <a:pt x="135" y="8"/>
                  </a:lnTo>
                  <a:lnTo>
                    <a:pt x="118" y="15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4"/>
                  </a:lnTo>
                  <a:lnTo>
                    <a:pt x="56" y="56"/>
                  </a:lnTo>
                  <a:lnTo>
                    <a:pt x="44" y="70"/>
                  </a:lnTo>
                  <a:lnTo>
                    <a:pt x="33" y="85"/>
                  </a:lnTo>
                  <a:lnTo>
                    <a:pt x="23" y="101"/>
                  </a:lnTo>
                  <a:lnTo>
                    <a:pt x="15" y="117"/>
                  </a:lnTo>
                  <a:lnTo>
                    <a:pt x="9" y="136"/>
                  </a:lnTo>
                  <a:lnTo>
                    <a:pt x="3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2"/>
                  </a:lnTo>
                  <a:lnTo>
                    <a:pt x="3" y="232"/>
                  </a:lnTo>
                  <a:lnTo>
                    <a:pt x="9" y="250"/>
                  </a:lnTo>
                  <a:lnTo>
                    <a:pt x="15" y="267"/>
                  </a:lnTo>
                  <a:lnTo>
                    <a:pt x="23" y="285"/>
                  </a:lnTo>
                  <a:lnTo>
                    <a:pt x="33" y="301"/>
                  </a:lnTo>
                  <a:lnTo>
                    <a:pt x="44" y="315"/>
                  </a:lnTo>
                  <a:lnTo>
                    <a:pt x="56" y="329"/>
                  </a:lnTo>
                  <a:lnTo>
                    <a:pt x="70" y="342"/>
                  </a:lnTo>
                  <a:lnTo>
                    <a:pt x="85" y="353"/>
                  </a:lnTo>
                  <a:lnTo>
                    <a:pt x="101" y="363"/>
                  </a:lnTo>
                  <a:lnTo>
                    <a:pt x="118" y="371"/>
                  </a:lnTo>
                  <a:lnTo>
                    <a:pt x="135" y="378"/>
                  </a:lnTo>
                  <a:lnTo>
                    <a:pt x="155" y="382"/>
                  </a:lnTo>
                  <a:lnTo>
                    <a:pt x="173" y="385"/>
                  </a:lnTo>
                  <a:lnTo>
                    <a:pt x="193" y="386"/>
                  </a:lnTo>
                  <a:lnTo>
                    <a:pt x="213" y="385"/>
                  </a:lnTo>
                  <a:lnTo>
                    <a:pt x="232" y="382"/>
                  </a:lnTo>
                  <a:lnTo>
                    <a:pt x="251" y="378"/>
                  </a:lnTo>
                  <a:lnTo>
                    <a:pt x="268" y="371"/>
                  </a:lnTo>
                  <a:lnTo>
                    <a:pt x="285" y="363"/>
                  </a:lnTo>
                  <a:lnTo>
                    <a:pt x="300" y="353"/>
                  </a:lnTo>
                  <a:lnTo>
                    <a:pt x="316" y="342"/>
                  </a:lnTo>
                  <a:lnTo>
                    <a:pt x="330" y="329"/>
                  </a:lnTo>
                  <a:lnTo>
                    <a:pt x="343" y="315"/>
                  </a:lnTo>
                  <a:lnTo>
                    <a:pt x="353" y="301"/>
                  </a:lnTo>
                  <a:lnTo>
                    <a:pt x="363" y="285"/>
                  </a:lnTo>
                  <a:lnTo>
                    <a:pt x="371" y="267"/>
                  </a:lnTo>
                  <a:lnTo>
                    <a:pt x="377" y="250"/>
                  </a:lnTo>
                  <a:lnTo>
                    <a:pt x="382" y="232"/>
                  </a:lnTo>
                  <a:lnTo>
                    <a:pt x="386" y="212"/>
                  </a:lnTo>
                  <a:lnTo>
                    <a:pt x="386" y="193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93720" y="314280"/>
              <a:ext cx="246240" cy="244440"/>
            </a:xfrm>
            <a:custGeom>
              <a:avLst/>
              <a:gdLst/>
              <a:ahLst/>
              <a:rect l="l" t="t" r="r" b="b"/>
              <a:pathLst>
                <a:path w="465" h="463">
                  <a:moveTo>
                    <a:pt x="465" y="232"/>
                  </a:moveTo>
                  <a:lnTo>
                    <a:pt x="465" y="220"/>
                  </a:lnTo>
                  <a:lnTo>
                    <a:pt x="464" y="208"/>
                  </a:lnTo>
                  <a:lnTo>
                    <a:pt x="461" y="196"/>
                  </a:lnTo>
                  <a:lnTo>
                    <a:pt x="460" y="186"/>
                  </a:lnTo>
                  <a:lnTo>
                    <a:pt x="457" y="174"/>
                  </a:lnTo>
                  <a:lnTo>
                    <a:pt x="454" y="163"/>
                  </a:lnTo>
                  <a:lnTo>
                    <a:pt x="451" y="152"/>
                  </a:lnTo>
                  <a:lnTo>
                    <a:pt x="446" y="141"/>
                  </a:lnTo>
                  <a:lnTo>
                    <a:pt x="442" y="132"/>
                  </a:lnTo>
                  <a:lnTo>
                    <a:pt x="437" y="122"/>
                  </a:lnTo>
                  <a:lnTo>
                    <a:pt x="431" y="112"/>
                  </a:lnTo>
                  <a:lnTo>
                    <a:pt x="425" y="102"/>
                  </a:lnTo>
                  <a:lnTo>
                    <a:pt x="412" y="84"/>
                  </a:lnTo>
                  <a:lnTo>
                    <a:pt x="397" y="68"/>
                  </a:lnTo>
                  <a:lnTo>
                    <a:pt x="380" y="53"/>
                  </a:lnTo>
                  <a:lnTo>
                    <a:pt x="362" y="40"/>
                  </a:lnTo>
                  <a:lnTo>
                    <a:pt x="352" y="33"/>
                  </a:lnTo>
                  <a:lnTo>
                    <a:pt x="343" y="28"/>
                  </a:lnTo>
                  <a:lnTo>
                    <a:pt x="333" y="22"/>
                  </a:lnTo>
                  <a:lnTo>
                    <a:pt x="323" y="18"/>
                  </a:lnTo>
                  <a:lnTo>
                    <a:pt x="312" y="14"/>
                  </a:lnTo>
                  <a:lnTo>
                    <a:pt x="302" y="11"/>
                  </a:lnTo>
                  <a:lnTo>
                    <a:pt x="291" y="7"/>
                  </a:lnTo>
                  <a:lnTo>
                    <a:pt x="279" y="4"/>
                  </a:lnTo>
                  <a:lnTo>
                    <a:pt x="268" y="3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6" y="4"/>
                  </a:lnTo>
                  <a:lnTo>
                    <a:pt x="175" y="7"/>
                  </a:lnTo>
                  <a:lnTo>
                    <a:pt x="163" y="11"/>
                  </a:lnTo>
                  <a:lnTo>
                    <a:pt x="152" y="14"/>
                  </a:lnTo>
                  <a:lnTo>
                    <a:pt x="143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3" y="33"/>
                  </a:lnTo>
                  <a:lnTo>
                    <a:pt x="103" y="40"/>
                  </a:lnTo>
                  <a:lnTo>
                    <a:pt x="86" y="53"/>
                  </a:lnTo>
                  <a:lnTo>
                    <a:pt x="68" y="68"/>
                  </a:lnTo>
                  <a:lnTo>
                    <a:pt x="54" y="84"/>
                  </a:lnTo>
                  <a:lnTo>
                    <a:pt x="40" y="102"/>
                  </a:lnTo>
                  <a:lnTo>
                    <a:pt x="35" y="112"/>
                  </a:lnTo>
                  <a:lnTo>
                    <a:pt x="28" y="122"/>
                  </a:lnTo>
                  <a:lnTo>
                    <a:pt x="24" y="132"/>
                  </a:lnTo>
                  <a:lnTo>
                    <a:pt x="19" y="141"/>
                  </a:lnTo>
                  <a:lnTo>
                    <a:pt x="15" y="152"/>
                  </a:lnTo>
                  <a:lnTo>
                    <a:pt x="11" y="163"/>
                  </a:lnTo>
                  <a:lnTo>
                    <a:pt x="8" y="174"/>
                  </a:lnTo>
                  <a:lnTo>
                    <a:pt x="6" y="186"/>
                  </a:lnTo>
                  <a:lnTo>
                    <a:pt x="3" y="196"/>
                  </a:lnTo>
                  <a:lnTo>
                    <a:pt x="2" y="208"/>
                  </a:lnTo>
                  <a:lnTo>
                    <a:pt x="1" y="220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6" y="278"/>
                  </a:lnTo>
                  <a:lnTo>
                    <a:pt x="8" y="289"/>
                  </a:lnTo>
                  <a:lnTo>
                    <a:pt x="11" y="301"/>
                  </a:lnTo>
                  <a:lnTo>
                    <a:pt x="15" y="311"/>
                  </a:lnTo>
                  <a:lnTo>
                    <a:pt x="19" y="322"/>
                  </a:lnTo>
                  <a:lnTo>
                    <a:pt x="24" y="332"/>
                  </a:lnTo>
                  <a:lnTo>
                    <a:pt x="28" y="342"/>
                  </a:lnTo>
                  <a:lnTo>
                    <a:pt x="35" y="352"/>
                  </a:lnTo>
                  <a:lnTo>
                    <a:pt x="40" y="362"/>
                  </a:lnTo>
                  <a:lnTo>
                    <a:pt x="54" y="379"/>
                  </a:lnTo>
                  <a:lnTo>
                    <a:pt x="68" y="395"/>
                  </a:lnTo>
                  <a:lnTo>
                    <a:pt x="86" y="410"/>
                  </a:lnTo>
                  <a:lnTo>
                    <a:pt x="103" y="424"/>
                  </a:lnTo>
                  <a:lnTo>
                    <a:pt x="113" y="430"/>
                  </a:lnTo>
                  <a:lnTo>
                    <a:pt x="122" y="436"/>
                  </a:lnTo>
                  <a:lnTo>
                    <a:pt x="132" y="440"/>
                  </a:lnTo>
                  <a:lnTo>
                    <a:pt x="143" y="446"/>
                  </a:lnTo>
                  <a:lnTo>
                    <a:pt x="152" y="449"/>
                  </a:lnTo>
                  <a:lnTo>
                    <a:pt x="163" y="453"/>
                  </a:lnTo>
                  <a:lnTo>
                    <a:pt x="175" y="457"/>
                  </a:lnTo>
                  <a:lnTo>
                    <a:pt x="186" y="459"/>
                  </a:lnTo>
                  <a:lnTo>
                    <a:pt x="198" y="461"/>
                  </a:lnTo>
                  <a:lnTo>
                    <a:pt x="209" y="462"/>
                  </a:lnTo>
                  <a:lnTo>
                    <a:pt x="221" y="463"/>
                  </a:lnTo>
                  <a:lnTo>
                    <a:pt x="232" y="463"/>
                  </a:lnTo>
                  <a:lnTo>
                    <a:pt x="244" y="463"/>
                  </a:lnTo>
                  <a:lnTo>
                    <a:pt x="256" y="462"/>
                  </a:lnTo>
                  <a:lnTo>
                    <a:pt x="268" y="461"/>
                  </a:lnTo>
                  <a:lnTo>
                    <a:pt x="279" y="459"/>
                  </a:lnTo>
                  <a:lnTo>
                    <a:pt x="291" y="457"/>
                  </a:lnTo>
                  <a:lnTo>
                    <a:pt x="302" y="453"/>
                  </a:lnTo>
                  <a:lnTo>
                    <a:pt x="312" y="449"/>
                  </a:lnTo>
                  <a:lnTo>
                    <a:pt x="323" y="446"/>
                  </a:lnTo>
                  <a:lnTo>
                    <a:pt x="333" y="440"/>
                  </a:lnTo>
                  <a:lnTo>
                    <a:pt x="343" y="436"/>
                  </a:lnTo>
                  <a:lnTo>
                    <a:pt x="352" y="430"/>
                  </a:lnTo>
                  <a:lnTo>
                    <a:pt x="362" y="424"/>
                  </a:lnTo>
                  <a:lnTo>
                    <a:pt x="380" y="410"/>
                  </a:lnTo>
                  <a:lnTo>
                    <a:pt x="397" y="395"/>
                  </a:lnTo>
                  <a:lnTo>
                    <a:pt x="412" y="379"/>
                  </a:lnTo>
                  <a:lnTo>
                    <a:pt x="425" y="362"/>
                  </a:lnTo>
                  <a:lnTo>
                    <a:pt x="431" y="352"/>
                  </a:lnTo>
                  <a:lnTo>
                    <a:pt x="437" y="342"/>
                  </a:lnTo>
                  <a:lnTo>
                    <a:pt x="442" y="332"/>
                  </a:lnTo>
                  <a:lnTo>
                    <a:pt x="446" y="322"/>
                  </a:lnTo>
                  <a:lnTo>
                    <a:pt x="451" y="311"/>
                  </a:lnTo>
                  <a:lnTo>
                    <a:pt x="454" y="301"/>
                  </a:lnTo>
                  <a:lnTo>
                    <a:pt x="457" y="289"/>
                  </a:lnTo>
                  <a:lnTo>
                    <a:pt x="460" y="278"/>
                  </a:lnTo>
                  <a:lnTo>
                    <a:pt x="461" y="267"/>
                  </a:lnTo>
                  <a:lnTo>
                    <a:pt x="464" y="256"/>
                  </a:lnTo>
                  <a:lnTo>
                    <a:pt x="465" y="244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246240" y="293760"/>
              <a:ext cx="287280" cy="285840"/>
            </a:xfrm>
            <a:custGeom>
              <a:avLst/>
              <a:gdLst/>
              <a:ahLst/>
              <a:rect l="l" t="t" r="r" b="b"/>
              <a:pathLst>
                <a:path w="542" h="541">
                  <a:moveTo>
                    <a:pt x="542" y="271"/>
                  </a:moveTo>
                  <a:lnTo>
                    <a:pt x="542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6" y="216"/>
                  </a:lnTo>
                  <a:lnTo>
                    <a:pt x="533" y="203"/>
                  </a:lnTo>
                  <a:lnTo>
                    <a:pt x="530" y="190"/>
                  </a:lnTo>
                  <a:lnTo>
                    <a:pt x="525" y="178"/>
                  </a:lnTo>
                  <a:lnTo>
                    <a:pt x="520" y="165"/>
                  </a:lnTo>
                  <a:lnTo>
                    <a:pt x="515" y="153"/>
                  </a:lnTo>
                  <a:lnTo>
                    <a:pt x="509" y="142"/>
                  </a:lnTo>
                  <a:lnTo>
                    <a:pt x="503" y="131"/>
                  </a:lnTo>
                  <a:lnTo>
                    <a:pt x="495" y="120"/>
                  </a:lnTo>
                  <a:lnTo>
                    <a:pt x="488" y="109"/>
                  </a:lnTo>
                  <a:lnTo>
                    <a:pt x="480" y="99"/>
                  </a:lnTo>
                  <a:lnTo>
                    <a:pt x="471" y="90"/>
                  </a:lnTo>
                  <a:lnTo>
                    <a:pt x="462" y="80"/>
                  </a:lnTo>
                  <a:lnTo>
                    <a:pt x="453" y="70"/>
                  </a:lnTo>
                  <a:lnTo>
                    <a:pt x="443" y="63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1" y="40"/>
                  </a:lnTo>
                  <a:lnTo>
                    <a:pt x="400" y="33"/>
                  </a:lnTo>
                  <a:lnTo>
                    <a:pt x="388" y="27"/>
                  </a:lnTo>
                  <a:lnTo>
                    <a:pt x="376" y="22"/>
                  </a:lnTo>
                  <a:lnTo>
                    <a:pt x="363" y="17"/>
                  </a:lnTo>
                  <a:lnTo>
                    <a:pt x="351" y="13"/>
                  </a:lnTo>
                  <a:lnTo>
                    <a:pt x="339" y="9"/>
                  </a:lnTo>
                  <a:lnTo>
                    <a:pt x="326" y="5"/>
                  </a:lnTo>
                  <a:lnTo>
                    <a:pt x="312" y="3"/>
                  </a:lnTo>
                  <a:lnTo>
                    <a:pt x="299" y="2"/>
                  </a:lnTo>
                  <a:lnTo>
                    <a:pt x="285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3" y="2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4" y="9"/>
                  </a:lnTo>
                  <a:lnTo>
                    <a:pt x="191" y="13"/>
                  </a:lnTo>
                  <a:lnTo>
                    <a:pt x="178" y="17"/>
                  </a:lnTo>
                  <a:lnTo>
                    <a:pt x="166" y="22"/>
                  </a:lnTo>
                  <a:lnTo>
                    <a:pt x="154" y="27"/>
                  </a:lnTo>
                  <a:lnTo>
                    <a:pt x="142" y="33"/>
                  </a:lnTo>
                  <a:lnTo>
                    <a:pt x="131" y="40"/>
                  </a:lnTo>
                  <a:lnTo>
                    <a:pt x="120" y="46"/>
                  </a:lnTo>
                  <a:lnTo>
                    <a:pt x="110" y="54"/>
                  </a:lnTo>
                  <a:lnTo>
                    <a:pt x="99" y="63"/>
                  </a:lnTo>
                  <a:lnTo>
                    <a:pt x="89" y="70"/>
                  </a:lnTo>
                  <a:lnTo>
                    <a:pt x="79" y="80"/>
                  </a:lnTo>
                  <a:lnTo>
                    <a:pt x="71" y="90"/>
                  </a:lnTo>
                  <a:lnTo>
                    <a:pt x="62" y="99"/>
                  </a:lnTo>
                  <a:lnTo>
                    <a:pt x="54" y="109"/>
                  </a:lnTo>
                  <a:lnTo>
                    <a:pt x="47" y="120"/>
                  </a:lnTo>
                  <a:lnTo>
                    <a:pt x="39" y="131"/>
                  </a:lnTo>
                  <a:lnTo>
                    <a:pt x="33" y="142"/>
                  </a:lnTo>
                  <a:lnTo>
                    <a:pt x="27" y="153"/>
                  </a:lnTo>
                  <a:lnTo>
                    <a:pt x="22" y="165"/>
                  </a:lnTo>
                  <a:lnTo>
                    <a:pt x="17" y="178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6" y="216"/>
                  </a:lnTo>
                  <a:lnTo>
                    <a:pt x="4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2" y="298"/>
                  </a:lnTo>
                  <a:lnTo>
                    <a:pt x="4" y="312"/>
                  </a:lnTo>
                  <a:lnTo>
                    <a:pt x="6" y="325"/>
                  </a:lnTo>
                  <a:lnTo>
                    <a:pt x="9" y="338"/>
                  </a:lnTo>
                  <a:lnTo>
                    <a:pt x="12" y="351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27" y="388"/>
                  </a:lnTo>
                  <a:lnTo>
                    <a:pt x="33" y="399"/>
                  </a:lnTo>
                  <a:lnTo>
                    <a:pt x="39" y="411"/>
                  </a:lnTo>
                  <a:lnTo>
                    <a:pt x="47" y="422"/>
                  </a:lnTo>
                  <a:lnTo>
                    <a:pt x="54" y="432"/>
                  </a:lnTo>
                  <a:lnTo>
                    <a:pt x="62" y="443"/>
                  </a:lnTo>
                  <a:lnTo>
                    <a:pt x="71" y="452"/>
                  </a:lnTo>
                  <a:lnTo>
                    <a:pt x="79" y="462"/>
                  </a:lnTo>
                  <a:lnTo>
                    <a:pt x="89" y="471"/>
                  </a:lnTo>
                  <a:lnTo>
                    <a:pt x="99" y="479"/>
                  </a:lnTo>
                  <a:lnTo>
                    <a:pt x="110" y="487"/>
                  </a:lnTo>
                  <a:lnTo>
                    <a:pt x="120" y="494"/>
                  </a:lnTo>
                  <a:lnTo>
                    <a:pt x="131" y="502"/>
                  </a:lnTo>
                  <a:lnTo>
                    <a:pt x="142" y="509"/>
                  </a:lnTo>
                  <a:lnTo>
                    <a:pt x="154" y="515"/>
                  </a:lnTo>
                  <a:lnTo>
                    <a:pt x="166" y="520"/>
                  </a:lnTo>
                  <a:lnTo>
                    <a:pt x="178" y="525"/>
                  </a:lnTo>
                  <a:lnTo>
                    <a:pt x="191" y="529"/>
                  </a:lnTo>
                  <a:lnTo>
                    <a:pt x="204" y="532"/>
                  </a:lnTo>
                  <a:lnTo>
                    <a:pt x="216" y="536"/>
                  </a:lnTo>
                  <a:lnTo>
                    <a:pt x="229" y="538"/>
                  </a:lnTo>
                  <a:lnTo>
                    <a:pt x="243" y="540"/>
                  </a:lnTo>
                  <a:lnTo>
                    <a:pt x="258" y="541"/>
                  </a:lnTo>
                  <a:lnTo>
                    <a:pt x="270" y="541"/>
                  </a:lnTo>
                  <a:lnTo>
                    <a:pt x="285" y="541"/>
                  </a:lnTo>
                  <a:lnTo>
                    <a:pt x="299" y="540"/>
                  </a:lnTo>
                  <a:lnTo>
                    <a:pt x="312" y="538"/>
                  </a:lnTo>
                  <a:lnTo>
                    <a:pt x="326" y="536"/>
                  </a:lnTo>
                  <a:lnTo>
                    <a:pt x="339" y="532"/>
                  </a:lnTo>
                  <a:lnTo>
                    <a:pt x="351" y="529"/>
                  </a:lnTo>
                  <a:lnTo>
                    <a:pt x="363" y="525"/>
                  </a:lnTo>
                  <a:lnTo>
                    <a:pt x="376" y="520"/>
                  </a:lnTo>
                  <a:lnTo>
                    <a:pt x="388" y="515"/>
                  </a:lnTo>
                  <a:lnTo>
                    <a:pt x="400" y="509"/>
                  </a:lnTo>
                  <a:lnTo>
                    <a:pt x="411" y="502"/>
                  </a:lnTo>
                  <a:lnTo>
                    <a:pt x="422" y="494"/>
                  </a:lnTo>
                  <a:lnTo>
                    <a:pt x="432" y="487"/>
                  </a:lnTo>
                  <a:lnTo>
                    <a:pt x="443" y="479"/>
                  </a:lnTo>
                  <a:lnTo>
                    <a:pt x="453" y="471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80" y="443"/>
                  </a:lnTo>
                  <a:lnTo>
                    <a:pt x="488" y="432"/>
                  </a:lnTo>
                  <a:lnTo>
                    <a:pt x="495" y="422"/>
                  </a:lnTo>
                  <a:lnTo>
                    <a:pt x="503" y="411"/>
                  </a:lnTo>
                  <a:lnTo>
                    <a:pt x="509" y="399"/>
                  </a:lnTo>
                  <a:lnTo>
                    <a:pt x="515" y="388"/>
                  </a:lnTo>
                  <a:lnTo>
                    <a:pt x="520" y="376"/>
                  </a:lnTo>
                  <a:lnTo>
                    <a:pt x="525" y="364"/>
                  </a:lnTo>
                  <a:lnTo>
                    <a:pt x="530" y="351"/>
                  </a:lnTo>
                  <a:lnTo>
                    <a:pt x="533" y="338"/>
                  </a:lnTo>
                  <a:lnTo>
                    <a:pt x="536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2" y="285"/>
                  </a:lnTo>
                  <a:lnTo>
                    <a:pt x="542" y="27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E116-B1D8-4839-B8C6-460101A669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785880" cy="6858000"/>
            <a:chOff x="0" y="0"/>
            <a:chExt cx="785880" cy="6858000"/>
          </a:xfrm>
        </p:grpSpPr>
        <p:grpSp>
          <p:nvGrpSpPr>
            <p:cNvPr id="182" name=""/>
            <p:cNvGrpSpPr/>
            <p:nvPr/>
          </p:nvGrpSpPr>
          <p:grpSpPr>
            <a:xfrm>
              <a:off x="0" y="0"/>
              <a:ext cx="785880" cy="6858000"/>
              <a:chOff x="0" y="0"/>
              <a:chExt cx="785880" cy="685800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74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520" y="0"/>
                <a:ext cx="252360" cy="6858000"/>
              </a:xfrm>
              <a:prstGeom prst="rect">
                <a:avLst/>
              </a:prstGeom>
              <a:solidFill>
                <a:srgbClr val="085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0" y="6324480"/>
              <a:ext cx="762120" cy="25236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6324480"/>
              <a:ext cx="252360" cy="252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0" y="379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37720" y="155592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8535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555720" y="6244920"/>
            <a:ext cx="2600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68664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32D2-1CE2-451D-8D94-BC01D754D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0" y="1379520"/>
            <a:ext cx="9144000" cy="449280"/>
            <a:chOff x="0" y="1379520"/>
            <a:chExt cx="9144000" cy="449280"/>
          </a:xfrm>
        </p:grpSpPr>
        <p:sp>
          <p:nvSpPr>
            <p:cNvPr id="230" name=""/>
            <p:cNvSpPr/>
            <p:nvPr/>
          </p:nvSpPr>
          <p:spPr>
            <a:xfrm>
              <a:off x="0" y="137952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1484280"/>
              <a:ext cx="9144000" cy="25236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1758960"/>
              <a:ext cx="9144000" cy="6984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93840" y="0"/>
            <a:ext cx="392040" cy="6858000"/>
            <a:chOff x="393840" y="0"/>
            <a:chExt cx="392040" cy="6858000"/>
          </a:xfrm>
        </p:grpSpPr>
        <p:sp>
          <p:nvSpPr>
            <p:cNvPr id="234" name=""/>
            <p:cNvSpPr/>
            <p:nvPr/>
          </p:nvSpPr>
          <p:spPr>
            <a:xfrm>
              <a:off x="533520" y="0"/>
              <a:ext cx="252360" cy="6858000"/>
            </a:xfrm>
            <a:prstGeom prst="rect">
              <a:avLst/>
            </a:prstGeom>
            <a:solidFill>
              <a:srgbClr val="085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93840" y="0"/>
              <a:ext cx="69840" cy="6858000"/>
            </a:xfrm>
            <a:prstGeom prst="rect">
              <a:avLst/>
            </a:prstGeom>
            <a:solidFill>
              <a:srgbClr val="074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33520" y="1479600"/>
            <a:ext cx="252360" cy="252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32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488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7E9C-5849-4E52-8593-23752905C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0"/>
            <a:ext cx="1447920" cy="68421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c1c0c6"/>
              </a:gs>
              <a:gs pos="100000">
                <a:srgbClr val="003c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628640"/>
            <a:ext cx="5030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549360"/>
            <a:ext cx="8747280" cy="9745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4920" y="606600"/>
            <a:ext cx="8280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5AA2-730B-452A-9FB3-F0E20E7B57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0880" y="0"/>
            <a:ext cx="1447920" cy="68421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c1c0c6"/>
              </a:gs>
              <a:gs pos="100000">
                <a:srgbClr val="003c9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2205000"/>
            <a:ext cx="8456760" cy="122400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505320"/>
            <a:ext cx="503856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1400" y="2219040"/>
            <a:ext cx="80042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4336-1D54-4A24-960C-2D1232D10C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8718480" y="1440"/>
            <a:ext cx="431640" cy="6856560"/>
            <a:chOff x="8718480" y="1440"/>
            <a:chExt cx="431640" cy="6856560"/>
          </a:xfrm>
        </p:grpSpPr>
        <p:sp>
          <p:nvSpPr>
            <p:cNvPr id="367" name=""/>
            <p:cNvSpPr/>
            <p:nvPr/>
          </p:nvSpPr>
          <p:spPr>
            <a:xfrm>
              <a:off x="8718480" y="2151000"/>
              <a:ext cx="431640" cy="470700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718480" y="1440"/>
              <a:ext cx="431640" cy="4021200"/>
            </a:xfrm>
            <a:prstGeom prst="rect">
              <a:avLst/>
            </a:prstGeom>
            <a:solidFill>
              <a:srgbClr val="a3e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0" y="0"/>
            <a:ext cx="1147680" cy="6858000"/>
            <a:chOff x="0" y="0"/>
            <a:chExt cx="1147680" cy="6858000"/>
          </a:xfrm>
        </p:grpSpPr>
        <p:sp>
          <p:nvSpPr>
            <p:cNvPr id="370" name=""/>
            <p:cNvSpPr/>
            <p:nvPr/>
          </p:nvSpPr>
          <p:spPr>
            <a:xfrm>
              <a:off x="0" y="4610160"/>
              <a:ext cx="792000" cy="2247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0" y="0"/>
              <a:ext cx="792000" cy="2751120"/>
            </a:xfrm>
            <a:prstGeom prst="rect">
              <a:avLst/>
            </a:prstGeom>
            <a:solidFill>
              <a:srgbClr val="7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2747880"/>
              <a:ext cx="792000" cy="968400"/>
            </a:xfrm>
            <a:prstGeom prst="rect">
              <a:avLst/>
            </a:prstGeom>
            <a:solidFill>
              <a:srgbClr val="7dba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3708360"/>
              <a:ext cx="792000" cy="968400"/>
            </a:xfrm>
            <a:prstGeom prst="rect">
              <a:avLst/>
            </a:prstGeom>
            <a:solidFill>
              <a:srgbClr val="76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84080" y="0"/>
              <a:ext cx="184320" cy="144288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6960" y="1346040"/>
              <a:ext cx="180720" cy="96840"/>
            </a:xfrm>
            <a:prstGeom prst="rect">
              <a:avLst/>
            </a:prstGeom>
            <a:solidFill>
              <a:srgbClr val="318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85680" y="274320"/>
            <a:ext cx="7715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189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189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69680" y="1671120"/>
            <a:ext cx="7931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7711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8365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90372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7E32-6C94-499B-9859-6D768185D8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push.wav" TargetMode="External"/><Relationship Id="rId2" Type="http://schemas.microsoft.com/office/2007/relationships/media" Target="file:///tmp/home/.config/libreoffice/4/user/gallery/push.wav" TargetMode="External"/><Relationship Id="rId3" Type="http://schemas.openxmlformats.org/officeDocument/2006/relationships/image" Target="../media/image20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explode.wav" TargetMode="External"/><Relationship Id="rId2" Type="http://schemas.microsoft.com/office/2007/relationships/media" Target="file:///tmp/home/.config/libreoffice/4/user/gallery/explode.wav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beijing" descr=""/>
          <p:cNvPicPr/>
          <p:nvPr/>
        </p:nvPicPr>
        <p:blipFill>
          <a:blip r:embed="rId1"/>
          <a:stretch/>
        </p:blipFill>
        <p:spPr>
          <a:xfrm>
            <a:off x="-166680" y="-84240"/>
            <a:ext cx="9348840" cy="69422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-93600" y="115920"/>
            <a:ext cx="44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Arial"/>
              </a:rPr>
              <a:t>苏教版八年级下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1484280"/>
            <a:ext cx="7202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两小儿辩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sp>
        <p:nvSpPr>
          <p:cNvPr id="565" name=""/>
          <p:cNvSpPr/>
          <p:nvPr/>
        </p:nvSpPr>
        <p:spPr>
          <a:xfrm>
            <a:off x="1490760" y="5877000"/>
            <a:ext cx="387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cc99"/>
                </a:solidFill>
                <a:latin typeface="Arial"/>
              </a:rPr>
              <a:t>淅川县寺湾镇中     王栋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8e09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53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8" name=""/>
          <p:cNvGrpSpPr/>
          <p:nvPr/>
        </p:nvGrpSpPr>
        <p:grpSpPr>
          <a:xfrm>
            <a:off x="5866920" y="0"/>
            <a:ext cx="1143360" cy="1066680"/>
            <a:chOff x="5866920" y="0"/>
            <a:chExt cx="1143360" cy="1066680"/>
          </a:xfrm>
        </p:grpSpPr>
        <p:sp>
          <p:nvSpPr>
            <p:cNvPr id="629" name=""/>
            <p:cNvSpPr/>
            <p:nvPr/>
          </p:nvSpPr>
          <p:spPr>
            <a:xfrm>
              <a:off x="6172200" y="0"/>
              <a:ext cx="685800" cy="609480"/>
            </a:xfrm>
            <a:prstGeom prst="flowChartConnector">
              <a:avLst/>
            </a:prstGeom>
            <a:gradFill rotWithShape="0">
              <a:gsLst>
                <a:gs pos="0">
                  <a:srgbClr val="fde953"/>
                </a:gs>
                <a:gs pos="100000">
                  <a:srgbClr val="fdfbd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943600" y="533520"/>
              <a:ext cx="304560" cy="228600"/>
            </a:xfrm>
            <a:prstGeom prst="line">
              <a:avLst/>
            </a:prstGeom>
            <a:ln w="19080">
              <a:solidFill>
                <a:srgbClr val="fdfa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76760" y="609480"/>
              <a:ext cx="76320" cy="457200"/>
            </a:xfrm>
            <a:prstGeom prst="line">
              <a:avLst/>
            </a:prstGeom>
            <a:ln w="9360">
              <a:solidFill>
                <a:srgbClr val="f3f0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05360" y="457200"/>
              <a:ext cx="304920" cy="304920"/>
            </a:xfrm>
            <a:prstGeom prst="line">
              <a:avLst/>
            </a:prstGeom>
            <a:ln w="19080">
              <a:solidFill>
                <a:srgbClr val="fdfa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 flipV="1">
              <a:off x="5866920" y="228600"/>
              <a:ext cx="304920" cy="76320"/>
            </a:xfrm>
            <a:prstGeom prst="line">
              <a:avLst/>
            </a:prstGeom>
            <a:ln w="9360">
              <a:solidFill>
                <a:srgbClr val="f3f0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324480" y="4191120"/>
            <a:ext cx="990720" cy="838080"/>
            <a:chOff x="6324480" y="4191120"/>
            <a:chExt cx="990720" cy="838080"/>
          </a:xfrm>
        </p:grpSpPr>
        <p:sp>
          <p:nvSpPr>
            <p:cNvPr id="635" name=""/>
            <p:cNvSpPr/>
            <p:nvPr/>
          </p:nvSpPr>
          <p:spPr>
            <a:xfrm>
              <a:off x="6324480" y="4191120"/>
              <a:ext cx="990720" cy="838080"/>
            </a:xfrm>
            <a:prstGeom prst="wedgeEllipseCallout">
              <a:avLst>
                <a:gd name="adj1" fmla="val -36055"/>
                <a:gd name="adj2" fmla="val 97347"/>
              </a:avLst>
            </a:prstGeom>
            <a:gradFill rotWithShape="0">
              <a:gsLst>
                <a:gs pos="0">
                  <a:srgbClr val="eed07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00800" y="441972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好热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 txBox="1"/>
          <p:nvPr/>
        </p:nvSpPr>
        <p:spPr>
          <a:xfrm rot="5400000">
            <a:off x="-611640" y="3273480"/>
            <a:ext cx="244188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烈日当空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715000" y="5029200"/>
            <a:ext cx="1143000" cy="13939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6934320" y="5105520"/>
            <a:ext cx="718920" cy="12189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838080" y="457200"/>
            <a:ext cx="8001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一儿曰：“日初出            ，及其日中如        ，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029200" y="1143000"/>
            <a:ext cx="2224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沧沧凉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76520" y="1600200"/>
            <a:ext cx="11667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探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ubOvalCallout"/>
          <p:cNvSpPr/>
          <p:nvPr/>
        </p:nvSpPr>
        <p:spPr>
          <a:xfrm>
            <a:off x="4648320" y="-182520"/>
            <a:ext cx="3295440" cy="1554120"/>
          </a:xfrm>
          <a:custGeom>
            <a:avLst/>
            <a:gdLst>
              <a:gd name="textAreaLeft" fmla="*/ 482400 w 3295440"/>
              <a:gd name="textAreaRight" fmla="*/ 2813040 w 3295440"/>
              <a:gd name="textAreaTop" fmla="*/ 170640 h 1554120"/>
              <a:gd name="textAreaBottom" fmla="*/ 995400 h 1554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阴阴冷冷、天气凉爽的样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ubOvalCallout"/>
          <p:cNvSpPr/>
          <p:nvPr/>
        </p:nvSpPr>
        <p:spPr>
          <a:xfrm>
            <a:off x="-112680" y="-189000"/>
            <a:ext cx="4265640" cy="1827360"/>
          </a:xfrm>
          <a:custGeom>
            <a:avLst/>
            <a:gdLst>
              <a:gd name="textAreaLeft" fmla="*/ 624600 w 4265640"/>
              <a:gd name="textAreaRight" fmla="*/ 3641040 w 4265640"/>
              <a:gd name="textAreaTop" fmla="*/ 200520 h 1827360"/>
              <a:gd name="textAreaBottom" fmla="*/ 1170720 h 182736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把手伸到热水里去。意思是天气很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4" name="chimes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91440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孔子东游，见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两小儿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辩斗，问其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我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始出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去人近，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中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也。”一儿以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初出远，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日中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日初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大如车盖，及日中，则如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盘盂，此不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者小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儿曰：“日初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沧沧凉凉，及其日中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如探汤，此不为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近者热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而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孔子不能决也。两小儿笑曰：“孰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为汝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多知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32000" y="26028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两 小 儿 辩 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8508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4" name="chimes.wav"/>
      </p:stSnd>
    </p:sndAc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10965" fill="hold"/>
                                        <p:tgtEl>
                                          <p:spTgt spid="6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101680" cy="34290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85840" cy="34336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ff3399"/>
                </a:solidFill>
                <a:latin typeface="Times New Roman"/>
              </a:rPr>
              <a:t>思考题：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67652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两小儿到底辩论太阳的什么？（ 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的大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的凉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辩论太阳离人的远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28195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685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40a89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762120" y="1295280"/>
            <a:ext cx="6629400" cy="1486080"/>
            <a:chOff x="762120" y="1295280"/>
            <a:chExt cx="6629400" cy="1486080"/>
          </a:xfrm>
        </p:grpSpPr>
        <p:sp>
          <p:nvSpPr>
            <p:cNvPr id="655" name=""/>
            <p:cNvSpPr/>
            <p:nvPr/>
          </p:nvSpPr>
          <p:spPr>
            <a:xfrm>
              <a:off x="1219320" y="1295280"/>
              <a:ext cx="6172200" cy="1486080"/>
            </a:xfrm>
            <a:prstGeom prst="rect">
              <a:avLst/>
            </a:prstGeom>
            <a:gradFill rotWithShape="0">
              <a:gsLst>
                <a:gs pos="0">
                  <a:srgbClr val="29e9fd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一儿曰：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日初出大如车盖，及日中，则如盘盂，此不为远者小而近者大乎？ ”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—</a:t>
              </a: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远者小    近者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762120" y="1676160"/>
              <a:ext cx="5716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7" name=""/>
          <p:cNvGrpSpPr/>
          <p:nvPr/>
        </p:nvGrpSpPr>
        <p:grpSpPr>
          <a:xfrm>
            <a:off x="914400" y="3809880"/>
            <a:ext cx="7010280" cy="1486080"/>
            <a:chOff x="914400" y="3809880"/>
            <a:chExt cx="7010280" cy="1486080"/>
          </a:xfrm>
        </p:grpSpPr>
        <p:sp>
          <p:nvSpPr>
            <p:cNvPr id="658" name=""/>
            <p:cNvSpPr/>
            <p:nvPr/>
          </p:nvSpPr>
          <p:spPr>
            <a:xfrm>
              <a:off x="1371600" y="3809880"/>
              <a:ext cx="6553080" cy="1486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Arial"/>
                </a:rPr>
                <a:t>一儿曰</a:t>
              </a:r>
              <a:r>
                <a:rPr b="0" lang="zh-CN" sz="2800" spc="-1" strike="noStrike">
                  <a:solidFill>
                    <a:srgbClr val="7d7a0b"/>
                  </a:solidFill>
                  <a:latin typeface="Arial"/>
                </a:rPr>
                <a:t>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日初出沧沧凉凉，及其日中如探汤，此不为近者热而远者凉乎？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0" lang="en-US" sz="1800" spc="-1" strike="noStrike">
                  <a:solidFill>
                    <a:srgbClr val="ff3399"/>
                  </a:solidFill>
                  <a:latin typeface="Arial"/>
                </a:rPr>
                <a:t>——</a:t>
              </a:r>
              <a:r>
                <a:rPr b="0" lang="zh-CN" sz="1800" spc="-1" strike="noStrike">
                  <a:solidFill>
                    <a:srgbClr val="ff3399"/>
                  </a:solidFill>
                  <a:latin typeface="Arial"/>
                </a:rPr>
                <a:t>远者凉    近者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9" name="" descr=""/>
            <p:cNvPicPr/>
            <p:nvPr/>
          </p:nvPicPr>
          <p:blipFill>
            <a:blip r:embed="rId3"/>
            <a:stretch/>
          </p:blipFill>
          <p:spPr>
            <a:xfrm>
              <a:off x="914400" y="426708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0" name=""/>
          <p:cNvGrpSpPr/>
          <p:nvPr/>
        </p:nvGrpSpPr>
        <p:grpSpPr>
          <a:xfrm>
            <a:off x="6095880" y="0"/>
            <a:ext cx="2438280" cy="1143000"/>
            <a:chOff x="6095880" y="0"/>
            <a:chExt cx="2438280" cy="1143000"/>
          </a:xfrm>
        </p:grpSpPr>
        <p:sp>
          <p:nvSpPr>
            <p:cNvPr id="661" name=""/>
            <p:cNvSpPr/>
            <p:nvPr/>
          </p:nvSpPr>
          <p:spPr>
            <a:xfrm>
              <a:off x="6095880" y="0"/>
              <a:ext cx="2438280" cy="1143000"/>
            </a:xfrm>
            <a:prstGeom prst="cloudCallout">
              <a:avLst>
                <a:gd name="adj1" fmla="val 29689"/>
                <a:gd name="adj2" fmla="val 141666"/>
              </a:avLst>
            </a:prstGeom>
            <a:gradFill rotWithShape="0">
              <a:gsLst>
                <a:gs pos="0">
                  <a:srgbClr val="6cda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可以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2" name="" descr=""/>
            <p:cNvPicPr/>
            <p:nvPr/>
          </p:nvPicPr>
          <p:blipFill>
            <a:blip r:embed="rId4"/>
            <a:stretch/>
          </p:blipFill>
          <p:spPr>
            <a:xfrm>
              <a:off x="7696080" y="5335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"/>
          <p:cNvSpPr txBox="1"/>
          <p:nvPr/>
        </p:nvSpPr>
        <p:spPr>
          <a:xfrm>
            <a:off x="3048120" y="22860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234b3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细黑"/>
              </a:rPr>
              <a:t>两种理由</a:t>
            </a:r>
            <a:endParaRPr b="1" lang="en-US" sz="1800" spc="-1" strike="noStrike">
              <a:ln w="0">
                <a:noFill/>
              </a:ln>
              <a:solidFill>
                <a:srgbClr val="f234b3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细黑"/>
              <a:ea typeface="华文细黑"/>
            </a:endParaRPr>
          </a:p>
        </p:txBody>
      </p:sp>
    </p:spTree>
  </p:cSld>
  <p:transition>
    <p:dissolve/>
    <p:sndAc>
      <p:stSnd>
        <p:snd r:embed="rId5" name="whoosh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2629080" y="0"/>
            <a:ext cx="6553080" cy="68659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 rot="5400000">
            <a:off x="157680" y="2947320"/>
            <a:ext cx="3024000" cy="1250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孔子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我会写       我会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两小儿笑曰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“孰为汝多知乎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孔子曰：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………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-92160" y="46080"/>
            <a:ext cx="9345600" cy="738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69" name=""/>
          <p:cNvSpPr/>
          <p:nvPr/>
        </p:nvSpPr>
        <p:spPr>
          <a:xfrm>
            <a:off x="1836720" y="2276640"/>
            <a:ext cx="2743200" cy="914400"/>
          </a:xfrm>
          <a:prstGeom prst="rightArrowCallout">
            <a:avLst>
              <a:gd name="adj1" fmla="val 25002"/>
              <a:gd name="adj2" fmla="val 25000"/>
              <a:gd name="adj3" fmla="val 5000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95480" y="3049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会写   我会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038480" y="3809880"/>
            <a:ext cx="1447920" cy="2590920"/>
          </a:xfrm>
          <a:prstGeom prst="leftArrowCallout">
            <a:avLst>
              <a:gd name="adj1" fmla="val 44739"/>
              <a:gd name="adj2" fmla="val 44735"/>
              <a:gd name="adj3" fmla="val 16667"/>
              <a:gd name="adj4" fmla="val 6667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00560" y="3886200"/>
            <a:ext cx="1033560" cy="2514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孰为汝多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乎？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4267080" y="914400"/>
            <a:ext cx="4040280" cy="5638680"/>
          </a:xfrm>
          <a:prstGeom prst="rect">
            <a:avLst/>
          </a:prstGeom>
          <a:ln w="0">
            <a:noFill/>
          </a:ln>
        </p:spPr>
      </p:pic>
      <p:sp>
        <p:nvSpPr>
          <p:cNvPr id="674" name="PubOvalCallout"/>
          <p:cNvSpPr/>
          <p:nvPr/>
        </p:nvSpPr>
        <p:spPr>
          <a:xfrm>
            <a:off x="2362320" y="0"/>
            <a:ext cx="3867120" cy="1886040"/>
          </a:xfrm>
          <a:custGeom>
            <a:avLst/>
            <a:gdLst>
              <a:gd name="textAreaLeft" fmla="*/ 566280 w 3867120"/>
              <a:gd name="textAreaRight" fmla="*/ 3300840 w 3867120"/>
              <a:gd name="textAreaTop" fmla="*/ 207000 h 1886040"/>
              <a:gd name="textAreaBottom" fmla="*/ 1208160 h 188604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知之为知之，不知为不知，是知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 rot="5400000">
            <a:off x="1599480" y="4114800"/>
            <a:ext cx="2514600" cy="99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孔子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d"/>
    <p:sndAc>
      <p:stSnd>
        <p:snd r:embed="rId2" name="chimes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334120" y="228600"/>
            <a:ext cx="2133360" cy="1295280"/>
          </a:xfrm>
          <a:custGeom>
            <a:avLst/>
            <a:gdLst>
              <a:gd name="textAreaLeft" fmla="*/ 333360 w 2133360"/>
              <a:gd name="textAreaRight" fmla="*/ 1866960 w 21333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得出的道理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219320" y="2133720"/>
            <a:ext cx="6019560" cy="7855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习孔子“知之为知之、不知为不知，是知也。”实事求是的治学态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95280" y="3809880"/>
            <a:ext cx="6248520" cy="785520"/>
          </a:xfrm>
          <a:prstGeom prst="rect">
            <a:avLst/>
          </a:prstGeom>
          <a:gradFill rotWithShape="0">
            <a:gsLst>
              <a:gs pos="0">
                <a:srgbClr val="22cac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习两小儿善于从日常的自然事物中发现问题，独立思考，大胆质疑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523880" y="5638680"/>
            <a:ext cx="6096240" cy="3682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学海无涯，即使最有学问的人也有难解的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523880" y="762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1760" cy="29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solidFill>
            <a:srgbClr val="ce996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作  业  超 市</a:t>
            </a:r>
            <a:endParaRPr b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搜集文言文                 开拓视野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选择孔子的名言         自我积累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搜集资料                     解答疑问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改编课本剧                 陶冶情操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466560" y="685800"/>
            <a:ext cx="837252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9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再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p:transition>
    <p:wedge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4747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950760" y="-2322360"/>
            <a:ext cx="10780560" cy="918036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-141120" y="-2365200"/>
            <a:ext cx="10437480" cy="10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99ff66"/>
                </a:solidFill>
                <a:latin typeface="Arial"/>
                <a:ea typeface="幼圆"/>
              </a:rPr>
              <a:t>文言故事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永中粗黑"/>
              </a:rPr>
              <a:t>文言故事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导  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: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王 老 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演  员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: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寺湾镇中八二班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寺 湾 镇 中 心 学 校 电 视 剧 制 作 中 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258920" y="1341360"/>
            <a:ext cx="6119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两小儿辩日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newsflash/>
    <p:sndAc>
      <p:stSnd>
        <p:snd r:embed="rId2" name="explode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91440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东游，见两小儿辩斗，问其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我以日始出时去人近，而日中时远也。”一儿以日初出远，而日中时近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日初出大如车盖，及日中，则如盘盂，此不为远者小而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儿曰：“日初出沧沧凉凉，及其日中如探汤，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不能决也。两小儿笑曰：“孰为汝多知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32000" y="54936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556000" y="477720"/>
            <a:ext cx="3817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宋体"/>
              </a:rPr>
              <a:t>两小儿辩日</a:t>
            </a:r>
            <a:endParaRPr b="0" lang="en-US" sz="1800" spc="1" strike="noStrike">
              <a:ln w="255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pic>
        <p:nvPicPr>
          <p:cNvPr id="57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9280" y="-19080"/>
            <a:ext cx="878544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749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198000"/>
            <a:ext cx="80010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  <a:ea typeface="华文行楷"/>
              </a:rPr>
              <a:t>          </a:t>
            </a:r>
            <a:r>
              <a:rPr b="0" lang="zh-CN" sz="5400" spc="-1" strike="noStrike">
                <a:solidFill>
                  <a:srgbClr val="3333cc"/>
                </a:solidFill>
                <a:latin typeface="Arial"/>
                <a:ea typeface="华文行楷"/>
              </a:rPr>
              <a:t>温   馨   提   示</a:t>
            </a:r>
            <a:endParaRPr b="1" lang="en-US" sz="5400" spc="-1" strike="noStrike">
              <a:solidFill>
                <a:srgbClr val="074888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时间：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五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分 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工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结合注释理解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联系上下文读通句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方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主探究    小组合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做好分工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24360" y="5086440"/>
            <a:ext cx="6094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00720" y="508644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渔  歌  问  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对阵双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男生         女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规       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方读句子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方说句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2057400"/>
            <a:ext cx="1981080" cy="40244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备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认为对方读的不够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权不对这句话作出解释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62320" y="3505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pu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5105520" y="19810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《列子</a:t>
            </a:r>
            <a:r>
              <a: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·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汤问》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5"/>
          <a:stretch/>
        </p:blipFill>
        <p:spPr>
          <a:xfrm>
            <a:off x="990720" y="1600200"/>
            <a:ext cx="8001000" cy="495000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6"/>
          <a:stretch/>
        </p:blipFill>
        <p:spPr>
          <a:xfrm>
            <a:off x="6095880" y="49528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419720" y="4038480"/>
            <a:ext cx="1143000" cy="990720"/>
          </a:xfrm>
          <a:prstGeom prst="wedgeEllipseCallout">
            <a:avLst>
              <a:gd name="adj1" fmla="val -20555"/>
              <a:gd name="adj2" fmla="val 573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早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太阳离离人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400800" y="3505320"/>
            <a:ext cx="914400" cy="1067400"/>
            <a:chOff x="6400800" y="3505320"/>
            <a:chExt cx="914400" cy="1067400"/>
          </a:xfrm>
        </p:grpSpPr>
        <p:sp>
          <p:nvSpPr>
            <p:cNvPr id="587" name=""/>
            <p:cNvSpPr/>
            <p:nvPr/>
          </p:nvSpPr>
          <p:spPr>
            <a:xfrm>
              <a:off x="6400800" y="3505320"/>
              <a:ext cx="914400" cy="1067400"/>
            </a:xfrm>
            <a:prstGeom prst="cloudCallout">
              <a:avLst>
                <a:gd name="adj1" fmla="val 5504"/>
                <a:gd name="adj2" fmla="val 10185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65960" y="3505320"/>
              <a:ext cx="718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早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3300"/>
                  </a:solidFill>
                  <a:latin typeface="Arial"/>
                </a:rPr>
                <a:t>太阳离人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3276720" y="3124080"/>
            <a:ext cx="533160" cy="457200"/>
          </a:xfrm>
          <a:prstGeom prst="ellipse">
            <a:avLst/>
          </a:prstGeom>
          <a:gradFill rotWithShape="0">
            <a:gsLst>
              <a:gs pos="0">
                <a:srgbClr val="fbf4e7"/>
              </a:gs>
              <a:gs pos="100000">
                <a:srgbClr val="fdfa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1828800"/>
            <a:ext cx="769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儿曰：“我                       时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近，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远也。”一儿以日初出远，而日中时近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81280" y="1752480"/>
            <a:ext cx="5828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022640" y="1755720"/>
            <a:ext cx="169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Comic Sans MS"/>
              </a:rPr>
              <a:t>日始出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27760" y="1736640"/>
            <a:ext cx="76212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Comic Sans MS"/>
              </a:rPr>
              <a:t>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2819520"/>
            <a:ext cx="1708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Comic Sans MS"/>
              </a:rPr>
              <a:t>日中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ubOvalCallout"/>
          <p:cNvSpPr/>
          <p:nvPr/>
        </p:nvSpPr>
        <p:spPr>
          <a:xfrm>
            <a:off x="3290760" y="322200"/>
            <a:ext cx="1086120" cy="1600200"/>
          </a:xfrm>
          <a:custGeom>
            <a:avLst/>
            <a:gdLst>
              <a:gd name="textAreaLeft" fmla="*/ 158760 w 1086120"/>
              <a:gd name="textAreaRight" fmla="*/ 927360 w 108612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认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ubOvalCallout"/>
          <p:cNvSpPr/>
          <p:nvPr/>
        </p:nvSpPr>
        <p:spPr>
          <a:xfrm>
            <a:off x="4317840" y="284040"/>
            <a:ext cx="1828800" cy="16002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6038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太阳刚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ubOvalCallout"/>
          <p:cNvSpPr/>
          <p:nvPr/>
        </p:nvSpPr>
        <p:spPr>
          <a:xfrm>
            <a:off x="6186600" y="533520"/>
            <a:ext cx="933480" cy="1371600"/>
          </a:xfrm>
          <a:custGeom>
            <a:avLst/>
            <a:gdLst>
              <a:gd name="textAreaLeft" fmla="*/ 136440 w 933480"/>
              <a:gd name="textAreaRight" fmla="*/ 797040 w 933480"/>
              <a:gd name="textAreaTop" fmla="*/ 150480 h 1371600"/>
              <a:gd name="textAreaBottom" fmla="*/ 878760 h 1371600"/>
            </a:gdLst>
            <a:ahLst/>
            <a:rect l="textAreaLeft" t="textAreaTop" r="textAreaRight" b="textAreaBottom"/>
            <a:pathLst>
              <a:path w="21600" h="21600">
                <a:moveTo>
                  <a:pt x="1947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ubOvalCallout"/>
          <p:cNvSpPr/>
          <p:nvPr/>
        </p:nvSpPr>
        <p:spPr>
          <a:xfrm>
            <a:off x="108000" y="765000"/>
            <a:ext cx="1238040" cy="2190960"/>
          </a:xfrm>
          <a:custGeom>
            <a:avLst/>
            <a:gdLst>
              <a:gd name="textAreaLeft" fmla="*/ 181080 w 1238040"/>
              <a:gd name="textAreaRight" fmla="*/ 1056960 w 1238040"/>
              <a:gd name="textAreaTop" fmla="*/ 240840 h 2190960"/>
              <a:gd name="textAreaBottom" fmla="*/ 1403640 h 2190960"/>
            </a:gdLst>
            <a:ahLst/>
            <a:rect l="textAreaLeft" t="textAreaTop" r="textAreaRight" b="textAreaBottom"/>
            <a:pathLst>
              <a:path w="21600" h="21600">
                <a:moveTo>
                  <a:pt x="10538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中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7"/>
          <a:stretch/>
        </p:blipFill>
        <p:spPr>
          <a:xfrm>
            <a:off x="4343400" y="5029200"/>
            <a:ext cx="1219320" cy="9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pic>
          <p:nvPicPr>
            <p:cNvPr id="602" name="" descr=""/>
            <p:cNvPicPr/>
            <p:nvPr/>
          </p:nvPicPr>
          <p:blipFill>
            <a:blip r:embed="rId1"/>
            <a:stretch/>
          </p:blipFill>
          <p:spPr>
            <a:xfrm>
              <a:off x="0" y="3594240"/>
              <a:ext cx="914400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2"/>
            <a:srcRect l="0" t="0" r="0" b="43255"/>
            <a:stretch/>
          </p:blipFill>
          <p:spPr>
            <a:xfrm>
              <a:off x="0" y="0"/>
              <a:ext cx="9144000" cy="389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4" name=""/>
          <p:cNvSpPr txBox="1"/>
          <p:nvPr/>
        </p:nvSpPr>
        <p:spPr>
          <a:xfrm rot="5400000">
            <a:off x="-1237320" y="1618200"/>
            <a:ext cx="34657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9900"/>
                </a:solidFill>
                <a:effectLst>
                  <a:outerShdw dist="107932" dir="8100000" blurRad="0" rotWithShape="0">
                    <a:srgbClr val="000080"/>
                  </a:outerShdw>
                </a:effectLst>
                <a:latin typeface="宋体"/>
              </a:rPr>
              <a:t>初升的太阳</a:t>
            </a:r>
            <a:endParaRPr b="1" lang="en-US" sz="1800" spc="-1" strike="noStrike">
              <a:ln w="0">
                <a:noFill/>
              </a:ln>
              <a:solidFill>
                <a:srgbClr val="ff9900"/>
              </a:solidFill>
              <a:effectLst>
                <a:outerShdw dist="107932" dir="8100000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5" name=""/>
          <p:cNvSpPr/>
          <p:nvPr/>
        </p:nvSpPr>
        <p:spPr>
          <a:xfrm>
            <a:off x="2057400" y="3886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3962520"/>
            <a:ext cx="822960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儿曰：“日初出大如车盖，    日中，                如盘盂，    不    远者小而近者大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81680" y="3962520"/>
            <a:ext cx="68904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" y="4419720"/>
            <a:ext cx="960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666880" y="4419720"/>
            <a:ext cx="8636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57600" y="4419720"/>
            <a:ext cx="90324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Comic Sans MS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ubRRectCallout"/>
          <p:cNvSpPr/>
          <p:nvPr/>
        </p:nvSpPr>
        <p:spPr>
          <a:xfrm>
            <a:off x="6553080" y="3200400"/>
            <a:ext cx="1219320" cy="795240"/>
          </a:xfrm>
          <a:custGeom>
            <a:avLst/>
            <a:gdLst>
              <a:gd name="textAreaLeft" fmla="*/ 7920 w 1219320"/>
              <a:gd name="textAreaRight" fmla="*/ 1208880 w 121932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到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ubRRectCallout"/>
          <p:cNvSpPr/>
          <p:nvPr/>
        </p:nvSpPr>
        <p:spPr>
          <a:xfrm>
            <a:off x="457200" y="3733920"/>
            <a:ext cx="760320" cy="809640"/>
          </a:xfrm>
          <a:custGeom>
            <a:avLst/>
            <a:gdLst>
              <a:gd name="textAreaLeft" fmla="*/ 5040 w 760320"/>
              <a:gd name="textAreaRight" fmla="*/ 753840 w 760320"/>
              <a:gd name="textAreaTop" fmla="*/ 5400 h 809640"/>
              <a:gd name="textAreaBottom" fmla="*/ 641160 h 8096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19843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ubTriangle"/>
          <p:cNvSpPr/>
          <p:nvPr/>
        </p:nvSpPr>
        <p:spPr>
          <a:xfrm>
            <a:off x="2209680" y="4876920"/>
            <a:ext cx="1486080" cy="152064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ubTriangle"/>
          <p:cNvSpPr/>
          <p:nvPr/>
        </p:nvSpPr>
        <p:spPr>
          <a:xfrm>
            <a:off x="3657600" y="4952880"/>
            <a:ext cx="1390680" cy="13525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533520" y="5029200"/>
            <a:ext cx="1600200" cy="1447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895480" y="3352680"/>
            <a:ext cx="1295640" cy="1219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57800" y="1981080"/>
            <a:ext cx="990720" cy="990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620120" y="457200"/>
            <a:ext cx="68580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666880" y="3124080"/>
            <a:ext cx="175284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1523880"/>
            <a:ext cx="1447560" cy="182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14600" y="5715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581280" y="541008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日初出大如车盖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623" name=""/>
          <p:cNvSpPr/>
          <p:nvPr/>
        </p:nvSpPr>
        <p:spPr>
          <a:xfrm>
            <a:off x="6553080" y="76212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28600" y="533520"/>
            <a:ext cx="6095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及日中，则如盘盂</a:t>
            </a:r>
            <a:endParaRPr b="0" lang="en-US" sz="6000" spc="-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38080" y="2362320"/>
            <a:ext cx="76964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ff"/>
                </a:solidFill>
                <a:latin typeface="楷体_GB2312"/>
              </a:rPr>
              <a:t>此不为远者小而近者大乎？</a:t>
            </a:r>
            <a:endParaRPr b="0" lang="en-US" sz="1800" spc="-1" strike="noStrike">
              <a:ln w="0">
                <a:noFill/>
              </a:ln>
              <a:solidFill>
                <a:srgbClr val="3366ff"/>
              </a:solidFill>
              <a:latin typeface="楷体_GB2312"/>
              <a:ea typeface="楷体_GB2312"/>
            </a:endParaRPr>
          </a:p>
        </p:txBody>
      </p:sp>
      <p:sp>
        <p:nvSpPr>
          <p:cNvPr id="626" name=""/>
          <p:cNvSpPr/>
          <p:nvPr/>
        </p:nvSpPr>
        <p:spPr>
          <a:xfrm>
            <a:off x="8381880" y="6324480"/>
            <a:ext cx="381240" cy="304920"/>
          </a:xfrm>
          <a:prstGeom prst="smileyFace">
            <a:avLst>
              <a:gd name="adj" fmla="val 465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1:23:30Z</dcterms:created>
  <dc:creator>王栋梁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