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E0A-9AAB-4F3B-B715-CCDC6D9F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FB7-A272-4346-9761-D92E12B4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EA1-DCD4-4BCF-8CF2-B3DCA26C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AC6D-155F-4755-B642-56E65FFF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EF67-4F3E-44E2-8075-5B9AF933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64A4-9FAB-435A-A73A-9E67E218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D948-7903-4D2F-9F43-9C0B5241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54EF-AC55-475F-8FC4-CECC0BDA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1FD9-8518-40E6-8AC1-0CC6DFB7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5DEF-1CFC-4FD9-8A44-AB7392BA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1E97-76FC-4833-9AE7-00534BD9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FEE-EFC0-4378-A55B-08353EB0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E966-1BED-4B8A-91AA-EF23A6C2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BD0C-3212-40E5-BF1F-AE3EEFA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77B5-51A1-4F44-BF96-F49700BC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A3CE-07D2-47CA-9D41-D7B7E08E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4D7E-D402-491B-AFFC-3F68973C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13A-8214-4FB8-8E28-A1CF1B15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0F9A-82A1-4CED-84FF-B6CA2442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446-506A-44B9-A894-1F58156F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3318-DF93-468E-8352-1CA3A080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367-7AAE-4343-9BD8-5A4CF75D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2BFE-C078-4950-81A4-8F3780DD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4F2-3E4E-406A-8015-64AFAF80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F0EC-499C-4526-811E-7620207F5AA5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2657-67A5-48C9-AF7A-CB1ED556A8BF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Times New Roman"/>
              </a:rPr>
              <a:t>游褒禅山记</a:t>
            </a:r>
            <a:endParaRPr b="0" i="1" lang="en-US" sz="8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第三、四课时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制作人：人大附中   张晓媛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795241"/>
                </a:solidFill>
                <a:latin typeface="Times New Roman"/>
              </a:rPr>
              <a:t>复读课文</a:t>
            </a:r>
            <a:endParaRPr b="0" i="1" lang="en-US" sz="8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72388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514600"/>
            <a:ext cx="60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褒禅山 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76520"/>
            <a:ext cx="304920" cy="3504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600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记叙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724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议论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9144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介绍山、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1219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洞</a:t>
            </a:r>
            <a:r>
              <a:rPr b="1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4479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1219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其下平旷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有泉侧出—夷以近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游者众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: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穴窈然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入之甚寒—险以远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至者少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590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洞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3200" y="25146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入之愈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愈难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69640" y="2362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2362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愈奇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余随怠者出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所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297180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3560" y="274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见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335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记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335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乐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171480" y="2971800"/>
            <a:ext cx="152280" cy="838080"/>
          </a:xfrm>
          <a:custGeom>
            <a:avLst/>
            <a:gdLst>
              <a:gd name="textAreaLeft" fmla="*/ 96840 w 152280"/>
              <a:gd name="textAreaRight" fmla="*/ 1522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1240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悔不得极夫游之乐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267080"/>
            <a:ext cx="228600" cy="1524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96360" y="4067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古人求思之</a:t>
            </a: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72320" y="5257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奇观常在险远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95288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1460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志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14600" y="5181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14600" y="571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物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028480" y="4952880"/>
            <a:ext cx="152280" cy="990720"/>
          </a:xfrm>
          <a:custGeom>
            <a:avLst/>
            <a:gdLst>
              <a:gd name="textAreaLeft" fmla="*/ 96840 w 152280"/>
              <a:gd name="textAreaRight" fmla="*/ 1522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75120" y="52102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尽吾志 无悔矣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522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560000"/>
                </a:solidFill>
                <a:latin typeface="宋体"/>
              </a:rPr>
              <a:t>结构总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458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宋体"/>
              </a:rPr>
              <a:t>主题思想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作者通过游褒禅山的所见和所感，阐明了无论是治学还是处事，都必须具有百折不挠的意志和“深思而慎取”的态度，以及只有这样才能取得成功的道理。</a:t>
            </a:r>
            <a:br>
              <a:rPr sz="4000"/>
            </a:br>
            <a:r>
              <a:rPr b="1" lang="zh-CN" sz="3200" spc="-1" strike="noStrike">
                <a:solidFill>
                  <a:srgbClr val="463634"/>
                </a:solidFill>
                <a:latin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795241"/>
                </a:solidFill>
                <a:latin typeface="宋体"/>
              </a:rPr>
              <a:t>写作特点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68580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95241"/>
                </a:solidFill>
                <a:latin typeface="Arial Unicode MS"/>
                <a:ea typeface="Arial Unicode MS"/>
              </a:rPr>
              <a:t>1</a:t>
            </a: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、因事见理，叙议结合</a:t>
            </a:r>
            <a:r>
              <a:rPr b="0" i="1" lang="zh-CN" sz="4000" spc="-1" strike="noStrike">
                <a:solidFill>
                  <a:srgbClr val="795241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1" name="zyk00143_18_0006_1" descr="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914400" y="1371600"/>
            <a:ext cx="647712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52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2</a:t>
            </a:r>
            <a:r>
              <a:rPr b="1" i="1" lang="zh-CN" sz="4000" spc="-1" strike="noStrike">
                <a:solidFill>
                  <a:srgbClr val="795241"/>
                </a:solidFill>
                <a:latin typeface="宋体"/>
              </a:rPr>
              <a:t>、重点突出，详略得当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133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第一部分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463634"/>
                </a:solidFill>
                <a:latin typeface="宋体"/>
                <a:ea typeface="华文新魏"/>
              </a:rPr>
              <a:t>记游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472428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第二部分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议论   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18288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457200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1295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.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介绍褒禅山概况</a:t>
            </a:r>
            <a:r>
              <a:rPr b="0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20574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.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华山洞经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8672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219320"/>
            <a:ext cx="152640" cy="533160"/>
          </a:xfrm>
          <a:custGeom>
            <a:avLst/>
            <a:gdLst>
              <a:gd name="textAreaLeft" fmla="*/ 97560 w 152640"/>
              <a:gd name="textAreaRight" fmla="*/ 153000 w 1526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39560" y="1036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山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3956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宋体"/>
                <a:ea typeface="华文新魏"/>
              </a:rPr>
              <a:t>碑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9920" y="990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29920" y="144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95680" y="25146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2133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和后洞概况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733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游后洞经过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21337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008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1008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前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1008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洞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52880" y="3048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经过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733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补叙经过、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写心情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4191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华山洞的心得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0" y="5943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借仆碑抒发感慨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44197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志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477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4776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议物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9224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15920" y="3048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58520" y="510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86720" y="5257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49040" y="2819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略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92240" y="251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49040" y="3124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68560" y="3962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8520" y="4267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86720" y="487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详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64720" y="990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64720" y="1447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803000" y="18288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03000" y="2514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98440" y="30481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93320" y="42670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52080" y="171072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2080" y="452988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5562720"/>
            <a:ext cx="4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5562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8720" y="28954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17000" y="3429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↑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4400" y="2548800"/>
            <a:ext cx="606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7938"/>
                </a:solidFill>
                <a:latin typeface="华文新魏"/>
                <a:ea typeface="华文新魏"/>
              </a:rPr>
              <a:t>→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90600" y="4876920"/>
            <a:ext cx="228600" cy="761760"/>
          </a:xfrm>
          <a:custGeom>
            <a:avLst/>
            <a:gdLst>
              <a:gd name="textAreaLeft" fmla="*/ 145800 w 228600"/>
              <a:gd name="textAreaRight" fmla="*/ 22860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153280" y="38098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3</a:t>
            </a: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、文笔简洁，语言凝炼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入之愈深，其进愈难，而其见愈奇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夫夷以近，则游者众；险以远，则至者少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世之奇伟瑰怪非常之观，常在于险远，而人之所罕至焉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精要得当、平实深刻、言简意丰</a:t>
            </a:r>
            <a:r>
              <a:rPr b="1" lang="zh-CN" sz="36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7239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795241"/>
                </a:solidFill>
                <a:latin typeface="宋体"/>
              </a:rPr>
              <a:t>知识积累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685800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词类活用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慧褒始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于其址（名词作动词，筑舍定居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以故其后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曰“褒禅”（名词作动词，命名。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距其院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五里（名词作状语，向东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4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有泉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侧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出（名词作状语，从侧面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5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入之甚寒，问其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深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（形容词作名词，深度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6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后世之谬其传而莫能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者（名词作动词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识其本名，说明白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7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火尚足以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明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也（形容词作动词，照明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8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后世之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谬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其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传</a:t>
            </a:r>
            <a:r>
              <a:rPr b="1" lang="zh-CN" sz="24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而莫能名者（谬，使动用法，弄错，使……错。传，一说动词作名词，流传文字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宋体"/>
              </a:rPr>
              <a:t>古今异义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非常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观（古义，不同寻常；今义，副词，很、十分。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于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幽暗昏惑而无物以相之（古义，至，动词“到”；于，介词“到”。今义，表示达到某种程度。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三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写游华山洞的心得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从“求思之深而无不在（心）”导出立志的重要性；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阐述“尽吾志”的观点。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“</a:t>
            </a:r>
            <a:r>
              <a:rPr b="1" i="1" lang="zh-CN" sz="4400" spc="-1" strike="noStrike">
                <a:solidFill>
                  <a:srgbClr val="795241"/>
                </a:solidFill>
                <a:latin typeface="宋体"/>
              </a:rPr>
              <a:t>其”字的用法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１、以故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后名之曰——代词，那（此系远指，指褒禅埋葬之时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２、距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院东五里——代词，这（此系近指，指慧空禅院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３、独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为文犹可识 ——代词，它（代仆碑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４、问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深，则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好游者不能穷也 ——前“其”：代词，它（代“穴”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　后“其”：代词，那些（远指，作“好游者”定语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５、盖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又深，则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至又加少矣 ——前“其”：代词，它（代后洞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　后“其”：代词，代游客，此处须用本名，不用现代语代词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６、以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求思之深而无不在也 ——代词，他们（指古人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７、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孰能讥之乎？——语气副词，表反问，岂、难道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８、而余亦悔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之而不得极夫游之乐也——代词，指自己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9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既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出——助词，无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0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视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左右——代词，洞，洞壁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1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谬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传——代词，它（代山的名称）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12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、咎</a:t>
            </a: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欲出者——代词，那些（指欲出者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 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“</a:t>
            </a: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其”字的用法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代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  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人称代词、指示代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连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句中语气词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 </a:t>
            </a:r>
            <a:r>
              <a:rPr b="1" lang="zh-CN" sz="4800" spc="-1" strike="noStrike">
                <a:solidFill>
                  <a:srgbClr val="463634"/>
                </a:solidFill>
                <a:latin typeface="华文新魏"/>
                <a:ea typeface="华文新魏"/>
              </a:rPr>
              <a:t>形容词词头</a:t>
            </a: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文言文学习要点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361960" y="228564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63634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字字落实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句句解疑 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熟读背诵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31240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余之所得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2133720"/>
            <a:ext cx="304920" cy="23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2057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古人求思之</a:t>
            </a:r>
            <a:r>
              <a:rPr b="1" lang="zh-CN" sz="2000" spc="-1" strike="noStrike">
                <a:solidFill>
                  <a:srgbClr val="463634"/>
                </a:solidFill>
                <a:latin typeface="宋体"/>
                <a:ea typeface="华文新魏"/>
              </a:rPr>
              <a:t>深</a:t>
            </a:r>
            <a:r>
              <a:rPr b="1" lang="zh-CN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41148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奇观常在险远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9880" y="312408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2895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志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038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力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51814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有物</a:t>
            </a:r>
            <a:r>
              <a:rPr b="0" lang="zh-CN" sz="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4120" y="3124080"/>
            <a:ext cx="304560" cy="2438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63634"/>
                </a:solidFill>
                <a:latin typeface="华文新魏"/>
                <a:ea typeface="华文新魏"/>
              </a:rPr>
              <a:t>尽吾志 无悔矣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6094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795241"/>
                </a:solidFill>
                <a:latin typeface="Times New Roman"/>
              </a:rPr>
              <a:t>结构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非常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古今异义。这里指不平常。今作程度副词，很，十分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至于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古今异义。至，到。于，介词，引出到达的场所。今义：①达到某种程度；②行文中另提起一事。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之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助词，用在主谓语之间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取消句子独立性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也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句中语气词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其</a:t>
            </a:r>
            <a:r>
              <a:rPr b="1" lang="zh-CN" sz="32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语气副词，表反问，岂、难道。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变式句（介词结构后置）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古人之观于天地、山川、草木、虫鱼、鸟兽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省略句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随以止也</a:t>
            </a:r>
            <a:r>
              <a:rPr b="0" lang="zh-CN" sz="36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四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借仆碑抒发感慨，提出治学必须采取“深思而慎取”的态度。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议论一正一反 </a:t>
            </a: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重点字词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谬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弄错，使……错，使动用法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指识其本名，这里用作动词。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所以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由结构助词“所”和介词“以”组成，相当于现代汉语的“……的原因”。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莫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名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者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特殊句式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70102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判断句（表示因果关系）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所以学者不可以不深思而慎取之也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795241"/>
                </a:solidFill>
                <a:latin typeface="Times New Roman"/>
              </a:rPr>
              <a:t>第五自然段</a:t>
            </a:r>
            <a:endParaRPr b="0" i="1" lang="en-US" sz="6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记游的结尾——补叙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重点字词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通假字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父</a:t>
            </a: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：通“甫”。  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2T07:27:43Z</dcterms:created>
  <dc:creator>艾园</dc:creator>
  <dc:description/>
  <dc:language>en-US</dc:language>
  <cp:lastModifiedBy>zhxy</cp:lastModifiedBy>
  <dcterms:modified xsi:type="dcterms:W3CDTF">2003-06-03T03:04:32Z</dcterms:modified>
  <cp:revision>8</cp:revision>
  <dc:subject/>
  <dc:title>游褒禅山记</dc:title>
</cp:coreProperties>
</file>