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gif" ContentType="image/gif"/>
  <Override PartName="/ppt/media/image20.jpeg" ContentType="image/jpeg"/>
  <Override PartName="/ppt/media/type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27.gif" ContentType="image/gif"/>
  <Override PartName="/ppt/media/image8.jpeg" ContentType="image/jpeg"/>
  <Override PartName="/ppt/media/image5.png" ContentType="image/png"/>
  <Override PartName="/ppt/media/image24.jpeg" ContentType="image/jpeg"/>
  <Override PartName="/ppt/media/image3.jpeg" ContentType="image/jpeg"/>
  <Override PartName="/ppt/media/drumroll.wav" ContentType="audio/x-wav"/>
  <Override PartName="/ppt/media/image28.gif" ContentType="image/gif"/>
  <Override PartName="/ppt/media/image29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1.png" ContentType="image/png"/>
  <Override PartName="/ppt/media/image10.jpeg" ContentType="image/jpeg"/>
  <Override PartName="/ppt/media/image21.gif" ContentType="image/gif"/>
  <Override PartName="/ppt/media/image14.jpeg" ContentType="image/jpeg"/>
  <Override PartName="/ppt/media/image19.gif" ContentType="image/gif"/>
  <Override PartName="/ppt/media/recycle.wav" ContentType="audio/x-wav"/>
  <Override PartName="/ppt/media/image12.jpeg" ContentType="image/jpeg"/>
  <Override PartName="/ppt/media/image13.jpeg" ContentType="image/jpeg"/>
  <Override PartName="/ppt/media/image15.gif" ContentType="image/gif"/>
  <Override PartName="/ppt/media/image16.gif" ContentType="image/gif"/>
  <Override PartName="/ppt/media/image17.gif" ContentType="image/gif"/>
  <Override PartName="/ppt/media/image22.gif" ContentType="image/gif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0E4-431C-4149-A4A6-495530D2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3AEA-1711-48C3-8EB6-1CB904A2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99B-9490-462E-B0C9-5A43B28D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2FF-ED59-49D3-AB70-2C3D66A9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544E-5D60-482C-8A79-88B9A082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2FB3-429B-44C6-9C28-B2C143C2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A096-70F1-4BD4-AFAB-5A5343F5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27B2-33BA-4A72-9E99-4FEF31F8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6D59-A03D-4333-8D73-0EDD283C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0FF2-FF6F-4906-8D6D-A54C70B0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397F-9BF5-4E0E-A5B7-CAE1FE8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27E-B90F-4AD2-B72F-A65C7D47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1C2F-2D30-45CC-95B7-31B99D50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49CE-D24F-4B20-8C44-8543F8A2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DF08-F56E-43FC-9018-C6CC75C3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3B28-B9A9-47F1-880F-9A2731A0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E212-C549-4BA5-A6EC-0ED69B1AD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0F8-A987-44B8-9088-BB36E871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9599-FE4B-4DC0-881E-4475CB51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493-91EE-4E90-872D-1D2E8D50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53B7-40D1-416E-8F19-0A53FC7B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4B74-E21D-4F5D-B906-9B394D2C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A8D-BF49-4C0B-9143-76EAE671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16C-A7F9-4296-BCD9-500366BB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F773-55C0-45DF-84EF-F9D64E2B4C5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03B-9FD4-4043-BF38-83FA7C5CCF7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recycl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27.gif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733920" y="114300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2255760" cy="2666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95680" y="190512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00600" y="2133720"/>
            <a:ext cx="3084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我的信念</a:t>
            </a:r>
            <a:endParaRPr b="1" lang="en-US" sz="4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5638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334120" y="3902040"/>
            <a:ext cx="2890080" cy="581400"/>
            <a:chOff x="5334120" y="3902040"/>
            <a:chExt cx="2890080" cy="581400"/>
          </a:xfrm>
        </p:grpSpPr>
        <p:sp>
          <p:nvSpPr>
            <p:cNvPr id="91" name=""/>
            <p:cNvSpPr/>
            <p:nvPr/>
          </p:nvSpPr>
          <p:spPr>
            <a:xfrm>
              <a:off x="5334120" y="4267080"/>
              <a:ext cx="1143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50560" y="3902040"/>
              <a:ext cx="16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玛丽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·</a:t>
              </a:r>
              <a:r>
                <a:rPr b="1" lang="zh-CN" sz="32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居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cyc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30492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“我之所以如此，或许是因为有某种力量在鞭策着我——正如蚕被鞭策着去结茧一般。”某种力量指什么力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03480" y="2057400"/>
            <a:ext cx="6797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完成的决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真理的渴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科学事业的使命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科学魅力的吸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791320" y="5029200"/>
            <a:ext cx="2876400" cy="15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45720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“孤独地过着求学的岁月”却成了“美好快乐的记忆” 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9718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远离欢乐喧闹的人群，潜心学业，静心读书，大有收获，回忆起来觉得没有虚度年华，所以这样的大学生活是美好快乐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5335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3</a:t>
            </a:r>
            <a:r>
              <a:rPr b="0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居里夫人所说的“讲究现实”与“梦想家”是什么意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23880" cy="146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33520" y="205740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讲究现实”是通过工作取得物质利益。“梦想家”是为研究而研究，为工作而工作，为理想而研究而工作，完全不存在物质利益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梦想家”的最基本特征是献身事业，全身心地投入事业，事业就是一切，根本不考虑物质利益。从放弃专利可看出居里夫人就是这种“梦想家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467480" y="228600"/>
            <a:ext cx="1676520" cy="13906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99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“我一直沉醉于世界的优美之中，我所热爱的科学也不断增加它崭新的远景”中“不断增加它崭新的远景”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2004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此句中的“世界的优美”指的是物质运动规律以及物质内部结构，科学越是发展，世界越是展现它的优美，所以说不断增加它崭新的前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629400" y="49338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09480" y="476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、为什么作者说，科学家也应当是“一个小孩儿”？这反映了作者怎样的心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2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因科学本身具有伟大的美，魅力无穷，如同神话般，在这美妙的科学世界面前，科学家就好像沉醉于神话故事的小孩儿一样，反映作者在科学研究中如痴如醉的心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7280" y="1197000"/>
            <a:ext cx="23338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拓展与延伸</a:t>
            </a:r>
            <a:endParaRPr b="1" lang="en-US" sz="1800" spc="1" strike="noStrike">
              <a:ln w="9360">
                <a:solidFill>
                  <a:srgbClr val="ffffcc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24000" y="2565360"/>
            <a:ext cx="8640720" cy="3017160"/>
            <a:chOff x="324000" y="2565360"/>
            <a:chExt cx="8640720" cy="3017160"/>
          </a:xfrm>
        </p:grpSpPr>
        <p:sp>
          <p:nvSpPr>
            <p:cNvPr id="162" name=""/>
            <p:cNvSpPr/>
            <p:nvPr/>
          </p:nvSpPr>
          <p:spPr>
            <a:xfrm>
              <a:off x="1116000" y="2565360"/>
              <a:ext cx="287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居里夫人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4720" y="2637000"/>
              <a:ext cx="187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“</a:t>
              </a:r>
              <a:r>
                <a:rPr b="1" lang="zh-CN" sz="4800" spc="-1" strike="noStrike">
                  <a:solidFill>
                    <a:srgbClr val="9900cc"/>
                  </a:solidFill>
                  <a:latin typeface="Arial"/>
                  <a:ea typeface="隶书"/>
                </a:rPr>
                <a:t>我”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4076640"/>
              <a:ext cx="8640720" cy="15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        </a:t>
              </a:r>
              <a:r>
                <a:rPr b="1" lang="zh-CN" sz="4400" spc="-1" strike="noStrike">
                  <a:solidFill>
                    <a:srgbClr val="660066"/>
                  </a:solidFill>
                  <a:latin typeface="Arial"/>
                  <a:ea typeface="幼圆"/>
                </a:rPr>
                <a:t>说说心里话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（     找差距      得到的启迪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3851280" y="2924280"/>
              <a:ext cx="19447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 flipH="1" rot="16200000">
              <a:off x="4140000" y="3572640"/>
              <a:ext cx="718920" cy="28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332000" y="1052640"/>
            <a:ext cx="2016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课堂小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Verdana"/>
              </a:rPr>
              <a:t>学习了这篇文章，就如同与伟人对话。我们感受了居里夫人坚忍不拔，抛弃财富，献身科学等伟大的人格。我们深深地被居里夫人的人格魅力所打动。如果说我们过去没有生活目标，现在我们明确了人生；如果说我们过去一味贪图安逸，现在我们学会了艰苦；如果说我们过去只能依赖他人，现在我们懂得了奉献；如果说过去我们意志薄弱，现在我们拥有了信念。让我们在居里夫人的光辉照耀下，把自己的人生也献给人类的进步事业。我们在学习、生活乃至将来的工作中，以此为楷模，努力使自己成为一个大写的人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339640" y="2204640"/>
            <a:ext cx="410364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愿你们每天都愉快地过着生活，不要等到日子过去了才找出它们的可爱之处，也不要把所有特别合意的希望都放在未来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居里夫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19520" y="40384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245916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课外搜集一些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04812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关居里夫人的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料，用其中的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40384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4038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两个材料证明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文中的一些观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50133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写成一个小片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1760" y="2666880"/>
            <a:ext cx="20091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Times New Roman"/>
                <a:ea typeface="方正舒体"/>
              </a:rPr>
              <a:t>课外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38880" y="5562720"/>
            <a:ext cx="990720" cy="99036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4229280" y="3086280"/>
            <a:ext cx="9144000" cy="360"/>
            <a:chOff x="4229280" y="3086280"/>
            <a:chExt cx="9144000" cy="360"/>
          </a:xfrm>
        </p:grpSpPr>
        <p:sp>
          <p:nvSpPr>
            <p:cNvPr id="182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29280" y="308628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0" y="-565200"/>
            <a:ext cx="9144000" cy="7989840"/>
            <a:chOff x="0" y="-565200"/>
            <a:chExt cx="9144000" cy="7989840"/>
          </a:xfrm>
        </p:grpSpPr>
        <p:sp>
          <p:nvSpPr>
            <p:cNvPr id="185" name=""/>
            <p:cNvSpPr/>
            <p:nvPr/>
          </p:nvSpPr>
          <p:spPr>
            <a:xfrm>
              <a:off x="0" y="-565200"/>
              <a:ext cx="8686800" cy="79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0" y="-565200"/>
              <a:ext cx="9144000" cy="360"/>
              <a:chOff x="0" y="-565200"/>
              <a:chExt cx="9144000" cy="36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-565200"/>
                <a:ext cx="914400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3886200" y="2743200"/>
            <a:ext cx="9144000" cy="360"/>
            <a:chOff x="3886200" y="2743200"/>
            <a:chExt cx="9144000" cy="360"/>
          </a:xfrm>
        </p:grpSpPr>
        <p:sp>
          <p:nvSpPr>
            <p:cNvPr id="190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74320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75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75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75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75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05120" y="304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居里夫人和“玩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82800"/>
            <a:ext cx="9144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有一次，居里夫人的两个女儿正在玩英国皇家学会奖给她的一枚金质奖章。一位来访的客人看了惊讶地叫起来：“这么贵重的奖章，您怎么能随便给孩子玩呢？”居里夫人告诉客人说：“是我故意给他们玩的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 我是想让孩子从小就知道，荣誉就像玩具一样，只能玩玩而已。如果让子女躺在父母的荣誉簿上，他们将来就会一事无成。” 　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　 </a:t>
            </a:r>
            <a:br>
              <a:rPr sz="2800"/>
            </a:b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92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年，居里夫人应邀访问美国，美国妇女主动捐给她一克价值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万元以上的镭，但她坚持把镭送给她所在的实验室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她时常告诉女儿们说：“你们将来必须走自谋生活之路，这是一件妥当而又自然的事情。” 由于居里夫人的良好教育，她的孩子们也像母亲一样，在科学的道路上奋勇攀登。 　　 </a:t>
            </a:r>
            <a:br>
              <a:rPr sz="2400"/>
            </a:b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 居里夫人一家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母亲、父亲、女儿和女婿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---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累计获得了三项诺贝尔科学奖，成为迄今为止获诺贝尔奖最多的第一个家庭。这也许同他们把“荣誉”视同“玩具”从不放在心上有关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　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24360" y="1231920"/>
            <a:ext cx="496872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居里夫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67—193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法国物理学家、化学家，巴黎大学理学博士。发现了放射性元素，两次获诺贝尔奖。是法国科学院第一位女院士，同时还被其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个国家聘为科学院院士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723" t="3279" r="51657" b="2279"/>
          <a:stretch/>
        </p:blipFill>
        <p:spPr>
          <a:xfrm>
            <a:off x="468360" y="1052640"/>
            <a:ext cx="3168720" cy="4752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8569080" cy="21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50920" y="6308640"/>
            <a:ext cx="8569080" cy="216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7167600" y="4937400"/>
            <a:ext cx="1595160" cy="1752480"/>
            <a:chOff x="7167600" y="4937400"/>
            <a:chExt cx="1595160" cy="1752480"/>
          </a:xfrm>
        </p:grpSpPr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7874280" y="5274720"/>
              <a:ext cx="888480" cy="87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167600" y="4937400"/>
              <a:ext cx="54612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6600"/>
                  </a:solidFill>
                  <a:latin typeface="Times New Roman"/>
                  <a:ea typeface="华文彩云"/>
                </a:rPr>
                <a:t>你知道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0520" y="457200"/>
            <a:ext cx="1824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　　　　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</a:rPr>
              <a:t>吝啬有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起，居里夫人的年薪已增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法郎，但她照样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吝啬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她每次从国外回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要带回一些宴会上的菜单，因为这些菜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都是很厚很好的纸片，在背面书写物理、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算式，方便极了。有人说居里夫人一直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死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像一个匆忙的贫穷妇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有一次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位美国记者追踪这位著名学者，走到村子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座渔家房舍门前，向赤足坐在门口石板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位妇女打听居里夫人，当她抬起头来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者大吃一惊：原来她就是居里夫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05720" y="457200"/>
            <a:ext cx="11430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12952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04920"/>
            <a:ext cx="1798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  <a:ea typeface="仿宋_GB2312"/>
              </a:rPr>
              <a:t>居里夫人教女成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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居里夫人的大女儿伊雷娜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荣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诺贝尔化学奖，小女儿艾芙日后成为杰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音乐教育家和传记作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伊雷娜和艾芙还在幼年时，居里夫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不许女儿怕黑，不许雷声轰隆时把头藏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枕头下，不许怕贼与流行病。在第一次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战战火纷飞的恐怖日子里，居里夫人强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的女儿暑假到国内外旅行，并让她俩给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士织毛衣。她俩还加入收获队，代替男子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危险去抢收麦子，从小培养她们勇敢而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见的独立人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da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1700280"/>
            <a:ext cx="1333800" cy="105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788000" y="5629320"/>
            <a:ext cx="324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88200" y="4299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120" y="5380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4724280"/>
            <a:ext cx="185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76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69228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88930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我幸运的同居里夫人有二十年崇高而真挚的友谊，我对她的人格的伟大越来越感到钦佩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她一生中最伟大的科学功绩——证明放射性元素的存在并把他们分离出来——所以能取得，不仅是靠着大胆的直觉，而且也靠着在难以想象的极端困难情况下工作的热忱和顽强，这样的困难在实验科学中是罕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　　居里夫人的品德力量和热忱，哪怕只要有一小部分存在于欧洲的知识分子中间，欧洲就会面临一个比较光明的未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　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爱因斯坦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《悼念玛丽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.</a:t>
            </a:r>
            <a:r>
              <a:rPr b="1" lang="zh-CN" sz="3600" spc="-1" strike="noStrike">
                <a:solidFill>
                  <a:srgbClr val="302300"/>
                </a:solidFill>
                <a:latin typeface="Arial"/>
                <a:ea typeface="华文新魏"/>
              </a:rPr>
              <a:t>居里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3672000" cy="5256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16720" y="1125360"/>
            <a:ext cx="2627280" cy="3522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203640" y="549360"/>
            <a:ext cx="3600360" cy="4751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"/>
          <p:cNvSpPr/>
          <p:nvPr/>
        </p:nvSpPr>
        <p:spPr>
          <a:xfrm>
            <a:off x="4356000" y="59500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居里夫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54920" y="580536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 rot="10800000">
            <a:off x="8028000" y="42163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 rot="10865400">
            <a:off x="3704760" y="507996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老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6000" y="260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Arial"/>
                <a:ea typeface="华文新魏"/>
              </a:rPr>
              <a:t>下列红字的音，你读准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52640"/>
            <a:ext cx="91440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纯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粹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坚韧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猝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然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拨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动心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粉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懊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悔        问心无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愧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深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奥       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还</a:t>
            </a:r>
            <a:r>
              <a:rPr b="0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魂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仙草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估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量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盛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95480" y="108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907920"/>
            <a:ext cx="10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10732200">
            <a:off x="5003280" y="1051200"/>
            <a:ext cx="10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80720" y="30686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3068640"/>
            <a:ext cx="94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k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hú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835280" y="4724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li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2360" y="4653000"/>
            <a:ext cx="14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sh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777777"/>
                </a:solidFill>
                <a:latin typeface="Arial"/>
                <a:ea typeface="华文新魏"/>
              </a:rPr>
              <a:t>ché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350600" y="5334120"/>
            <a:ext cx="4331160" cy="1523880"/>
            <a:chOff x="4350600" y="5334120"/>
            <a:chExt cx="4331160" cy="1523880"/>
          </a:xfrm>
        </p:grpSpPr>
        <p:pic>
          <p:nvPicPr>
            <p:cNvPr id="124" name="" descr=""/>
            <p:cNvPicPr/>
            <p:nvPr/>
          </p:nvPicPr>
          <p:blipFill>
            <a:blip r:embed="rId2">
              <a:lum contrast="-30000"/>
            </a:blip>
            <a:stretch/>
          </p:blipFill>
          <p:spPr>
            <a:xfrm>
              <a:off x="7410600" y="5334120"/>
              <a:ext cx="12711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478560" y="6248520"/>
              <a:ext cx="84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50600" y="607248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华文彩云"/>
                </a:rPr>
                <a:t>傻瓜才会搞错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762120"/>
            <a:ext cx="2454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执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鞭策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盛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报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奢望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蹂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沉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迷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问心无愧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猝然长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28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解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85080" y="7779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坚持己见，不肯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2920" y="1197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用鞭和策赶马，喻督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0064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很大的名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13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由于使用别人的劳动、物件等而会给别人的钱或实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81000" y="2944800"/>
            <a:ext cx="14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过高的希望。          呵责：呵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0240" y="5445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扪心自问，毫无惭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3716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踩踏；践踏辗压。引申为侵扰、侵略。欺凌、糟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501336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迷恋，陶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74080" y="4581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比喻深深地迷恋某种事物或沉浸在某种境界当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43520" y="6338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突然死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探究一  梳理与把握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方法：抓住关键词语，第一步概括要点，第二步分析归纳，第三步整理排列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坚忍不拔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信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勤奋执著目标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探讨真理献身科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安静简单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淡泊名利追求自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克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沉醉于科学之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4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坚定的理念（探讨真理、不图财富、沉醉科学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二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适合的环境（保持安静、追求自由、珍惜时间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三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1" lang="zh-CN" sz="3200" spc="-1" strike="noStrike">
                <a:solidFill>
                  <a:srgbClr val="ffff00"/>
                </a:solidFill>
                <a:latin typeface="Verdana"/>
              </a:rPr>
              <a:t>需要良好的工作态度（集中目标、树立信心、坚韧不拔、执著勤奋）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（思考：如何才能成为一名真正的科学家？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Verdana"/>
                <a:ea typeface="文鼎妞妞体"/>
              </a:rPr>
              <a:t>探究二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小组合作，针对课文提出问题。</a:t>
            </a:r>
            <a:br>
              <a:rPr sz="3000"/>
            </a:b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Verdana"/>
              </a:rPr>
              <a:t>要求：每位小组成员先自己认真研读课文，提出疑问，再和小组交流，筛选出最有价值的一个问题，全班交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11:02:58Z</dcterms:created>
  <dc:creator>微软用户</dc:creator>
  <dc:description/>
  <dc:language>en-US</dc:language>
  <cp:lastModifiedBy>小刘</cp:lastModifiedBy>
  <dcterms:modified xsi:type="dcterms:W3CDTF">2009-10-16T09:05:04Z</dcterms:modified>
  <cp:revision>9</cp:revision>
  <dc:subject/>
  <dc:title>幻灯片 1</dc:title>
</cp:coreProperties>
</file>