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F74C-3D05-4E98-9DB9-2780BBE3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B66C-22DD-4E0E-8B53-0262B35C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ADDE-E3A1-4BA5-80CD-C38F6573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0046-D1F3-47BD-87A1-9C47B5E9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5124-9E1C-4236-8C53-523B40EB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7385-D108-4149-A5ED-6D159D46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3163-1A40-41FB-B634-8DD1EDB6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021-AEF2-4C56-8A6F-C3739110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8BC-5F2A-4F6E-9BC4-D3569749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0B2D-CA59-43BC-9998-06A35AF3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9E74-03F7-4D57-896D-497459B0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6F6E-7CF7-4D8E-A4B1-381906F0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ABAC-261B-4BFC-9B5E-3326E6F048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1916280"/>
            <a:ext cx="6095880" cy="22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行楷简体"/>
              </a:rPr>
              <a:t>怀念一棵树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行楷简体"/>
              <a:ea typeface="方正行楷简体"/>
            </a:endParaRPr>
          </a:p>
        </p:txBody>
      </p:sp>
      <p:sp>
        <p:nvSpPr>
          <p:cNvPr id="42" name=""/>
          <p:cNvSpPr/>
          <p:nvPr/>
        </p:nvSpPr>
        <p:spPr>
          <a:xfrm>
            <a:off x="4203360" y="4378320"/>
            <a:ext cx="312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Arial"/>
                <a:ea typeface="黑体"/>
              </a:rPr>
              <a:t>——</a:t>
            </a:r>
            <a:r>
              <a:rPr b="0" lang="zh-CN" sz="3600" spc="-1" strike="noStrike">
                <a:solidFill>
                  <a:srgbClr val="ffff66"/>
                </a:solidFill>
                <a:latin typeface="Arial"/>
                <a:ea typeface="黑体"/>
              </a:rPr>
              <a:t>话题作文导写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0072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99597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119700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秋天快过去的时候，外公会把买来的桂花晒干了，泡茶给我们喝。我们都是外公疼爱的孙子，外公泡出的茶被我们喝光了，他一点儿都尝不到。他只是在一旁看着我们呵呵地笑。后来，表姐弟们都被姨妈或者舅舅接回去了，我也回到了爸爸妈妈身边，到外公家就非常少了。我们走后，陪伴外公的就只有那些桂花树。听外公说，桂花树要在栽了几年以后才开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几年过去了，我们表姐弟们再次来到外公家里。桂花树终于长粗了，开花了。深绿的叶子掩映着黄的小花，一簇一簇，真像星星一样金亮亮的。那花香，沁人心脾，很远都闻得到，难怪人们说“桂子花开，十里飘香”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几回花开花落，外公的身体渐渐衰老，终于在桂花开放的时节离开了我们。听舅舅说，外公生前还记得我们，说：“桂花开了，孩子们会回来看我的。”秋天的桂花，依然开放。但花下已经没有外公的身影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924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桂花飘香（节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8472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67969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8000" y="26028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我曾在春天的暮雨中拾起过它们零落的残花。那花是美丽的，紫白相间的花樱子，一朵便成一束。极盛时满树繁花，在天空一隅织成绚丽的云锦。即使在晚春的风雨中飘零，看起来也是一场快乐的燃烧，绝不至滋生半点感伤。我曾在夏日的骄阳下享受过它们浓郁的阴翳。高大的树干伸出一条条粗壮的臂膀，张开千百只巨手。羽状的复叶并不像白杨叶子般密不透风，而是在细碎的指缝间筛下粼粼的光斑。阳光的愤怒于是被平息了，转而对大地示以温柔。它们的下面，是一条与院墙平行的甬道，这是师生们所喜欢的地方。来来往往的人们，都愿意在大树下面暂停脚步，舒缓一下繁忙生活的节奏，或者对着这大树参悟人生的真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合欢树啊，它们能够像壮士一般的慷慨赴死，又是那么深情地留恋它们的儿女。作为父母，它们无愧于心！然而我不知道，它们临死的那一刻，是否还留下沉重的叹息。它们能够死而瞑目吗？这校园坐落在镇西头的石子坡上，是镇区最高的位置。近年来人口涌集，一幢幢高楼被“开发”出来，大量地汲取地下水，这两棵树便是地下水位下降的第一批牺牲品。它们有四十多年的树龄，在正当盛年的时候，却不得不面对残酷的现实：它们的生命将由于焦渴而走向萎缩，直至消亡。……于是它们开始了生命最后岁月的惨淡经营，与时间赛跑，与死神争夺；把全部精力放在了儿女身上，为它们滋养，为它们荫庇。但一面又在悲哀中预想：那些小树，是否会延续它们的苦命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3760" y="6045120"/>
            <a:ext cx="14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——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《那树（节选）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43160" y="620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写作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844640"/>
            <a:ext cx="79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散文，是一种描写见闻、表达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感悟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的自由灵活的文学样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作者不论是述说人生，还是描写自然，不论是说“自家事”，还是说“人家事”，无不从自我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感悟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出发。这种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感悟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，既是对事物特殊意义和特殊美质的发现，也是作者感情激荡、神思飞扬的心灵体验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《谈谈散文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523880" y="1812960"/>
            <a:ext cx="6096240" cy="32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方正行楷简体"/>
              </a:rPr>
              <a:t>谢谢指导！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方正行楷简体"/>
              <a:ea typeface="方正行楷简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1" name="" descr=""/>
            <p:cNvPicPr/>
            <p:nvPr/>
          </p:nvPicPr>
          <p:blipFill>
            <a:blip r:embed="rId1"/>
            <a:srcRect l="0" t="10493" r="0" b="348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851280" y="4797360"/>
              <a:ext cx="4968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372360" y="494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611280" y="0"/>
            <a:ext cx="8150040" cy="6858000"/>
            <a:chOff x="611280" y="0"/>
            <a:chExt cx="815004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rcRect l="7541" t="21398" r="8541" b="2552"/>
            <a:stretch/>
          </p:blipFill>
          <p:spPr>
            <a:xfrm>
              <a:off x="611280" y="0"/>
              <a:ext cx="56163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7240320" y="617760"/>
              <a:ext cx="1521000" cy="39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44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851280" y="4797360"/>
              <a:ext cx="4968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851280" y="4797360"/>
              <a:ext cx="4968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5440" cy="6858000"/>
            <a:chOff x="0" y="0"/>
            <a:chExt cx="9145440" cy="6858000"/>
          </a:xfrm>
        </p:grpSpPr>
        <p:pic>
          <p:nvPicPr>
            <p:cNvPr id="84" name="" descr=""/>
            <p:cNvPicPr/>
            <p:nvPr/>
          </p:nvPicPr>
          <p:blipFill>
            <a:blip r:embed="rId1"/>
            <a:srcRect l="6148" t="5780" r="6148" b="11051"/>
            <a:stretch/>
          </p:blipFill>
          <p:spPr>
            <a:xfrm>
              <a:off x="0" y="0"/>
              <a:ext cx="91454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39640" y="4653000"/>
              <a:ext cx="4969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748840" y="5084640"/>
              <a:ext cx="2192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人生</a:t>
              </a:r>
              <a:r>
                <a:rPr b="0" lang="zh-CN" sz="4400" spc="-1" strike="noStrike">
                  <a:solidFill>
                    <a:srgbClr val="ff9966"/>
                  </a:solidFill>
                  <a:latin typeface="Arial"/>
                  <a:ea typeface="黑体"/>
                </a:rPr>
                <a:t>如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51400" y="208080"/>
            <a:ext cx="21924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75e1b"/>
                </a:solidFill>
                <a:latin typeface="Arial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b75e1b"/>
                </a:solidFill>
                <a:latin typeface="Arial"/>
                <a:ea typeface="黑体"/>
              </a:rPr>
              <a:t>悬崖边的树</a:t>
            </a:r>
            <a:br>
              <a:rPr sz="2400"/>
            </a:br>
            <a:r>
              <a:rPr b="0" lang="zh-CN" sz="2400" spc="-1" strike="noStrike">
                <a:solidFill>
                  <a:srgbClr val="b75e1b"/>
                </a:solidFill>
                <a:latin typeface="Arial"/>
                <a:ea typeface="黑体"/>
              </a:rPr>
              <a:t>             曾卓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不知是什么奇异的风</a:t>
            </a:r>
            <a:br>
              <a:rPr sz="2400"/>
            </a:b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将一棵树吹到了那边——</a:t>
            </a:r>
            <a:br>
              <a:rPr sz="2400"/>
            </a:b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平原的尽头</a:t>
            </a:r>
            <a:br>
              <a:rPr sz="2400"/>
            </a:b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临近深谷的悬崖上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它倾听远处森林的喧哗</a:t>
            </a:r>
            <a:br>
              <a:rPr sz="2400"/>
            </a:b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和深谷中小溪的歌唱</a:t>
            </a:r>
            <a:br>
              <a:rPr sz="2400"/>
            </a:b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它孤独地站在那里</a:t>
            </a:r>
            <a:br>
              <a:rPr sz="2400"/>
            </a:b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显得寂寞而又倔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它的弯曲的身体</a:t>
            </a:r>
            <a:br>
              <a:rPr sz="2400"/>
            </a:b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留下了风的形状</a:t>
            </a:r>
            <a:br>
              <a:rPr sz="2400"/>
            </a:b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它似乎即将倾跌进深谷里</a:t>
            </a:r>
            <a:br>
              <a:rPr sz="2400"/>
            </a:b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却又像要展翅飞翔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8046" t="0" r="13483" b="0"/>
          <a:stretch/>
        </p:blipFill>
        <p:spPr>
          <a:xfrm>
            <a:off x="3801960" y="0"/>
            <a:ext cx="534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252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60320" y="184680"/>
              <a:ext cx="1521000" cy="39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4400" spc="-1" strike="noStrike">
                  <a:solidFill>
                    <a:srgbClr val="ff9966"/>
                  </a:solidFill>
                  <a:latin typeface="Arial"/>
                  <a:ea typeface="黑体"/>
                </a:rPr>
                <a:t>如人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971640" y="300240"/>
            <a:ext cx="7862760" cy="5848200"/>
            <a:chOff x="971640" y="300240"/>
            <a:chExt cx="7862760" cy="58482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971640" y="476280"/>
              <a:ext cx="5832360" cy="56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313400" y="300240"/>
              <a:ext cx="1521000" cy="46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人生</a:t>
              </a:r>
              <a:r>
                <a:rPr b="0" lang="zh-CN" sz="4400" spc="-1" strike="noStrike">
                  <a:solidFill>
                    <a:srgbClr val="ff9966"/>
                  </a:solidFill>
                  <a:latin typeface="Arial"/>
                  <a:ea typeface="黑体"/>
                </a:rPr>
                <a:t>如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140360" y="4724280"/>
              <a:ext cx="431928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cc00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6000" spc="-1" strike="noStrike">
                  <a:solidFill>
                    <a:srgbClr val="00cc00"/>
                  </a:solidFill>
                  <a:latin typeface="Arial"/>
                  <a:ea typeface="黑体"/>
                </a:rPr>
                <a:t>的记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851280" y="4797360"/>
              <a:ext cx="4968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851280" y="4797360"/>
              <a:ext cx="4968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108000" y="-85680"/>
            <a:ext cx="9252000" cy="6943680"/>
            <a:chOff x="-108000" y="-85680"/>
            <a:chExt cx="9252000" cy="694368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rcRect l="0" t="0" r="0" b="3126"/>
            <a:stretch/>
          </p:blipFill>
          <p:spPr>
            <a:xfrm>
              <a:off x="-108000" y="-85680"/>
              <a:ext cx="9252000" cy="69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851280" y="4797360"/>
              <a:ext cx="4968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539640" y="476280"/>
            <a:ext cx="8033040" cy="5821200"/>
            <a:chOff x="539640" y="476280"/>
            <a:chExt cx="8033040" cy="582120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rcRect l="0" t="0" r="0" b="12345"/>
            <a:stretch/>
          </p:blipFill>
          <p:spPr>
            <a:xfrm>
              <a:off x="539640" y="476280"/>
              <a:ext cx="8033040" cy="58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336680" y="1192680"/>
              <a:ext cx="1521000" cy="39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ffff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4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如人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468360" y="0"/>
            <a:ext cx="7500960" cy="6858000"/>
            <a:chOff x="468360" y="0"/>
            <a:chExt cx="7500960" cy="685800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rcRect l="0" t="7928" r="0" b="0"/>
            <a:stretch/>
          </p:blipFill>
          <p:spPr>
            <a:xfrm>
              <a:off x="468360" y="0"/>
              <a:ext cx="50497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533920" y="765000"/>
              <a:ext cx="2435400" cy="48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木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是圣物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422280" y="0"/>
            <a:ext cx="8039160" cy="6858000"/>
            <a:chOff x="422280" y="0"/>
            <a:chExt cx="8039160" cy="68580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rcRect l="0" t="0" r="0" b="20322"/>
            <a:stretch/>
          </p:blipFill>
          <p:spPr>
            <a:xfrm>
              <a:off x="4140360" y="0"/>
              <a:ext cx="4321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22280" y="692280"/>
              <a:ext cx="2435400" cy="48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木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是圣物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rcRect l="3126" t="25053" r="3126" b="2505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987640" y="4292640"/>
              <a:ext cx="55594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木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是圣物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755640" y="765000"/>
            <a:ext cx="4030560" cy="5373720"/>
            <a:chOff x="755640" y="765000"/>
            <a:chExt cx="4030560" cy="537372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755640" y="765000"/>
              <a:ext cx="4030560" cy="537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044000" y="5516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9900"/>
                  </a:solidFill>
                  <a:latin typeface="Arial"/>
                  <a:ea typeface="黑体"/>
                </a:rPr>
                <a:t>曾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5435640" y="620640"/>
            <a:ext cx="290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　  曾卓，原籍湖北黄陂，生于武汉。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1955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年受胡风案牵连，被捕入狱。后长期下放农村。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1979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年平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他的诗真诚朴素，饱含情感，特别是在逆境中坚持创作的，如《悬崖边的树》、《有赠》等诗，沉郁中透露着刚毅，在孤苦中表现出积极向上精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2002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年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月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10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日因病逝世。他临终遗言是：“我爱你们，谢谢你们”，“这一切都很好，这一切都很美”，“我没有被打败！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-16920"/>
            <a:ext cx="9144000" cy="6874920"/>
            <a:chOff x="0" y="-16920"/>
            <a:chExt cx="9144000" cy="687492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60320" y="-16920"/>
              <a:ext cx="1521000" cy="54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木</a:t>
              </a:r>
              <a:r>
                <a:rPr b="0" lang="zh-CN" sz="4400" spc="-1" strike="noStrike">
                  <a:solidFill>
                    <a:srgbClr val="ff9966"/>
                  </a:solidFill>
                  <a:latin typeface="Arial"/>
                  <a:ea typeface="黑体"/>
                </a:rPr>
                <a:t>是圣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864480"/>
            <a:chOff x="0" y="0"/>
            <a:chExt cx="9144000" cy="686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851280" y="4797360"/>
              <a:ext cx="496872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6666ff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6000" spc="-1" strike="noStrike">
                  <a:solidFill>
                    <a:srgbClr val="6666ff"/>
                  </a:solidFill>
                  <a:latin typeface="Arial"/>
                  <a:ea typeface="黑体"/>
                </a:rPr>
                <a:t>的记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611280" y="0"/>
            <a:ext cx="8150040" cy="6858000"/>
            <a:chOff x="611280" y="0"/>
            <a:chExt cx="8150040" cy="685800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rcRect l="0" t="0" r="0" b="10048"/>
            <a:stretch/>
          </p:blipFill>
          <p:spPr>
            <a:xfrm>
              <a:off x="611280" y="0"/>
              <a:ext cx="54007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240320" y="617760"/>
              <a:ext cx="1521000" cy="39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44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047600" y="0"/>
            <a:ext cx="7242480" cy="6958080"/>
            <a:chOff x="1047600" y="0"/>
            <a:chExt cx="7242480" cy="695808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3627360" y="0"/>
              <a:ext cx="4662720" cy="695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047600" y="1265760"/>
              <a:ext cx="1521000" cy="39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44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388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26920" y="765000"/>
            <a:ext cx="741708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话题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  <a:ea typeface="黑体"/>
              </a:rPr>
              <a:t>中国古语说：“人生一世，草木一秋。”人和树的命运有着惊人的相似。西方圣哲也说：“树木是圣物。谁能同它们交谈，谁能倾听它们的语言，谁就能获悉真理。”在文学作品中，树木通常被赋予了灵性，是人们在想象中交流思想的对象。中国古代的文学艺术家，喜欢移情于树，在对树的描述中寄托某种情感。在你的成长历程中，是否有一段与树有关的经历？一棵树，曾经给了你怎样的人生启示？让我们拿起手中的生花妙笔，写一篇与树有关的文章吧。本期话题：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怀念一棵树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802800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3824" y="3794"/>
                </a:moveTo>
                <a:lnTo>
                  <a:pt x="17837" y="10800"/>
                </a:lnTo>
                <a:lnTo>
                  <a:pt x="38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97040" y="14842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七嘴八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51240" y="2852640"/>
            <a:ext cx="2649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讲讲我们记忆中的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907920"/>
            <a:ext cx="7724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你在什么时候，在怎样的一个环境中开始注意到树的存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你有过种树的经历吗？谈谈当时的情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可曾听说过与树有关的故事、民间传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根据你的阅读经验，你觉得“树”（包括花草）在文学作品中经常被赋予什么涵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⑤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今天的作文，你打算写点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24080" y="12034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作品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31680" y="2282760"/>
            <a:ext cx="1364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○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贾平凹《我的小桃树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○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茅盾《白杨礼赞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692280"/>
            <a:ext cx="815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　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黄昏时候，在窗下坐着，一外望，却看见我的小桃树。它还在长着，弯弯的身子，努力撑着枝条，已经有院墙高了。这些年来，它是怎样长上来的呢？爷爷的花市早不陈列了，花盆一垒一垒地堆在墙根，它却长着。弟弟说：那桃树被猪拱过一次，要不早就开花了。他们嫌长的不是地方，又不好看，曾想砍掉它，奶奶却不同意，常常护着，给它浇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　　啊，小桃树，我怎么将你撂在这里，而漂流异乡，又漠漠地忘却呢？看着桃树，想起没能再见一面的奶奶，我深深懊丧，对不起奶奶，对不起我的小桃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　　如今它开了花，虽然长得弱小，骨朵儿也不见繁，而一夜之间竟全开了呢。可是总嫌我的小桃树没有那“灼灼其华”的盛况。一颗“仙桃”的种子，却开得太白太淡了，花瓣儿单薄得似纸，没有肉的感觉，没有粉红的感觉，像是患了重病的姑娘，苍白的脸，偏又苦涩的笑着。我忍不住几分忧伤，泪珠儿又要下来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　　花幸好并没有立即谢去，就那么一树，孤零零地开在墙角。我每每看着它，却发现从来没有一只蜜蜂、一只蝴蝶飞绕。可怜的小桃树。我不禁有些颤抖了，这花莫不就是我当年要做的梦的精灵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　　雨却这么大的下着，花瓣纷纷零落。我只说有了这场春雨，花会开得更艳，香会蓄得更浓；谁知它却这么命薄，受不得这么大的福分，片片付给风雨了？我心里喊着我的奶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28600" y="189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我的小桃树（节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64000" y="508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9223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1341360"/>
            <a:ext cx="801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　　这就是白杨树，西北极普通的一种树，然而决不是平凡的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　　它没有婆娑的姿态，没有屈曲盘旋的虬枝，也许你要说它不美，如果美是专指“婆娑”或“旁逸斜出”之类而言，那么，白杨树算不得树中的好女子；但是它伟岸，正直，朴质，严肃，也不缺乏温和，更不用提它的坚强不屈与挺拔，它是树中的伟丈夫！当你在积雪初融的高原上走过，看见平坦的大地上傲然挺立这么一株或一排白杨树，难道你就只觉得它只是树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难道你就不想到它的朴质，严肃，坚强不屈，至少也象征了北方的农民？难道你竟一点也不联想到，在敌后的广大土地上，到处有坚强不屈，就像这白杨树一样傲然挺立的守卫他们家乡的哨兵？难道你又不更远一点想到，这样枝枝叶叶靠紧团结，力求上进的白杨树，宛然象征了今天在华北平原纵横决荡，用血写出新中国历史的那种精神和意志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924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白杨礼赞（节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1:17:46Z</dcterms:created>
  <dc:creator>USER</dc:creator>
  <dc:description/>
  <dc:language>en-US</dc:language>
  <cp:lastModifiedBy>USER</cp:lastModifiedBy>
  <dcterms:modified xsi:type="dcterms:W3CDTF">2010-04-13T05:31:33Z</dcterms:modified>
  <cp:revision>19</cp:revision>
  <dc:subject/>
  <dc:title>幻灯片 1</dc:title>
</cp:coreProperties>
</file>