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1810E-7344-46A0-BBA4-88FA8A6E7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3FE32-6864-4B87-B6E2-6719F2725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F382-E6EA-4CB7-8BD6-C378879DF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6AAA4-7FEB-429C-AB8D-7311FCF8B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1D6E9-FAD1-4156-B406-A5A3C013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181C3-DCEA-49FB-B8FA-52A8B159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09836-4665-4CF2-A0C2-1A8BCF0E4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AB63-F7B6-4045-868A-29915749F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8C329-1048-46F2-B17C-F9D1D6A9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A487-362A-4256-A290-E2BA0FDF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850A-7C75-4734-9B3E-46C82750F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C438-A179-4EE5-A95E-C348F65B7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BAB2-3A55-4765-B098-7FDAA2A3B4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692436A6-9ACF-4FB7-9C06-69D1D08C2157}"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65509CD8-3715-43C3-8FB0-A0F4B2557A97}"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621C7CA9-03D7-44DB-8063-5ADB54AD89B7}"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90803A-DC19-43E1-9661-7FC2307E2902}"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112F123A-E79C-4904-8AC2-3511B409558B}"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318A1-23AB-4388-BD76-7224FFFF3DA5}"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D482B6-93E7-4067-8CB4-8713B6FB135B}"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FB5CA609-2B5B-437B-9D11-6A9EA933A2A4}"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2A41B5-7582-4D94-9725-5493003AF734}"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B7D4EC-193F-4C21-8250-A1FD86F2275A}"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FB2B8210-1AAE-45E0-9BDA-C15FF140F4CF}"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9A01B-6EB7-40BE-BDCB-06A74EFC4A64}"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1E2B6F1A-B199-4BAF-A804-DB4062924C4A}"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AF035-28B4-4A19-B897-F8801EDA348B}"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56E15-31BE-4536-B59D-D002BCC0A4E9}"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2A43FA-102C-4D18-A468-2EE273851B64}"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C9D378-31A3-43FC-B37C-75016251CFAF}"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51CC6-E9E5-4ED8-A23E-6D0E3A35A21C}"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3A7EDABD-5B54-4694-A087-893CC9E0AECA}"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B6E81908-2382-41CD-857C-E70F497D8D2F}"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1A3057-BD8B-4021-AAA0-695D0BEF2216}"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F1F61D-5A7B-4467-9FB5-840FD493B093}"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00EE17-45FB-4864-8927-6D79DBF34DA5}"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DCD3BB-4F7E-4F98-A40A-93360B5E39F9}"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0971B-5D86-41F8-B8B4-A72E51CF4B14}"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7384C3A9-C22F-414A-9DE8-1D1D7C9488A0}"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5009EB35-7D50-48B5-9D62-3B90E9F95020}"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41579E-6321-4E35-B81E-FC5F1176A1B4}"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6B5FA4-490D-4331-AAFB-2C7C7D7F58D3}"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8ECC9-CC60-40E9-A66E-60B819C7AFB6}"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15716-5B45-4027-A4D6-37D794EA8F9D}"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CB59F4-77D5-4F54-B442-0E5AF61D8566}"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50D860-EAFE-461F-98C3-3B9F44A88197}"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0BAB6F7B-394E-44A9-9CEF-4D28CF37CB76}"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751E84-3787-4583-BC93-8B3939892716}"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9BB1F2D0-9930-4EF2-BBAE-AB972932B6E0}"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8D24F7-CFE2-432E-BE8D-71597A698632}"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B4745E-BA53-4568-A6E3-259F750C1B8E}"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8B3DD4-AA8D-4A7D-80FE-847A35001D9D}"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459AE90-0592-494D-860F-45FA555C1678}"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86059DC-25ED-47AA-9F9A-83C9BCA9311F}"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1D56F65-48AA-4C25-A264-30E05938A4F9}"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B1B40F-1262-4124-AD9F-84776C548CAA}"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2A935AB9-F0D2-44F9-8BD9-0E68045762D8}"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F34FFAB3-DA44-4D74-987B-07B77FE3260B}"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95EDB9-463E-484E-A384-05946C15BFBE}"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736F25CE-E118-4F34-9467-DAE3ECC4CC59}"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A0B165-8823-427E-BD00-04FCC6937F15}"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9CA293-B7BB-4A3D-8A9D-228865FDB197}"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B192305D-BB62-4B65-A49E-71420808D88C}"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60A53F33-0AE6-4EE6-B473-1A3B2012BF00}"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8051CE30-D5F1-478D-84B7-8D14735B1760}"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6733CFEE-6CA3-4481-8E34-7EDA17FA21A3}"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