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8C0-563D-4B30-8782-CBE87D02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338-4BF9-4B58-B665-0122F1B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EA9-0F3E-4263-A783-17BDC3D4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D64-A7C6-4F98-9326-1A84532D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1C06-E140-4402-8CCA-E7B2334D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2978-E374-4140-8342-4F16D197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6B07-B684-4C4F-8D2C-97D3151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7C90-32E5-4E1C-B51C-B50B02F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17C0-C2C4-4CE4-A84B-AF14E162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23F3-0EEE-4157-9219-DB5BE416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698-B483-4570-BBCB-31CB57D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3C5-0678-444C-B50D-B907B76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130-69C9-4883-83B5-7F4FE50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D341-6ED3-4DA5-A64C-F7CAE9E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970C-0C1F-4E79-BEB5-8A430246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5FF5-5514-479E-A5CA-9AEBBF92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989E-396F-4CBA-8F07-A1D8CA33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7CC-1BEA-47CC-B357-30E9EF0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064-25EB-45D8-8A96-08F50EC4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FAE-89DE-4FB6-9F4D-F02B20BD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8DF-1B31-4251-8D03-900A144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7A5-46E6-4D4F-8690-A9462EC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E49-0409-4439-84BC-E261EDF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119-510A-46DD-9F81-0B97499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8C6-F66C-4F99-A644-FC99A9211CEE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903B-5CD1-49E6-B9DA-83D6A8BE71D3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0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王安石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朗读正音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庐冢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zhǒ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盖音谬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m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窈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yǎo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然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j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无物以相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xià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之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何可胜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è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 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道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王回深父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fǔ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今言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ā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如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实”之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者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理清思路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一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——游山经过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二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议论——游山心得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三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中心句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尽吾志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而不能至者，可以无悔矣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此所以学者不可以不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思而慎取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空间方位图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119320"/>
          <a:ext cx="792468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19320"/>
                    <a:ext cx="79246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研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708624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一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文顺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本名①</a:t>
            </a:r>
            <a:r>
              <a:rPr b="1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→</a:t>
            </a: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别名由来及证明②③→华山洞名来由④→从仆碑看出本名⑤→指出音谬⑥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宋体"/>
              </a:rPr>
              <a:t> 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筑舍定居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命名，起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往东 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乃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词，表判断，有“为、是”之意。</a:t>
            </a:r>
            <a:r>
              <a:rPr b="0" lang="zh-CN" sz="4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作“在”讲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所谓慧空禅院者，褒之庐冢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所谓华山洞者，以其乃华山之阳名之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言“华”如“华实”之“华”者，盖音谬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这三个句子都用“……者……也”表示判断。其中的“者”是语气助词，表示提顿；“也”是语气助词，表示判断。第一个句子是一般判断句。第二、三个句子是因果关系的判断句，其中的“者”有提示原因的作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72200" y="1600200"/>
            <a:ext cx="10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平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36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华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洞的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1720" y="274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洞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5080" y="4724280"/>
            <a:ext cx="17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追记后洞中所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并表示遗憾心情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968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68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甚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124080"/>
            <a:ext cx="211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窈、寒、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4360" y="411480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95480"/>
            <a:ext cx="304560" cy="2362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286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505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45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二自然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920" y="464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ac4b"/>
                </a:solidFill>
                <a:latin typeface="隶书"/>
                <a:ea typeface="隶书"/>
              </a:rPr>
              <a:t>→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悔</a:t>
            </a: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从旁边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名词，深度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明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动词，照明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、</a:t>
            </a: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见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、极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795241"/>
                </a:solidFill>
                <a:latin typeface="Times New Roman"/>
              </a:rPr>
              <a:t>教学目的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Arial Unicode MS"/>
                <a:ea typeface="Arial Unicode MS"/>
              </a:rPr>
              <a:t> 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理解作者“尽吾志”的思想，体会“深思慎取”的重要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了解因事见理，叙议结合的写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掌握“乃”、“道”、“盖”、“文”、“然”等词的意义和用法；了解“其”的不同用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未完待续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72388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第一、二课时</a:t>
            </a:r>
            <a:br>
              <a:rPr sz="8000"/>
            </a:b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2574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共四课时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解题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”是一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体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有奏记、游记、杂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分为四类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、记事 、记亭台楼阁、记物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朝人尚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   ——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严羽《沧浪诗话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游记进行说理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作者简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王安石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介甫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号半山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因封荆国公，世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荆公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卒谥文。北宋临川人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治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学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他两度为相进行变法，强调“权时之变”，反对因循保守。列宁称其为“中国十一世纪的改革家”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在文学上为宋朝一大家。其散文，雄健峭拔，语言简练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唐宋八大家”之一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。代表作有《答司马谏议书》、《读孟尝君传》等。其诗歌，长于说理，精于修辞，也有情韵深婉之作，风格遒劲有力。如《明妃曲》、《北坡杏花》、《泊船瓜洲》等。所作词不多，却能“一洗五代旧俗”，不受前人绮靡风气的影响。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他的作品今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王临川集》、《临川集拾遗》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明妃曲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妃初出汉宫时，泪湿春风鬓脚垂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回顾影无颜色，尚得君王不自持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来却怪丹青手，入眼平生未曾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态由来画不成，当时枉杀毛延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去心知更不归，可怜着尽汉宫衣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寄声欲问塞南事，只有年年鸿雁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人万里传消息，好在毡城莫相忆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不见咫尺长门闭阿娇，人生失意无南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桂枝香</a:t>
            </a:r>
            <a:br>
              <a:rPr sz="4400"/>
            </a:br>
            <a:r>
              <a:rPr b="1" i="1" lang="zh-CN" sz="3200" spc="-1" strike="noStrike">
                <a:solidFill>
                  <a:srgbClr val="795241"/>
                </a:solidFill>
                <a:latin typeface="Times New Roman"/>
              </a:rPr>
              <a:t>金陵怀古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登临送目，正故国晚秋，天气初肃。千里澄江似练，翠峰如簇。征帆去棹残阳里，背西风、酒旗斜矗。彩舟云淡，星河鹭起，画图难足。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念往昔、繁华竞逐。叹门外楼头，悲恨相续。千古凭高，对此漫嗟荣辱。六朝旧事随流水，但寒烟衰草凝绿。至今商女，时时犹唱，后庭遗曲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背景知识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文是王安石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岁时的作品。四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5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他给宋仁宗上万言书，主张改革政治；十六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70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拜相，不顾保守派的反对，积极推行新法。传有“天变不足畏，祖宗不足法，人言不足恤”的观点，这跟本文“尽吾志也而不能至，可以无悔矣”的观点是一致的，可视为这一观点的发展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初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52578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4:01:56Z</dcterms:created>
  <dc:creator>nieminli</dc:creator>
  <dc:description/>
  <dc:language>en-US</dc:language>
  <cp:lastModifiedBy>陈泽滨</cp:lastModifiedBy>
  <dcterms:modified xsi:type="dcterms:W3CDTF">2004-11-29T05:14:42Z</dcterms:modified>
  <cp:revision>17</cp:revision>
  <dc:subject/>
  <dc:title>游褒禅山记</dc:title>
</cp:coreProperties>
</file>