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603-3614-4DB5-B70F-FDDC40E9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6F1-2E53-414E-9591-09A6088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557-5732-4D87-8EB4-03DEED2E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D72-D673-4AB4-B8CC-853E2773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05D7-9543-45DE-9666-7AAB9431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3230-7574-452C-9FDE-3340BC6A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1D1A-C893-4AB1-92FA-50D49DE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725-38B1-4204-833F-E2D6153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7023-0768-4670-A751-DEF32FC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0B92-8CD5-413F-8765-BBF6D26B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D95C-A88E-4D34-9EE1-4316A08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9BB-3A4D-4345-91CB-B9C230D9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5F2B-082F-472D-A767-B8A3BC2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AC42-BB8B-44EE-B873-F1137686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66AD-43A3-4949-BEB3-FC84DB85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C2D0-4007-4F85-B451-3806B4AC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3E62-4D83-47C5-846A-EA385518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587-23AE-4AE1-A5BF-FF49D46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3FC-0C04-42EB-8CA8-A279474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6A4-C352-47E6-8B11-7C3DECC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263-A036-4679-9F33-8D64BA7D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257-BE3E-494F-B348-1E99528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BCC-EC75-495C-985E-72B469F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D04-34FA-41CE-861B-D9588F8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6DF-6D7D-4D44-9D60-42B223682626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6AE6-DF54-4626-AC23-C23E5C428399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三、四课时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制作人：人大附中   张晓媛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Times New Roman"/>
              </a:rPr>
              <a:t>复读课文</a:t>
            </a:r>
            <a:endParaRPr b="0" i="1" lang="en-US" sz="8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238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146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褒禅山 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914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介绍山、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洞</a:t>
            </a:r>
            <a:r>
              <a:rPr b="1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447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其下平旷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有泉侧出—夷以近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游者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穴窈然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甚寒—险以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者少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514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入之愈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难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9640" y="2362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余随怠者出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所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971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356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见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记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33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乐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171480" y="2971800"/>
            <a:ext cx="152280" cy="83808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悔不得极夫游之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267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360" y="40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232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4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4600" y="518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460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480" y="4952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5120" y="5210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52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560000"/>
                </a:solidFill>
                <a:latin typeface="宋体"/>
              </a:rPr>
              <a:t>结构总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458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主题思想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作者通过游褒禅山的所见和所感，阐明了无论是治学还是处事，都必须具有百折不挠的意志和“深思而慎取”的态度，以及只有这样才能取得成功的道理。</a:t>
            </a:r>
            <a:br>
              <a:rPr sz="4000"/>
            </a:b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宋体"/>
              </a:rPr>
              <a:t>写作特点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Arial Unicode MS"/>
                <a:ea typeface="Arial Unicode MS"/>
              </a:rPr>
              <a:t>1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因事见理，叙议结合</a:t>
            </a:r>
            <a:r>
              <a:rPr b="0" i="1" lang="zh-CN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zyk00143_18_0006_1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14400" y="1371600"/>
            <a:ext cx="6477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5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重点突出，详略得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133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第一部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7242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二部分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45720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129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057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华山洞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672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193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9560" y="10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95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9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99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和后洞概况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后洞经过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100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10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28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补叙经过、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心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华山洞的心得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借仆碑抒发感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志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7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77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92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92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852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672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04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9224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90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685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852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7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720" y="99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720" y="144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03000" y="182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3000" y="25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844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3320" y="4267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2080" y="171072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080" y="452988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55627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562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720" y="2895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700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0" y="254880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600" y="4876920"/>
            <a:ext cx="228600" cy="761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153280" y="38098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3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、文笔简洁，语言凝炼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愈深，其进愈难，而其见愈奇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夫夷以近，则游者众；险以远，则至者少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世之奇伟瑰怪非常之观，常在于险远，而人之所罕至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要得当、平实深刻、言简意丰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宋体"/>
              </a:rPr>
              <a:t>知识积累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68580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词类活用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慧褒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于其址（名词作动词，筑舍定居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以故其后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曰“褒禅”（名词作动词，命名。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距其院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五里（名词作状语，向东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有泉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（名词作状语，从侧面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入之甚寒，问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（形容词作名词，深度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谬其传而莫能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（名词作动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识其本名，说明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火尚足以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（形容词作动词，照明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传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而莫能名者（谬，使动用法，弄错，使……错。传，一说动词作名词，流传文字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古今异义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观（古义，不同寻常；今义，副词，很、十分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幽暗昏惑而无物以相之（古义，至，动词“到”；于，介词“到”。今义，表示达到某种程度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三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游华山洞的心得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从“求思之深而无不在（心）”导出立志的重要性；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阐述“尽吾志”的观点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“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其”字的用法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１、以故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名之曰——代词，那（此系远指，指褒禅埋葬之时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２、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院东五里——代词，这（此系近指，指慧空禅院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３、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为文犹可识 ——代词，它（代仆碑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４、问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好游者不能穷也 ——前“其”：代词，它（代“穴”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那些（远指，作“好游者”定语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５、盖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又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又加少矣 ——前“其”：代词，它（代后洞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代游客，此处须用本名，不用现代语代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６、以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求思之深而无不在也 ——代词，他们（指古人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７、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孰能讥之乎？——语气副词，表反问，岂、难道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８、而余亦悔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而不得极夫游之乐也——代词，指自己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既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——助词，无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视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左右——代词，洞，洞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1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传——代词，它（代山的名称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2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欲出者——代词，那些（指欲出者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其”字的用法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人称代词、指示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连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句中语气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形容词词头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文言文学习要点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19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字落实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句解疑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熟读背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124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余之所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1337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0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r>
              <a:rPr b="1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3124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518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结构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这里指不平常。今作程度副词，很，十分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至，到。于，介词，引出到达的场所。今义：①达到某种程度；②行文中另提起一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助词，用在主谓语之间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取消句子独立性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句中语气词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语气副词，表反问，岂、难道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变式句（介词结构后置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人之观于天地、山川、草木、虫鱼、鸟兽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省略句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随以止也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四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仆碑抒发感慨，提出治学必须采取“深思而慎取”的态度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论一正一反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弄错，使……错，使动用法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指识其本名，这里用作动词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由结构助词“所”和介词“以”组成，相当于现代汉语的“……的原因”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莫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句（表示因果关系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所以学者不可以不深思而慎取之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五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的结尾——补叙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重点字词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假字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父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通“甫”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7:27:43Z</dcterms:created>
  <dc:creator>艾园</dc:creator>
  <dc:description/>
  <dc:language>en-US</dc:language>
  <cp:lastModifiedBy>zhxy</cp:lastModifiedBy>
  <dcterms:modified xsi:type="dcterms:W3CDTF">2003-06-03T03:04:32Z</dcterms:modified>
  <cp:revision>8</cp:revision>
  <dc:subject/>
  <dc:title>游褒禅山记</dc:title>
</cp:coreProperties>
</file>