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238D-1401-481B-82C2-EB7CFA79AFA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一课时时打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本是肩并肩密密地挨着，这便宛然有了一道凝碧的波痕。叶子地下是脉脉的流水，遮住了，不能见一些颜色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底下是脉脉的流水，遮住了，不能见一些颜色；而叶子却更见风致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光如流水一般，静静地泻在这一片叶子和花上，薄薄的青雾浮起在荷塘里。叶子和花仿佛在牛乳中洗过一样；又像笼着轻纱的梦。虽然是满月，天上却有一层淡淡的云，所以不能朗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树色一例是阴阴的，乍看像一团烟雾，但杨柳的丰姿，便在烟雾里也辨得出。树梢上隐隐约约的是一带远山，只有些大意罢了，树缝里也露着一两点路灯的光，没精打采的，是瞌睡人的眼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介绍完背景开始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叶子出水很高，像亭亭的舞女的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袅娜地开着的和羞涩的打着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3487-EE0B-4698-94DE-C850E628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53E-9534-4D81-BE0B-12568D81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99A9-0074-4FB4-93A9-8C5E6E39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B5F-3DF0-458E-8581-8243436E5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38244-FF92-494D-B2EC-B348B130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B25F7-B130-4EA1-93AD-37BAE187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BF3E7-6D6C-4B64-9E69-9E956266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6AC0A-D5EF-49CA-86BF-FC3345A1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8AF90-8676-41C0-A0A6-A5E0614E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D4AF3-5A01-4B5B-A313-01B02B5A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E9C1C-F0F0-4831-BF29-61A1D051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F5E-B38C-42B3-8A94-929DEAEB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F32FC-1093-4E7B-B28F-B1D3B3E7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47FA8-38E8-4901-9934-A589DFA5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762998-F4C0-46E4-BB8B-A04E2A93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EEBB4-5B49-462F-9C5D-028ED8E4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281E-E9AB-436A-A866-E4BF9CA3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E194-7C1F-46D1-B201-EA1EDCF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FCE-8E45-4F16-9BF1-5DB3EA9F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F12-7617-416E-B77D-F00B6D42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F6E-2825-46AB-9255-61EE7697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9E7-AE25-4F78-A607-CE8E6349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92CA-D67B-4E9D-8F9F-B571614D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5E8-2F70-44E3-A528-4079F6AB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682E-5190-4125-AB7D-1E28D529317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93BB-A12D-4A0A-8E3B-BF1D0675304C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&#22768;&#38899;&#25991;&#20214;&#65292;&#33655;&#22616;&#26376;&#33394;&#26391;&#35835;&#26448;&#26009;.flv" TargetMode="External"/><Relationship Id="rId2" Type="http://schemas.openxmlformats.org/officeDocument/2006/relationships/hyperlink" Target="file:///../&#22768;&#38899;&#25991;&#20214;&#65292;&#33655;&#22616;&#26376;&#33394;&#26391;&#35835;&#26448;&#26009;.flv" TargetMode="External"/><Relationship Id="rId3" Type="http://schemas.openxmlformats.org/officeDocument/2006/relationships/hyperlink" Target="file:///../&#22768;&#38899;&#25991;&#20214;&#65292;&#33655;&#22616;&#26376;&#33394;&#26391;&#35835;&#26448;&#26009;.flv" TargetMode="External"/><Relationship Id="rId4" Type="http://schemas.openxmlformats.org/officeDocument/2006/relationships/hyperlink" Target="file:///../&#22768;&#38899;&#25991;&#20214;&#65292;&#33655;&#22616;&#26376;&#33394;&#26391;&#35835;&#26448;&#26009;.flv" TargetMode="External"/><Relationship Id="rId5" Type="http://schemas.openxmlformats.org/officeDocument/2006/relationships/hyperlink" Target="file:///../&#22768;&#38899;&#25991;&#20214;&#65292;&#33655;&#22616;&#26376;&#33394;&#26391;&#35835;&#26448;&#26009;.flv" TargetMode="External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e3ff"/>
                </a:solidFill>
                <a:latin typeface="Arial"/>
              </a:rPr>
              <a:t>荷塘月色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47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24000" y="115920"/>
            <a:ext cx="8424720" cy="6570720"/>
          </a:xfrm>
          <a:prstGeom prst="rect">
            <a:avLst/>
          </a:prstGeom>
          <a:ln w="0">
            <a:noFill/>
          </a:ln>
        </p:spPr>
      </p:pic>
    </p:spTree>
  </p:cSld>
  <p:transition advTm="2000"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2a0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128080" cy="5784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b39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399960"/>
            <a:ext cx="7705800" cy="5897520"/>
          </a:xfrm>
          <a:prstGeom prst="rect">
            <a:avLst/>
          </a:prstGeom>
          <a:ln w="0">
            <a:noFill/>
          </a:ln>
        </p:spPr>
      </p:pic>
    </p:spTree>
  </p:cSld>
  <p:transition advTm="2000">
    <p:pull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4720" y="1197000"/>
            <a:ext cx="48592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朱自清：原名朱自华，号秋实，为勉励自己在困境中不丧志，不灰心，保持清白，不与黑暗势力同流合污，便取《楚辞》中“宁廉洁正直以自清乎”中的“自清”二字改名“朱自清”字“佩弦”。他是著名的散文家、诗人、民主战士、爱国知识分子，初中时，学过他的散文《春》、《背影》等。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1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考入北大哲学系；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岁任清华大学教授；毛主席高度赞扬朱自清“一身重病，宁可饿死，不领美国的‘救济粮’”“表现我们民族的英雄气概；他的散文秀丽朴素，我们通过学习《荷塘月色》一起体会一下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3725640" cy="510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背景介绍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写于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，作者当时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9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岁，任清华大学中文系教授。由于蒋介石叛变革命，中国处于一片黑暗之中。在这样的社会，作者看不到希望，但又想做一个自由的知识分子，苦闷彷徨是自然而然的。《荷塘月色》就是在这样的背景下写成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d:\My Documents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荷塘月色教案评比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\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声音文件，荷塘月色朗读材料</a:t>
            </a:r>
            <a:r>
              <a:rPr b="0" lang="zh-CN" sz="4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.flv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3141720"/>
            <a:ext cx="6408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提问：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本文的文眼是哪句？课文分为几部分？结构有什么特点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317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明确：本文的文眼：“这几天心里颇不宁静”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全文分三大段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: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一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1—3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月夜漫步荷塘的缘由及来到荷塘的感受。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点明题旨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)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 二部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(4—6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：荷塘月色的恬静迷人。（主体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  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部分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7—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）：荷塘月色的美景引动乡思。（偏重抒情 ）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    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65040" y="1651320"/>
            <a:ext cx="8310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结构特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内结构看，情感思绪是从不静、求静、得静到出静，是一个圆形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外结构看，从作者出门经小径到荷塘复又归来，依空间顺序描绘了一次夏夜游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49720"/>
            <a:ext cx="831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情变化是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心里颇不宁静”→淡淡的月光下，有淡淡的哀愁→在自然美景中，有淡淡的喜悦→发出“我什么也没有”的慨叹→惦念江南，欲超脱而不可得。作者在文中体现的复杂的思想感情是“淡淡的哀愁，淡淡的的喜悦”。这从景物描写中也能看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9928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37d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4360" y="51120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p:transition advTm="9000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8:41:01Z</dcterms:created>
  <dc:creator>微软用户</dc:creator>
  <dc:description/>
  <dc:language>en-US</dc:language>
  <cp:lastModifiedBy>微软用户</cp:lastModifiedBy>
  <dcterms:modified xsi:type="dcterms:W3CDTF">2008-09-22T15:10:39Z</dcterms:modified>
  <cp:revision>12</cp:revision>
  <dc:subject/>
  <dc:title>荷塘月色</dc:title>
</cp:coreProperties>
</file>