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gif" ContentType="image/gif"/>
  <Override PartName="/ppt/media/image20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5.png" ContentType="image/png"/>
  <Override PartName="/ppt/media/image24.jpeg" ContentType="image/jpeg"/>
  <Override PartName="/ppt/media/image3.jpeg" ContentType="image/jpeg"/>
  <Override PartName="/ppt/media/drumroll.wav" ContentType="audio/x-wav"/>
  <Override PartName="/ppt/media/image28.gif" ContentType="image/gif"/>
  <Override PartName="/ppt/media/image2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recycle.wav" ContentType="audio/x-wav"/>
  <Override PartName="/ppt/media/image12.jpeg" ContentType="image/jpeg"/>
  <Override PartName="/ppt/media/image13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F9A-8009-456F-A02D-EAFE9446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615-0DA9-4158-ACC1-0A4FDB25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506-74FC-4D29-B567-57EFE61D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87C-FCDA-450B-B2B8-D0AFD837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B03-C115-427A-A92A-694FFA85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98A0-E277-4367-9D43-9E31836F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C2AA-85AE-46F0-8DDD-C80386B7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5DC0-F018-45ED-9B74-D7DFB9C1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DDE-11E7-45AF-9C2D-6D6B637E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936-7C92-4F44-A101-D9EA5FDA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034E-76CC-4561-A15B-5646836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D06-2A83-4C6E-8171-508768D2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AE91-930E-41A2-8557-3A2B9E2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24DD-34DB-439B-B2B6-22C8355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6C7F-ACB1-4ED0-8025-6AAB7DB5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45B-A1A6-4E63-B45F-52A580DB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AC59-05EE-417B-9A88-AB756BA1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A1C-2F5D-4FDA-A2F8-CA6CFB81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B04-B951-4F8F-B0C5-390F367C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180-5F26-4C9D-B65E-0E53319F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12C-E48F-49E5-8AC5-302875A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41C-E174-4475-8F06-63CFB05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E4C-B550-4635-858A-9F13AC7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B76-3F38-46D3-9728-FC7EE75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4F8-C7F3-43DB-A53D-FF616109DA7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5CE-4CBC-4CD8-9A1C-11FB6AACD91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3392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225576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19051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2133720"/>
            <a:ext cx="308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我的信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4120" y="3902040"/>
            <a:ext cx="2890080" cy="581400"/>
            <a:chOff x="5334120" y="3902040"/>
            <a:chExt cx="2890080" cy="581400"/>
          </a:xfrm>
        </p:grpSpPr>
        <p:sp>
          <p:nvSpPr>
            <p:cNvPr id="91" name=""/>
            <p:cNvSpPr/>
            <p:nvPr/>
          </p:nvSpPr>
          <p:spPr>
            <a:xfrm>
              <a:off x="5334120" y="42670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0560" y="3902040"/>
              <a:ext cx="16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玛丽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居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居里夫人所说的“讲究现实”与“梦想家”是什么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梦想家”的最基本特征是献身事业，全身心地投入事业，事业就是一切，根本不考虑物质利益。从放弃专利可看出居里夫人就是这种“梦想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476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2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119700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与延伸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565360"/>
            <a:ext cx="8640720" cy="3017160"/>
            <a:chOff x="324000" y="2565360"/>
            <a:chExt cx="8640720" cy="3017160"/>
          </a:xfrm>
        </p:grpSpPr>
        <p:sp>
          <p:nvSpPr>
            <p:cNvPr id="162" name=""/>
            <p:cNvSpPr/>
            <p:nvPr/>
          </p:nvSpPr>
          <p:spPr>
            <a:xfrm>
              <a:off x="1116000" y="2565360"/>
              <a:ext cx="287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居里夫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4720" y="2637000"/>
              <a:ext cx="18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“</a:t>
              </a: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我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076640"/>
              <a:ext cx="864072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</a:t>
              </a:r>
              <a:r>
                <a:rPr b="1" lang="zh-CN" sz="4400" spc="-1" strike="noStrike">
                  <a:solidFill>
                    <a:srgbClr val="660066"/>
                  </a:solidFill>
                  <a:latin typeface="Arial"/>
                  <a:ea typeface="幼圆"/>
                </a:rPr>
                <a:t>说说心里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     找差距      得到的启迪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51280" y="292428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flipH="1" rot="16200000">
              <a:off x="4140000" y="3572640"/>
              <a:ext cx="71892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016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学习了这篇文章，就如同与伟人对话。我们感受了居里夫人坚忍不拔，抛弃财富，献身科学等伟大的人格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事业。我们在学习、生活乃至将来的工作中，以此为楷模，努力使自己成为一个大写的人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339640" y="2204640"/>
            <a:ext cx="410364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愿你们每天都愉快地过着生活，不要等到日子过去了才找出它们的可爱之处，也不要把所有特别合意的希望都放在未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038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4591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课外搜集一些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8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关居里夫人的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料，用其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038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两个材料证明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文中的一些观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写成一个小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760" y="2666880"/>
            <a:ext cx="2009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562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229280" y="3086280"/>
            <a:ext cx="9144000" cy="360"/>
            <a:chOff x="4229280" y="3086280"/>
            <a:chExt cx="9144000" cy="360"/>
          </a:xfrm>
        </p:grpSpPr>
        <p:sp>
          <p:nvSpPr>
            <p:cNvPr id="182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-565200"/>
            <a:ext cx="9144000" cy="7989840"/>
            <a:chOff x="0" y="-565200"/>
            <a:chExt cx="9144000" cy="7989840"/>
          </a:xfrm>
        </p:grpSpPr>
        <p:sp>
          <p:nvSpPr>
            <p:cNvPr id="185" name=""/>
            <p:cNvSpPr/>
            <p:nvPr/>
          </p:nvSpPr>
          <p:spPr>
            <a:xfrm>
              <a:off x="0" y="-565200"/>
              <a:ext cx="8686800" cy="79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0" y="-565200"/>
              <a:ext cx="9144000" cy="360"/>
              <a:chOff x="0" y="-565200"/>
              <a:chExt cx="9144000" cy="3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886200" y="2743200"/>
            <a:ext cx="9144000" cy="360"/>
            <a:chOff x="3886200" y="2743200"/>
            <a:chExt cx="9144000" cy="360"/>
          </a:xfrm>
        </p:grpSpPr>
        <p:sp>
          <p:nvSpPr>
            <p:cNvPr id="190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51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居里夫人和“玩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2800"/>
            <a:ext cx="9144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有一次，居里夫人的两个女儿正在玩英国皇家学会奖给她的一枚金质奖章。一位来访的客人看了惊讶地叫起来：“这么贵重的奖章，您怎么能随便给孩子玩呢？”居里夫人告诉客人说：“是我故意给他们玩的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我是想让孩子从小就知道，荣誉就像玩具一样，只能玩玩而已。如果让子女躺在父母的荣誉簿上，他们将来就会一事无成。” 　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　 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，居里夫人应邀访问美国，美国妇女主动捐给她一克价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万元以上的镭，但她坚持把镭送给她所在的实验室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她时常告诉女儿们说：“你们将来必须走自谋生活之路，这是一件妥当而又自然的事情。” 由于居里夫人的良好教育，她的孩子们也像母亲一样，在科学的道路上奋勇攀登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居里夫人一家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母亲、父亲、女儿和女婿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累计获得了三项诺贝尔科学奖，成为迄今为止获诺贝尔奖最多的第一个家庭。这也许同他们把“荣誉”视同“玩具”从不放在心上有关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　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360" y="1231920"/>
            <a:ext cx="4968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7—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国物理学家、化学家，巴黎大学理学博士。发现了放射性元素，两次获诺贝尔奖。是法国科学院第一位女院士，同时还被其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国家聘为科学院院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723" t="3279" r="51657" b="2279"/>
          <a:stretch/>
        </p:blipFill>
        <p:spPr>
          <a:xfrm>
            <a:off x="46836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85690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167600" y="4937400"/>
            <a:ext cx="1595160" cy="1752480"/>
            <a:chOff x="7167600" y="4937400"/>
            <a:chExt cx="1595160" cy="1752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7874280" y="5274720"/>
              <a:ext cx="88848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7600" y="49374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  <a:ea typeface="华文彩云"/>
                </a:rPr>
                <a:t>你知道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20" y="457200"/>
            <a:ext cx="1824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</a:rPr>
              <a:t>吝啬有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起，居里夫人的年薪已增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郎，但她照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吝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每次从国外回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要带回一些宴会上的菜单，因为这些菜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很厚很好的纸片，在背面书写物理、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算式，方便极了。有人说居里夫人一直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像一个匆忙的贫穷妇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有一次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美国记者追踪这位著名学者，走到村子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座渔家房舍门前，向赤足坐在门口石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位妇女打听居里夫人，当她抬起头来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者大吃一惊：原来她就是居里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0492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33380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562932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4299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5380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724280"/>
            <a:ext cx="185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9228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88930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幸运的同居里夫人有二十年崇高而真挚的友谊，我对她的人格的伟大越来越感到钦佩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她一生中最伟大的科学功绩——证明放射性元素的存在并把他们分离出来——所以能取得，不仅是靠着大胆的直觉，而且也靠着在难以想象的极端困难情况下工作的热忱和顽强，这样的困难在实验科学中是罕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居里夫人的品德力量和热忱，哪怕只要有一小部分存在于欧洲的知识分子中间，欧洲就会面临一个比较光明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爱因斯坦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《悼念玛丽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居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72000" cy="525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627280" cy="352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3640" y="549360"/>
            <a:ext cx="360036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56000" y="59500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居里夫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54920" y="5805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10800000">
            <a:off x="8028000" y="42163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65400">
            <a:off x="3704760" y="50799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下列红字的音，你读准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粹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坚韧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心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粉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懊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悔        问心无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奥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仙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5480" y="108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90792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732200">
            <a:off x="5003280" y="1051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3068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06864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h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2360" y="46530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0600" y="5334120"/>
            <a:ext cx="4331160" cy="1523880"/>
            <a:chOff x="4350600" y="5334120"/>
            <a:chExt cx="4331160" cy="1523880"/>
          </a:xfrm>
        </p:grpSpPr>
        <p:pic>
          <p:nvPicPr>
            <p:cNvPr id="124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7410600" y="5334120"/>
              <a:ext cx="1271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78560" y="6248520"/>
              <a:ext cx="84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0600" y="60724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傻瓜才会搞错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762120"/>
            <a:ext cx="2454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鞭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盛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报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奢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蹂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迷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问心无愧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5080" y="777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坚持己见，不肯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92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用鞭和策赶马，喻督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064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很大的名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3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1000" y="29448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过高的希望。          呵责：呵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02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扪心自问，毫无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01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迷恋，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408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520" y="6338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突然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探究一  梳理与把握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方法：抓住关键词语，第一步概括要点，第二步分析归纳，第三步整理排列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坚忍不拔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勤奋执著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探讨真理献身科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安静简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淡泊名利追求自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克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沉醉于科学之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坚定的理念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适合的环境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良好的工作态度（集中目标、树立信心、坚韧不拔、执著勤奋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（思考：如何才能成为一名真正的科学家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Verdana"/>
                <a:ea typeface="文鼎妞妞体"/>
              </a:rPr>
              <a:t>探究二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小组合作，针对课文提出问题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要求：每位小组成员先自己认真研读课文，提出疑问，再和小组交流，筛选出最有价值的一个问题，全班交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1:02:58Z</dcterms:created>
  <dc:creator>微软用户</dc:creator>
  <dc:description/>
  <dc:language>en-US</dc:language>
  <cp:lastModifiedBy>小刘</cp:lastModifiedBy>
  <dcterms:modified xsi:type="dcterms:W3CDTF">2009-10-16T09:05:04Z</dcterms:modified>
  <cp:revision>9</cp:revision>
  <dc:subject/>
  <dc:title>幻灯片 1</dc:title>
</cp:coreProperties>
</file>