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explode.wav" ContentType="audio/x-wav"/>
  <Override PartName="/ppt/media/camera.wav" ContentType="audio/x-wav"/>
  <Override PartName="/ppt/media/laser.wav" ContentType="audio/x-wav"/>
  <Override PartName="/ppt/media/image4.png" ContentType="image/png"/>
  <Override PartName="/ppt/media/image11.png" ContentType="image/png"/>
  <Override PartName="/ppt/media/carbrake.wav" ContentType="audio/x-wav"/>
  <Override PartName="/ppt/media/image9.png" ContentType="image/png"/>
  <Override PartName="/ppt/media/image1.jpeg" ContentType="image/jpeg"/>
  <Override PartName="/ppt/media/image8.jpeg" ContentType="image/jpeg"/>
  <Override PartName="/ppt/media/whoosh.wav" ContentType="audio/x-wav"/>
  <Override PartName="/ppt/media/image2.jpeg" ContentType="image/jpeg"/>
  <Override PartName="/ppt/media/image3.png" ContentType="image/png"/>
  <Override PartName="/ppt/media/image5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93C-70CA-4A7D-92C4-56DCC631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BF0-4724-487D-BA10-51F5ACF9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CFA-5AA1-4EA7-A146-1047F16D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71E-C950-4AAC-A7F8-89F7706B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393-B5F6-441E-941F-E7EE6217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215-6130-4CAD-A16A-621D619D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B1F-9334-4D32-AE1D-66C19FFA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EEC-8212-48EE-9F0D-A30C5D58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3FD-A10F-427E-BC5F-743E05D8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A80-A102-41EE-8F00-C70596AA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24D-61BD-4282-B7B4-7709B122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357-9E09-4B16-87F5-75859F1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BE2C-67AE-4193-8C6F-BADCB78DAF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whoosh.wav"/><Relationship Id="rId13" Type="http://schemas.openxmlformats.org/officeDocument/2006/relationships/audio" Target="../media/chimes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audio" Target="../media/explode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las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laser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whoosh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"/>
            <a:ext cx="35053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劝学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07640" y="685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荀子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07640" y="2209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764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文演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0764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字疏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776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360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360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外拓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415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6172200" cy="601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6240" y="23216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838080"/>
            <a:ext cx="228600" cy="4419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6720" y="373392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林建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12720" y="30139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奉化中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22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21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76920" y="0"/>
          <a:ext cx="4464000" cy="739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0"/>
                    <a:ext cx="4464000" cy="73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1374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03160" y="228600"/>
            <a:ext cx="566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荀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约公元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38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况字卿，战国末期赵国人，曾游学于齐，当过楚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兰陵令。后来失官居家著书，死后葬于兰陵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 荀子是我国古代的思想家、教育家，是先秦儒家最后的代表，朴素唯物主义思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集大成者。韩非和李斯都是他的学生。他反对迷信天命鬼神，肯定自然规律是不以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们意志为转移的，并提出“制天命而用之”的人定胜天的思想。他强调教育和礼法的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，主张治理天下既要靠“法制”，又要重视教化兼用“礼”治，强调“行”对于“知”的必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性和后天学习的重要性，认为后天环境和教育可以改变人的本性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荀子的著作有《荀子》二十卷。该书由《论语》、《孟子》的语录体，发展为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题的论文，标志着古代说理文的进一步成熟。他的散文说理透彻、语言质朴、多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比句，又善用比喻。《劝学》是《荀子》的第一篇。本文是原文前几段的节录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98200" y="22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86160" y="2057400"/>
            <a:ext cx="462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君子曰：学不可以已。青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取之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青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冰，水为之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寒于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木直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绳，輮以为轮，其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规，虽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槁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不复挺者，輮使之然也。故木受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则直，金就砺则利。君子博学而日参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乎己，则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而行无过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4800" y="2286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990720"/>
            <a:ext cx="2057400" cy="990360"/>
          </a:xfrm>
          <a:prstGeom prst="cloudCallout">
            <a:avLst>
              <a:gd name="adj1" fmla="val -50925"/>
              <a:gd name="adj2" fmla="val 46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32000" y="1344600"/>
            <a:ext cx="1155960" cy="33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7c80"/>
                </a:solidFill>
                <a:latin typeface="Times New Roman"/>
              </a:rPr>
              <a:t>有学问有修养的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360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143000"/>
            <a:ext cx="914400" cy="609480"/>
          </a:xfrm>
          <a:prstGeom prst="wedgeEllipseCallout">
            <a:avLst>
              <a:gd name="adj1" fmla="val -60416"/>
              <a:gd name="adj2" fmla="val 12005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66680" y="124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36232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576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7280" y="36576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267080"/>
            <a:ext cx="914400" cy="609840"/>
          </a:xfrm>
          <a:prstGeom prst="cloudCallout">
            <a:avLst>
              <a:gd name="adj1" fmla="val -51041"/>
              <a:gd name="adj2" fmla="val -129689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31520" y="434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27672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4240" y="5486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7680" y="4950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7680" y="525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5800" y="5562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句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57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异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0292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486400"/>
            <a:ext cx="2209680" cy="304920"/>
          </a:xfrm>
          <a:prstGeom prst="rightArrow">
            <a:avLst>
              <a:gd name="adj1" fmla="val 50000"/>
              <a:gd name="adj2" fmla="val 1811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9720" y="5029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99080" y="5407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14920" y="571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518148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962520"/>
            <a:ext cx="1752480" cy="838080"/>
          </a:xfrm>
          <a:prstGeom prst="wedgeEllipseCallout">
            <a:avLst>
              <a:gd name="adj1" fmla="val -92120"/>
              <a:gd name="adj2" fmla="val -71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5760" y="4191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词作状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8672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71360" y="5715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古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7200" y="6019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破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1360" y="6324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240" y="1066680"/>
            <a:ext cx="51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吾尝终日而思矣，不如须臾之所学也。吾尝〔足支〕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望矣，不如登高之博见 也。登高而招，臂非加长也，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而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者远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8480" y="1295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28600"/>
            <a:ext cx="2362320" cy="609480"/>
          </a:xfrm>
          <a:prstGeom prst="wedgeEllipseCallout">
            <a:avLst>
              <a:gd name="adj1" fmla="val -34944"/>
              <a:gd name="adj2" fmla="val 9270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80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99"/>
                </a:solidFill>
                <a:latin typeface="Times New Roman"/>
              </a:rPr>
              <a:t>连词 ，表修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1905120"/>
            <a:ext cx="3886200" cy="990360"/>
          </a:xfrm>
          <a:prstGeom prst="cloudCallout">
            <a:avLst>
              <a:gd name="adj1" fmla="val -74958"/>
              <a:gd name="adj2" fmla="val -2820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0680" y="22096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省略句，应为“而见之者远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590920"/>
            <a:ext cx="1904760" cy="609480"/>
          </a:xfrm>
          <a:prstGeom prst="wedgeRoundRectCallout">
            <a:avLst>
              <a:gd name="adj1" fmla="val -14000"/>
              <a:gd name="adj2" fmla="val -110939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5600" y="2682720"/>
            <a:ext cx="1172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形容词作状语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8160" y="4114800"/>
            <a:ext cx="50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顺风而呼，声非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，而闻者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假舆 马者，非利足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而致千里。假舟楫者，非能水也，而绝江河。君子</a:t>
            </a: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异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善假于物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352680"/>
            <a:ext cx="914400" cy="609840"/>
          </a:xfrm>
          <a:prstGeom prst="wedgeEllipseCallout">
            <a:avLst>
              <a:gd name="adj1" fmla="val -77777"/>
              <a:gd name="adj2" fmla="val 8411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15320" y="3429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大，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276720"/>
            <a:ext cx="1447560" cy="609480"/>
          </a:xfrm>
          <a:prstGeom prst="cloudCallout">
            <a:avLst>
              <a:gd name="adj1" fmla="val -22041"/>
              <a:gd name="adj2" fmla="val 97657"/>
            </a:avLst>
          </a:prstGeom>
          <a:gradFill rotWithShape="0">
            <a:gsLst>
              <a:gs pos="0">
                <a:srgbClr val="2f005e"/>
              </a:gs>
              <a:gs pos="50000">
                <a:srgbClr val="6600cc"/>
              </a:gs>
              <a:gs pos="100000">
                <a:srgbClr val="2f00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3352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明显，清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44197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666880"/>
            <a:ext cx="2438280" cy="914400"/>
          </a:xfrm>
          <a:prstGeom prst="wedgeEllipseCallout">
            <a:avLst>
              <a:gd name="adj1" fmla="val 1759"/>
              <a:gd name="adj2" fmla="val 105037"/>
            </a:avLst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68360" y="2895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使足（行得）麻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105520"/>
            <a:ext cx="1066680" cy="304560"/>
          </a:xfrm>
          <a:prstGeom prst="wedgeRectCallout">
            <a:avLst>
              <a:gd name="adj1" fmla="val 24851"/>
              <a:gd name="adj2" fmla="val -11614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510552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0764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1800" y="563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5040" y="56386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040" y="48006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4876920"/>
            <a:ext cx="1371600" cy="609480"/>
          </a:xfrm>
          <a:prstGeom prst="cloudCallout">
            <a:avLst>
              <a:gd name="adj1" fmla="val -93171"/>
              <a:gd name="adj2" fmla="val -29166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61040" y="502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偏义复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08360" y="3860640"/>
            <a:ext cx="1905120" cy="609840"/>
          </a:xfrm>
          <a:prstGeom prst="wedgeEllipseCallout">
            <a:avLst>
              <a:gd name="adj1" fmla="val 66166"/>
              <a:gd name="adj2" fmla="val -180731"/>
            </a:avLst>
          </a:prstGeom>
          <a:gradFill rotWithShape="0">
            <a:gsLst>
              <a:gs pos="0">
                <a:srgbClr val="5e0075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440" y="1600200"/>
            <a:ext cx="180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积土成山，风雨兴</a:t>
            </a:r>
            <a:r>
              <a:rPr b="0" lang="zh-CN" sz="2400" spc="-1" strike="noStrike" u="sng">
                <a:solidFill>
                  <a:srgbClr val="6600cc"/>
                </a:solidFill>
                <a:uFillTx/>
                <a:latin typeface="宋体"/>
              </a:rPr>
              <a:t>焉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积水成渊，蛟龙生焉。积善成德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神明自得，圣心备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焉。故不积跬步，无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至千里；不积小流，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成江海。骐骥一跃，不能十步；驽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马十驾，功在不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舍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锲而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之，朽木不折；锲而不舍，金石可镂。蚓无爪牙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利，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筋骨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强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上食埃土，下饮黄泉，用心一也。蟹六跪而二螯，非蛇鳝之穴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可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寄托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者，用心躁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80880"/>
            <a:ext cx="2438280" cy="762120"/>
          </a:xfrm>
          <a:prstGeom prst="cloudCallout">
            <a:avLst>
              <a:gd name="adj1" fmla="val 52083"/>
              <a:gd name="adj2" fmla="val 116250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3352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兼词？语气助词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2670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42640" y="7621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ff"/>
                </a:solidFill>
                <a:latin typeface="Times New Roman"/>
              </a:rPr>
              <a:t>介词，用来……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304920"/>
            <a:ext cx="1067040" cy="761760"/>
          </a:xfrm>
          <a:prstGeom prst="wedgeRoundRectCallout">
            <a:avLst>
              <a:gd name="adj1" fmla="val -20236"/>
              <a:gd name="adj2" fmla="val 217916"/>
              <a:gd name="adj3" fmla="val 16667"/>
            </a:avLst>
          </a:prstGeom>
          <a:gradFill rotWithShape="0">
            <a:gsLst>
              <a:gs pos="0">
                <a:srgbClr val="461775"/>
              </a:gs>
              <a:gs pos="100000">
                <a:srgbClr val="9933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2960" y="457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舍弃，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038480"/>
            <a:ext cx="3200400" cy="685800"/>
          </a:xfrm>
          <a:prstGeom prst="cloudCallout">
            <a:avLst>
              <a:gd name="adj1" fmla="val -13046"/>
              <a:gd name="adj2" fmla="val -18634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1240" y="4114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结构助词，取消句子独立性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41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段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0760" y="5410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确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03920" y="5105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03920" y="5562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51055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6880" y="5170680"/>
            <a:ext cx="1003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专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坚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积累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343400"/>
            <a:ext cx="1904760" cy="609480"/>
          </a:xfrm>
          <a:prstGeom prst="wedgeEllipseCallout">
            <a:avLst>
              <a:gd name="adj1" fmla="val -45416"/>
              <a:gd name="adj2" fmla="val -136458"/>
            </a:avLst>
          </a:prstGeom>
          <a:gradFill rotWithShape="0">
            <a:gsLst>
              <a:gs pos="0">
                <a:srgbClr val="cc00ff"/>
              </a:gs>
              <a:gs pos="100000">
                <a:srgbClr val="5e00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6320" y="4419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寄居，托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6280" y="289548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9960" y="3933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定语后置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609480"/>
            <a:ext cx="228600" cy="457200"/>
          </a:xfrm>
          <a:prstGeom prst="wedgeEllipseCallout">
            <a:avLst>
              <a:gd name="adj1" fmla="val -105555"/>
              <a:gd name="adj2" fmla="val 269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75393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6080" y="6584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论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80880"/>
            <a:ext cx="152640" cy="2819520"/>
          </a:xfrm>
          <a:custGeom>
            <a:avLst/>
            <a:gdLst>
              <a:gd name="textAreaLeft" fmla="*/ 97560 w 152640"/>
              <a:gd name="textAreaRight" fmla="*/ 153000 w 152640"/>
              <a:gd name="textAreaTop" fmla="*/ 220320 h 2819520"/>
              <a:gd name="textAreaBottom" fmla="*/ 259920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97280" y="325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4480" y="380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提出中心论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32520" y="380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学不可以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97280" y="1011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9680" y="1066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81760" y="83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81760" y="121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13480" y="167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三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83640" y="1752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85000" y="1752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928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1348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四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83840" y="2286000"/>
            <a:ext cx="139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140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专心坚持积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9907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4880" y="990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必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58400" y="1295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为什么要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4880" y="1676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重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9080" y="213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学习的实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7040" y="259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操作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9080" y="31240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应如何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380880"/>
            <a:ext cx="304920" cy="83844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121932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1905120"/>
            <a:ext cx="228600" cy="990360"/>
          </a:xfrm>
          <a:custGeom>
            <a:avLst/>
            <a:gdLst>
              <a:gd name="textAreaLeft" fmla="*/ 30600 w 228600"/>
              <a:gd name="textAreaRight" fmla="*/ 198000 w 22860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7760" y="444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写作特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8098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0880" y="3733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60800" y="3730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逻辑性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6640" y="4191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深入浅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82360" y="4191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（善于使用比喻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7664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比鲜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76640" y="5181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入题快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07:15:02Z</dcterms:created>
  <dc:creator> </dc:creator>
  <dc:description/>
  <dc:language>en-US</dc:language>
  <cp:lastModifiedBy>微软用户</cp:lastModifiedBy>
  <dcterms:modified xsi:type="dcterms:W3CDTF">2010-05-31T00:44:18Z</dcterms:modified>
  <cp:revision>11</cp:revision>
  <dc:subject/>
  <dc:title>PowerPoint 演示文稿</dc:title>
</cp:coreProperties>
</file>