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CFB6-99C2-4ABD-9ABC-19C5A0EF5F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时时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本是肩并肩密密地挨着，这便宛然有了一道凝碧的波痕。叶子地下是脉脉的流水，遮住了，不能见一些颜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底下是脉脉的流水，遮住了，不能见一些颜色；而叶子却更见风致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光如流水一般，静静地泻在这一片叶子和花上，薄薄的青雾浮起在荷塘里。叶子和花仿佛在牛乳中洗过一样；又像笼着轻纱的梦。虽然是满月，天上却有一层淡淡的云，所以不能朗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色一例是阴阴的，乍看像一团烟雾，但杨柳的丰姿，便在烟雾里也辨得出。树梢上隐隐约约的是一带远山，只有些大意罢了，树缝里也露着一两点路灯的光，没精打采的，是瞌睡人的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介绍完背景开始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出水很高，像亭亭的舞女的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袅娜地开着的和羞涩的打着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EB2-4A74-46DE-84E5-20FCFF7E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BAF-3931-4B7A-8422-1523C6AC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9B0-91CB-4728-AD7B-DD077E0D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2D1-59DE-4D02-B2C2-C2177262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E0BDA-1205-47F1-8575-77AC2E9E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253A0-954E-4F0A-B13C-2195C940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F21DB-2620-4CA9-8343-9160E24D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F3929-A857-4707-B951-EEF026D4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6B4B9-D1BE-4880-9F9B-663DD8F3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0A9D7-F985-4F1C-9B6B-41786CD5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9EBED-D0B7-43CB-878A-A2735990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BBA-64E3-47FA-9DA7-2CCEA50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94C88-461A-4185-8F09-638A4F3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DE7CC-3752-4582-A4E2-8FB40D48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4BBCA-63B0-4906-BC70-5DCF822F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18C0-647B-414B-AEA3-FE208FC2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817E2-F946-4E08-907F-C532B253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816-DCF1-4080-A112-021FF5CE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120-49F0-429F-869E-5023F1A0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1F3-09FC-4A15-ADC5-E0007868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560-E3FB-4997-BD8D-8ACFA6A2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B00-1220-49AA-8159-3E9B9625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764-626C-4C58-A3BE-5A1F0DEB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7F2-1CD1-474B-AB77-3EBE19E9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1E58-C172-43EE-A5AB-6E1B2CEDA3D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2CAC-9C05-4085-80CD-F57FFA7876C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&#22768;&#38899;&#25991;&#20214;&#65292;&#33655;&#22616;&#26376;&#33394;&#26391;&#35835;&#26448;&#26009;.flv" TargetMode="External"/><Relationship Id="rId2" Type="http://schemas.openxmlformats.org/officeDocument/2006/relationships/hyperlink" Target="file:///../&#22768;&#38899;&#25991;&#20214;&#65292;&#33655;&#22616;&#26376;&#33394;&#26391;&#35835;&#26448;&#26009;.flv" TargetMode="External"/><Relationship Id="rId3" Type="http://schemas.openxmlformats.org/officeDocument/2006/relationships/hyperlink" Target="file:///../&#22768;&#38899;&#25991;&#20214;&#65292;&#33655;&#22616;&#26376;&#33394;&#26391;&#35835;&#26448;&#26009;.flv" TargetMode="External"/><Relationship Id="rId4" Type="http://schemas.openxmlformats.org/officeDocument/2006/relationships/hyperlink" Target="file:///../&#22768;&#38899;&#25991;&#20214;&#65292;&#33655;&#22616;&#26376;&#33394;&#26391;&#35835;&#26448;&#26009;.flv" TargetMode="External"/><Relationship Id="rId5" Type="http://schemas.openxmlformats.org/officeDocument/2006/relationships/hyperlink" Target="file:///../&#22768;&#38899;&#25991;&#20214;&#65292;&#33655;&#22616;&#26376;&#33394;&#26391;&#35835;&#26448;&#26009;.flv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荷塘月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4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5707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2a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28080" cy="5784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b39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399960"/>
            <a:ext cx="7705800" cy="58975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朱自清：原名朱自华，号秋实，为勉励自己在困境中不丧志，不灰心，保持清白，不与黑暗势力同流合污，便取《楚辞》中“宁廉洁正直以自清乎”中的“自清”二字改名“朱自清”字“佩弦”。他是著名的散文家、诗人、民主战士、爱国知识分子，初中时，学过他的散文《春》、《背影》等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考入北大哲学系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任清华大学教授；毛主席高度赞扬朱自清“一身重病，宁可饿死，不领美国的‘救济粮’”“表现我们民族的英雄气概；他的散文秀丽朴素，我们通过学习《荷塘月色》一起体会一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256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作者当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，任清华大学中文系教授。由于蒋介石叛变革命，中国处于一片黑暗之中。在这样的社会，作者看不到希望，但又想做一个自由的知识分子，苦闷彷徨是自然而然的。《荷塘月色》就是在这样的背景下写成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d:\My Documents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荷塘月色教案评比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声音文件，荷塘月色朗读材料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.flv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14172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提问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的文眼是哪句？课文分为几部分？结构有什么特点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17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明确：本文的文眼：“这几天心里颇不宁静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文分三大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: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一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1—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月夜漫步荷塘的缘由及来到荷塘的感受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明题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 二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4—6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荷塘月色的恬静迷人。（主体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三部分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—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：荷塘月色的美景引动乡思。（偏重抒情 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5040" y="1651320"/>
            <a:ext cx="831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结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内结构看，情感思绪是从不静、求静、得静到出静，是一个圆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外结构看，从作者出门经小径到荷塘复又归来，依空间顺序描绘了一次夏夜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49720"/>
            <a:ext cx="83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情变化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里颇不宁静”→淡淡的月光下，有淡淡的哀愁→在自然美景中，有淡淡的喜悦→发出“我什么也没有”的慨叹→惦念江南，欲超脱而不可得。作者在文中体现的复杂的思想感情是“淡淡的哀愁，淡淡的的喜悦”。这从景物描写中也能看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992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511200"/>
            <a:ext cx="7920000" cy="59421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41:01Z</dcterms:created>
  <dc:creator>微软用户</dc:creator>
  <dc:description/>
  <dc:language>en-US</dc:language>
  <cp:lastModifiedBy>微软用户</cp:lastModifiedBy>
  <dcterms:modified xsi:type="dcterms:W3CDTF">2008-09-22T15:10:39Z</dcterms:modified>
  <cp:revision>12</cp:revision>
  <dc:subject/>
  <dc:title>荷塘月色</dc:title>
</cp:coreProperties>
</file>