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jpeg" ContentType="image/jpeg"/>
  <Override PartName="/ppt/media/explode.wav" ContentType="audio/x-wav"/>
  <Override PartName="/ppt/media/camera.wav" ContentType="audio/x-wav"/>
  <Override PartName="/ppt/media/laser.wav" ContentType="audio/x-wav"/>
  <Override PartName="/ppt/media/image4.png" ContentType="image/png"/>
  <Override PartName="/ppt/media/image11.png" ContentType="image/png"/>
  <Override PartName="/ppt/media/carbrake.wav" ContentType="audio/x-wav"/>
  <Override PartName="/ppt/media/image9.png" ContentType="image/png"/>
  <Override PartName="/ppt/media/image1.jpeg" ContentType="image/jpeg"/>
  <Override PartName="/ppt/media/image8.jpeg" ContentType="image/jpeg"/>
  <Override PartName="/ppt/media/whoosh.wav" ContentType="audio/x-wav"/>
  <Override PartName="/ppt/media/image2.jpeg" ContentType="image/jpeg"/>
  <Override PartName="/ppt/media/image3.png" ContentType="image/png"/>
  <Override PartName="/ppt/media/image5.jpeg" ContentType="image/jpeg"/>
  <Override PartName="/ppt/media/chimes.wav" ContentType="audio/x-wav"/>
  <Override PartName="/ppt/media/image10.png" ContentType="image/png"/>
  <Override PartName="/ppt/media/image6.jpeg" ContentType="image/jpeg"/>
  <Override PartName="/ppt/media/typ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16D-EB5F-4FD8-87C7-D87CCEF6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403A-8389-4FB7-8201-93D04C15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9F7C-FA36-49E5-B853-DE14E4DC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9A02-0081-4FAF-8EEE-C9429B62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23D4-7B0C-4FFF-8CA2-B2FE7F2A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E82-4152-46E9-9812-388729E0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6D4C-0433-4A5E-BFA4-383823E8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5403-A475-45B7-86DA-662E6342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E695-CFB8-4CE4-96AF-3E82B2DC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6F5C-D475-461A-8850-79555D63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0533-72DD-47B0-9E51-2E998356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8743-F798-4649-BE3E-10346BF3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293A-B64C-4221-B400-E07DAB8736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whoosh.wav"/><Relationship Id="rId13" Type="http://schemas.openxmlformats.org/officeDocument/2006/relationships/audio" Target="../media/chimes.wav"/><Relationship Id="rId14" Type="http://schemas.openxmlformats.org/officeDocument/2006/relationships/audio" Target="../media/whoosh.wav"/><Relationship Id="rId15" Type="http://schemas.openxmlformats.org/officeDocument/2006/relationships/audio" Target="../media/chimes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himes.wav"/><Relationship Id="rId19" Type="http://schemas.openxmlformats.org/officeDocument/2006/relationships/audio" Target="../media/explode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type.wav"/><Relationship Id="rId11" Type="http://schemas.openxmlformats.org/officeDocument/2006/relationships/audio" Target="../media/whoosh.wav"/><Relationship Id="rId12" Type="http://schemas.openxmlformats.org/officeDocument/2006/relationships/audio" Target="../media/chimes.wav"/><Relationship Id="rId13" Type="http://schemas.openxmlformats.org/officeDocument/2006/relationships/audio" Target="../media/camera.wav"/><Relationship Id="rId14" Type="http://schemas.openxmlformats.org/officeDocument/2006/relationships/audio" Target="../media/whoosh.wav"/><Relationship Id="rId15" Type="http://schemas.openxmlformats.org/officeDocument/2006/relationships/audio" Target="../media/laser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laser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audio" Target="../media/laser.wav"/><Relationship Id="rId7" Type="http://schemas.openxmlformats.org/officeDocument/2006/relationships/audio" Target="../media/carbrak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whoosh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whoosh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type.wav"/><Relationship Id="rId14" Type="http://schemas.openxmlformats.org/officeDocument/2006/relationships/audio" Target="../media/whoosh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228600"/>
            <a:ext cx="35053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劝学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07640" y="685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荀子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07640" y="2209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朗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764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文演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07640" y="2895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字疏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7760" y="367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3600" y="4495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后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83600" y="5105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外拓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4156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6172200" cy="6019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6240" y="232164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838080"/>
            <a:ext cx="228600" cy="4419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6720" y="3733920"/>
            <a:ext cx="729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林建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12720" y="301392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奉化中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2240" y="15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2160" y="314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876920" y="0"/>
          <a:ext cx="4464000" cy="739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0"/>
                    <a:ext cx="4464000" cy="739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8137440" y="6040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03160" y="228600"/>
            <a:ext cx="566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荀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约公元前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1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一前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38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名况字卿，战国末期赵国人，曾游学于齐，当过楚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兰陵令。后来失官居家著书，死后葬于兰陵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        荀子是我国古代的思想家、教育家，是先秦儒家最后的代表，朴素唯物主义思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集大成者。韩非和李斯都是他的学生。他反对迷信天命鬼神，肯定自然规律是不以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们意志为转移的，并提出“制天命而用之”的人定胜天的思想。他强调教育和礼法的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用，主张治理天下既要靠“法制”，又要重视教化兼用“礼”治，强调“行”对于“知”的必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性和后天学习的重要性，认为后天环境和教育可以改变人的本性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       荀子的著作有《荀子》二十卷。该书由《论语》、《孟子》的语录体，发展为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标题的论文，标志着古代说理文的进一步成熟。他的散文说理透彻、语言质朴、多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比句，又善用比喻。《劝学》是《荀子》的第一篇。本文是原文前几段的节录。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98200" y="228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86160" y="2057400"/>
            <a:ext cx="4622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君子曰：学不可以已。青，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取之于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而青于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冰，水为之，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而寒于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木直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绳，輮以为轮，其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规，虽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槁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不复挺者，輮使之然也。故木受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则直，金就砺则利。君子博学而日参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乎己，则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而行无过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4800" y="2286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990720"/>
            <a:ext cx="2057400" cy="990360"/>
          </a:xfrm>
          <a:prstGeom prst="cloudCallout">
            <a:avLst>
              <a:gd name="adj1" fmla="val -50925"/>
              <a:gd name="adj2" fmla="val 46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32000" y="1344600"/>
            <a:ext cx="1155960" cy="337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7c80"/>
                </a:solidFill>
                <a:latin typeface="Times New Roman"/>
              </a:rPr>
              <a:t>有学问有修养的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3600" y="2362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143000"/>
            <a:ext cx="914400" cy="609480"/>
          </a:xfrm>
          <a:prstGeom prst="wedgeEllipseCallout">
            <a:avLst>
              <a:gd name="adj1" fmla="val -60416"/>
              <a:gd name="adj2" fmla="val 12005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66680" y="124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停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36232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5760" y="2362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7280" y="36576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Times New Roman"/>
              </a:rPr>
              <a:t>—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4267080"/>
            <a:ext cx="914400" cy="609840"/>
          </a:xfrm>
          <a:prstGeom prst="cloudCallout">
            <a:avLst>
              <a:gd name="adj1" fmla="val -51041"/>
              <a:gd name="adj2" fmla="val -129689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31520" y="4343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接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327672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4240" y="5486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总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7680" y="4950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57680" y="5257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55800" y="5562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句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57240" y="594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异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50292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5486400"/>
            <a:ext cx="2209680" cy="304920"/>
          </a:xfrm>
          <a:prstGeom prst="rightArrow">
            <a:avLst>
              <a:gd name="adj1" fmla="val 50000"/>
              <a:gd name="adj2" fmla="val 1811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89720" y="50292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的意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99080" y="5407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60093"/>
                </a:solidFill>
                <a:latin typeface="Times New Roman"/>
              </a:rPr>
              <a:t>提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14920" y="5715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60093"/>
                </a:solidFill>
                <a:latin typeface="Times New Roman"/>
              </a:rPr>
              <a:t>改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518148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3962520"/>
            <a:ext cx="1752480" cy="838080"/>
          </a:xfrm>
          <a:prstGeom prst="wedgeEllipseCallout">
            <a:avLst>
              <a:gd name="adj1" fmla="val -92120"/>
              <a:gd name="adj2" fmla="val -710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5760" y="4191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名词作状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5867280"/>
            <a:ext cx="152640" cy="60984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71360" y="57150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古音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87200" y="6019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破音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1360" y="6324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通假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75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22240" y="1066680"/>
            <a:ext cx="519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吾尝终日而思矣，不如须臾之所学也。吾尝〔足支〕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望矣，不如登高之博见 也。登高而招，臂非加长也，</a:t>
            </a:r>
            <a:r>
              <a:rPr b="1" i="1" lang="zh-CN" sz="2400" spc="-1" strike="noStrike" u="sng">
                <a:solidFill>
                  <a:srgbClr val="996633"/>
                </a:solidFill>
                <a:uFillTx/>
                <a:latin typeface="Times New Roman"/>
                <a:ea typeface="隶书"/>
              </a:rPr>
              <a:t>而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996633"/>
                </a:solidFill>
                <a:uFillTx/>
                <a:latin typeface="Times New Roman"/>
                <a:ea typeface="隶书"/>
              </a:rPr>
              <a:t>者远</a:t>
            </a:r>
            <a:r>
              <a:rPr b="1" i="1" lang="zh-CN" sz="2400" spc="-1" strike="noStrike" u="sng">
                <a:solidFill>
                  <a:srgbClr val="996633"/>
                </a:solidFill>
                <a:uFillTx/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8480" y="12952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228600"/>
            <a:ext cx="2362320" cy="609480"/>
          </a:xfrm>
          <a:prstGeom prst="wedgeEllipseCallout">
            <a:avLst>
              <a:gd name="adj1" fmla="val -34944"/>
              <a:gd name="adj2" fmla="val 9270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80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99"/>
                </a:solidFill>
                <a:latin typeface="Times New Roman"/>
              </a:rPr>
              <a:t>连词 ，表修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1905120"/>
            <a:ext cx="3886200" cy="990360"/>
          </a:xfrm>
          <a:prstGeom prst="cloudCallout">
            <a:avLst>
              <a:gd name="adj1" fmla="val -74958"/>
              <a:gd name="adj2" fmla="val -28203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90680" y="22096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省略句，应为“而见之者远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590920"/>
            <a:ext cx="1904760" cy="609480"/>
          </a:xfrm>
          <a:prstGeom prst="wedgeRoundRectCallout">
            <a:avLst>
              <a:gd name="adj1" fmla="val -14000"/>
              <a:gd name="adj2" fmla="val -110939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5600" y="2682720"/>
            <a:ext cx="1172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形容词作状语</a:t>
            </a: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8160" y="4114800"/>
            <a:ext cx="50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顺风而呼，声非加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也，而闻者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假舆 马者，非利足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而致千里。假舟楫者，非能水也，而绝江河。君子</a:t>
            </a:r>
            <a:r>
              <a:rPr b="0" lang="zh-CN" sz="2400" spc="-1" strike="noStrike">
                <a:solidFill>
                  <a:srgbClr val="000000"/>
                </a:solidFill>
                <a:latin typeface="华文彩云"/>
                <a:ea typeface="华文彩云"/>
              </a:rPr>
              <a:t>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异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善假于物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352680"/>
            <a:ext cx="914400" cy="609840"/>
          </a:xfrm>
          <a:prstGeom prst="wedgeEllipseCallout">
            <a:avLst>
              <a:gd name="adj1" fmla="val -77777"/>
              <a:gd name="adj2" fmla="val 8411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15320" y="3429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大，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3276720"/>
            <a:ext cx="1447560" cy="609480"/>
          </a:xfrm>
          <a:prstGeom prst="cloudCallout">
            <a:avLst>
              <a:gd name="adj1" fmla="val -22041"/>
              <a:gd name="adj2" fmla="val 97657"/>
            </a:avLst>
          </a:prstGeom>
          <a:gradFill rotWithShape="0">
            <a:gsLst>
              <a:gs pos="0">
                <a:srgbClr val="2f005e"/>
              </a:gs>
              <a:gs pos="50000">
                <a:srgbClr val="6600cc"/>
              </a:gs>
              <a:gs pos="100000">
                <a:srgbClr val="2f00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3352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明显，清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2920" y="441972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2666880"/>
            <a:ext cx="2438280" cy="914400"/>
          </a:xfrm>
          <a:prstGeom prst="wedgeEllipseCallout">
            <a:avLst>
              <a:gd name="adj1" fmla="val 1759"/>
              <a:gd name="adj2" fmla="val 105037"/>
            </a:avLst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68360" y="2895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使足（行得）麻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5105520"/>
            <a:ext cx="1066680" cy="304560"/>
          </a:xfrm>
          <a:prstGeom prst="wedgeRectCallout">
            <a:avLst>
              <a:gd name="adj1" fmla="val 24851"/>
              <a:gd name="adj2" fmla="val -116148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5105520"/>
            <a:ext cx="188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通假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07640" y="5562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41800" y="563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Times New Roman"/>
              </a:rPr>
              <a:t>弥补不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5040" y="56386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6600cc"/>
                </a:solidFill>
                <a:latin typeface="Times New Roman"/>
              </a:rPr>
              <a:t>学习的作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040" y="480060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4876920"/>
            <a:ext cx="1371600" cy="609480"/>
          </a:xfrm>
          <a:prstGeom prst="cloudCallout">
            <a:avLst>
              <a:gd name="adj1" fmla="val -93171"/>
              <a:gd name="adj2" fmla="val -29166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61040" y="502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偏义复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708360" y="3860640"/>
            <a:ext cx="1905120" cy="609840"/>
          </a:xfrm>
          <a:prstGeom prst="wedgeEllipseCallout">
            <a:avLst>
              <a:gd name="adj1" fmla="val 66166"/>
              <a:gd name="adj2" fmla="val -180731"/>
            </a:avLst>
          </a:prstGeom>
          <a:gradFill rotWithShape="0">
            <a:gsLst>
              <a:gs pos="0">
                <a:srgbClr val="5e0075"/>
              </a:gs>
              <a:gs pos="100000">
                <a:srgbClr val="cc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6440" y="1600200"/>
            <a:ext cx="1801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积土成山，风雨兴</a:t>
            </a:r>
            <a:r>
              <a:rPr b="0" lang="zh-CN" sz="2400" spc="-1" strike="noStrike" u="sng">
                <a:solidFill>
                  <a:srgbClr val="6600cc"/>
                </a:solidFill>
                <a:uFillTx/>
                <a:latin typeface="宋体"/>
              </a:rPr>
              <a:t>焉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。积水成渊，蛟龙生焉。积善成德，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神明自得，圣心备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焉。故不积跬步，无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以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至千里；不积小流，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以成江海。骐骥一跃，不能十步；驽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马十驾，功在不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舍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。锲而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之，朽木不折；锲而不舍，金石可镂。蚓无爪牙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之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利，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筋骨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之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强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上食埃土，下饮黄泉，用心一也。蟹六跪而二螯，非蛇鳝之穴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可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寄托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者，用心躁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380880"/>
            <a:ext cx="2438280" cy="762120"/>
          </a:xfrm>
          <a:prstGeom prst="cloudCallout">
            <a:avLst>
              <a:gd name="adj1" fmla="val 52083"/>
              <a:gd name="adj2" fmla="val 116250"/>
            </a:avLst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533520"/>
            <a:ext cx="21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兼词？语气助词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42670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42640" y="7621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33ff"/>
                </a:solidFill>
                <a:latin typeface="Times New Roman"/>
              </a:rPr>
              <a:t>介词，用来……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304920"/>
            <a:ext cx="1067040" cy="761760"/>
          </a:xfrm>
          <a:prstGeom prst="wedgeRoundRectCallout">
            <a:avLst>
              <a:gd name="adj1" fmla="val -20236"/>
              <a:gd name="adj2" fmla="val 217916"/>
              <a:gd name="adj3" fmla="val 16667"/>
            </a:avLst>
          </a:prstGeom>
          <a:gradFill rotWithShape="0">
            <a:gsLst>
              <a:gs pos="0">
                <a:srgbClr val="461775"/>
              </a:gs>
              <a:gs pos="100000">
                <a:srgbClr val="9933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2960" y="457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舍弃，停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4038480"/>
            <a:ext cx="3200400" cy="685800"/>
          </a:xfrm>
          <a:prstGeom prst="cloudCallout">
            <a:avLst>
              <a:gd name="adj1" fmla="val -13046"/>
              <a:gd name="adj2" fmla="val -18634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1240" y="4114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结构助词，取消句子独立性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4440" y="541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四段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10760" y="5410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明确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03920" y="5105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的方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03920" y="5562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的态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51055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6880" y="5170680"/>
            <a:ext cx="1003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专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坚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积累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4343400"/>
            <a:ext cx="1904760" cy="609480"/>
          </a:xfrm>
          <a:prstGeom prst="wedgeEllipseCallout">
            <a:avLst>
              <a:gd name="adj1" fmla="val -45416"/>
              <a:gd name="adj2" fmla="val -136458"/>
            </a:avLst>
          </a:prstGeom>
          <a:gradFill rotWithShape="0">
            <a:gsLst>
              <a:gs pos="0">
                <a:srgbClr val="cc00ff"/>
              </a:gs>
              <a:gs pos="100000">
                <a:srgbClr val="5e007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46320" y="4419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寄居，托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6280" y="289548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79960" y="3933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定语后置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609480"/>
            <a:ext cx="228600" cy="457200"/>
          </a:xfrm>
          <a:prstGeom prst="wedgeEllipseCallout">
            <a:avLst>
              <a:gd name="adj1" fmla="val -105555"/>
              <a:gd name="adj2" fmla="val 269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75393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6080" y="65844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论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380880"/>
            <a:ext cx="152640" cy="2819520"/>
          </a:xfrm>
          <a:custGeom>
            <a:avLst/>
            <a:gdLst>
              <a:gd name="textAreaLeft" fmla="*/ 97560 w 152640"/>
              <a:gd name="textAreaRight" fmla="*/ 153000 w 152640"/>
              <a:gd name="textAreaTop" fmla="*/ 220320 h 2819520"/>
              <a:gd name="textAreaBottom" fmla="*/ 259920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97280" y="325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一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4480" y="3808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提出中心论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32520" y="3808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学不可以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97280" y="1011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二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9680" y="10666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学习的意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81760" y="83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提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81760" y="121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改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13480" y="1676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三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83640" y="1752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学习的作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85000" y="1752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弥补不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8928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13480" y="2514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四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83840" y="2286000"/>
            <a:ext cx="139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方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学习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态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81400" y="259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专心坚持积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990720"/>
            <a:ext cx="228600" cy="53316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54880" y="990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必要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58400" y="1295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（为什么要学习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4880" y="16765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重要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99080" y="21337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（学习的实质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7040" y="259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操作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99080" y="31240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（应如何学习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380880"/>
            <a:ext cx="304920" cy="838440"/>
          </a:xfrm>
          <a:custGeom>
            <a:avLst/>
            <a:gdLst>
              <a:gd name="textAreaLeft" fmla="*/ 40680 w 304920"/>
              <a:gd name="textAreaRight" fmla="*/ 264240 w 30492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43800" y="1219320"/>
            <a:ext cx="228600" cy="761760"/>
          </a:xfrm>
          <a:custGeom>
            <a:avLst/>
            <a:gdLst>
              <a:gd name="textAreaLeft" fmla="*/ 30600 w 228600"/>
              <a:gd name="textAreaRight" fmla="*/ 198000 w 22860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1905120"/>
            <a:ext cx="228600" cy="990360"/>
          </a:xfrm>
          <a:custGeom>
            <a:avLst/>
            <a:gdLst>
              <a:gd name="textAreaLeft" fmla="*/ 30600 w 228600"/>
              <a:gd name="textAreaRight" fmla="*/ 198000 w 22860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7760" y="4440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写作特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80988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60880" y="3733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60800" y="3730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逻辑性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76640" y="4191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深入浅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82360" y="41911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（善于使用比喻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76640" y="472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对比鲜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76640" y="5181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入题快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1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07:15:02Z</dcterms:created>
  <dc:creator> </dc:creator>
  <dc:description/>
  <dc:language>en-US</dc:language>
  <cp:lastModifiedBy>微软用户</cp:lastModifiedBy>
  <dcterms:modified xsi:type="dcterms:W3CDTF">2010-05-31T00:44:18Z</dcterms:modified>
  <cp:revision>11</cp:revision>
  <dc:subject/>
  <dc:title>PowerPoint 演示文稿</dc:title>
</cp:coreProperties>
</file>