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03F8-6C33-4096-A06E-F2CE6C973E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课时时打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本是肩并肩密密地挨着，这便宛然有了一道凝碧的波痕。叶子地下是脉脉的流水，遮住了，不能见一些颜色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底下是脉脉的流水，遮住了，不能见一些颜色；而叶子却更见风致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光如流水一般，静静地泻在这一片叶子和花上，薄薄的青雾浮起在荷塘里。叶子和花仿佛在牛乳中洗过一样；又像笼着轻纱的梦。虽然是满月，天上却有一层淡淡的云，所以不能朗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色一例是阴阴的，乍看像一团烟雾，但杨柳的丰姿，便在烟雾里也辨得出。树梢上隐隐约约的是一带远山，只有些大意罢了，树缝里也露着一两点路灯的光，没精打采的，是瞌睡人的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介绍完背景开始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出水很高，像亭亭的舞女的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袅娜地开着的和羞涩的打着朵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1EA-DC48-4231-B394-319DB3A2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0EF-592E-4A8A-B64C-2C43A8D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5C3-D415-4994-8EEA-AD2CAF73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9BE-7A3E-41F3-B91F-A00548E3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B0696-E116-4083-BE7D-AB579212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8BB01-5DFD-4B2A-8A54-DB2D8ADD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69AAB-44B4-433C-8097-02BA2CA2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D84FB-4B1A-4BC7-8759-4213F8D5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A4340-5ED2-4589-9938-B38257D9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389B5-23BE-4310-A0A2-40EF40AF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10B15-26F4-4CDC-B739-D5AED774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622-9658-493C-B69F-C94B39D3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9D8AE-8226-41FD-AE8B-DE7ED176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338D7-C2B9-4493-80C8-0CD16AA5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CC9C1-1C1D-4A80-ACBC-DC87A15F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3EA3B-DFE5-479C-8A4A-2ECF3638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2AEC4-3EDE-43BB-93C5-EE861A93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6AC-0D9F-4B91-BBD1-E2E0379C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536-DCAF-4052-A7AB-7C380B72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685-EAE4-4D9F-88AB-5C4107A8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F7E-AD5B-4F49-A942-B72B7809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40E-4E41-4175-B9EC-2C22EC1B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FE1-3B49-4880-84D8-AE710167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02A-7701-463D-9C9D-72829846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3B40-4535-4E1B-8A6F-C7390FD4417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523B-36C2-48A0-BA52-3C2F4F3A2E7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&#22768;&#38899;&#25991;&#20214;&#65292;&#33655;&#22616;&#26376;&#33394;&#26391;&#35835;&#26448;&#26009;.flv" TargetMode="External"/><Relationship Id="rId2" Type="http://schemas.openxmlformats.org/officeDocument/2006/relationships/hyperlink" Target="file:///../&#22768;&#38899;&#25991;&#20214;&#65292;&#33655;&#22616;&#26376;&#33394;&#26391;&#35835;&#26448;&#26009;.flv" TargetMode="External"/><Relationship Id="rId3" Type="http://schemas.openxmlformats.org/officeDocument/2006/relationships/hyperlink" Target="file:///../&#22768;&#38899;&#25991;&#20214;&#65292;&#33655;&#22616;&#26376;&#33394;&#26391;&#35835;&#26448;&#26009;.flv" TargetMode="External"/><Relationship Id="rId4" Type="http://schemas.openxmlformats.org/officeDocument/2006/relationships/hyperlink" Target="file:///../&#22768;&#38899;&#25991;&#20214;&#65292;&#33655;&#22616;&#26376;&#33394;&#26391;&#35835;&#26448;&#26009;.flv" TargetMode="External"/><Relationship Id="rId5" Type="http://schemas.openxmlformats.org/officeDocument/2006/relationships/hyperlink" Target="file:///../&#22768;&#38899;&#25991;&#20214;&#65292;&#33655;&#22616;&#26376;&#33394;&#26391;&#35835;&#26448;&#26009;.flv" TargetMode="Externa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荷塘月色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4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424720" cy="657072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2a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28080" cy="5784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b39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399960"/>
            <a:ext cx="7705800" cy="58975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720" y="1197000"/>
            <a:ext cx="4859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朱自清：原名朱自华，号秋实，为勉励自己在困境中不丧志，不灰心，保持清白，不与黑暗势力同流合污，便取《楚辞》中“宁廉洁正直以自清乎”中的“自清”二字改名“朱自清”字“佩弦”。他是著名的散文家、诗人、民主战士、爱国知识分子，初中时，学过他的散文《春》、《背影》等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考入北大哲学系；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任清华大学教授；毛主席高度赞扬朱自清“一身重病，宁可饿死，不领美国的‘救济粮’”“表现我们民族的英雄气概；他的散文秀丽朴素，我们通过学习《荷塘月色》一起体会一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2564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写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2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，作者当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，任清华大学中文系教授。由于蒋介石叛变革命，中国处于一片黑暗之中。在这样的社会，作者看不到希望，但又想做一个自由的知识分子，苦闷彷徨是自然而然的。《荷塘月色》就是在这样的背景下写成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d:\My Documents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荷塘月色教案评比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声音文件，荷塘月色朗读材料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.flv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314172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提问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文的文眼是哪句？课文分为几部分？结构有什么特点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317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明确：本文的文眼：“这几天心里颇不宁静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全文分三大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: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一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1—3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月夜漫步荷塘的缘由及来到荷塘的感受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点明题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 二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4—6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荷塘月色的恬静迷人。（主体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三部分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7—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：荷塘月色的美景引动乡思。（偏重抒情 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5040" y="1651320"/>
            <a:ext cx="831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结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内结构看，情感思绪是从不静、求静、得静到出静，是一个圆形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外结构看，从作者出门经小径到荷塘复又归来，依空间顺序描绘了一次夏夜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49720"/>
            <a:ext cx="831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情变化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心里颇不宁静”→淡淡的月光下，有淡淡的哀愁→在自然美景中，有淡淡的喜悦→发出“我什么也没有”的慨叹→惦念江南，欲超脱而不可得。作者在文中体现的复杂的思想感情是“淡淡的哀愁，淡淡的的喜悦”。这从景物描写中也能看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9928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511200"/>
            <a:ext cx="7920000" cy="5942160"/>
          </a:xfrm>
          <a:prstGeom prst="rect">
            <a:avLst/>
          </a:prstGeom>
          <a:ln w="0">
            <a:noFill/>
          </a:ln>
        </p:spPr>
      </p:pic>
    </p:spTree>
  </p:cSld>
  <p:transition advTm="9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8:41:01Z</dcterms:created>
  <dc:creator>微软用户</dc:creator>
  <dc:description/>
  <dc:language>en-US</dc:language>
  <cp:lastModifiedBy>微软用户</cp:lastModifiedBy>
  <dcterms:modified xsi:type="dcterms:W3CDTF">2008-09-22T15:10:39Z</dcterms:modified>
  <cp:revision>12</cp:revision>
  <dc:subject/>
  <dc:title>荷塘月色</dc:title>
</cp:coreProperties>
</file>