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explode.wav" ContentType="audio/x-wav"/>
  <Override PartName="/ppt/media/camera.wav" ContentType="audio/x-wav"/>
  <Override PartName="/ppt/media/laser.wav" ContentType="audio/x-wav"/>
  <Override PartName="/ppt/media/image4.png" ContentType="image/png"/>
  <Override PartName="/ppt/media/image11.png" ContentType="image/png"/>
  <Override PartName="/ppt/media/carbrake.wav" ContentType="audio/x-wav"/>
  <Override PartName="/ppt/media/image9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5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EBC-56EF-44B0-9199-1C6773E3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503-8E92-4274-B4A0-997C28D6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30F-628D-47F4-8362-077E1D1C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632-679E-49A3-BFB1-3092E6C7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6F6-2F01-4DFE-A243-98ED19C3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2E7-318E-4839-AC63-B88723B3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BD5-0353-4FA6-99F9-F6EED59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019-BF9A-47CB-9828-695D4D6F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CCD-40A5-43F3-880C-4FD79A0D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B69-D74B-4DC8-B2B6-37A99F22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F78-E99E-4ADD-838D-F98D13C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D78-D05B-497B-BD12-53C8BABC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28A-D9F7-42F0-9AAF-E5540A49D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explod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"/>
            <a:ext cx="3505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7640" y="68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荀子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64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76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演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764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疏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776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6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360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17220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23216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6720" y="373392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建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2720" y="3013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奉化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21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76920" y="0"/>
          <a:ext cx="446400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46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7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03160" y="228600"/>
            <a:ext cx="566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荀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约公元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38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况字卿，战国末期赵国人，曾游学于齐，当过楚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兰陵令。后来失官居家著书，死后葬于兰陵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 荀子是我国古代的思想家、教育家，是先秦儒家最后的代表，朴素唯物主义思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集大成者。韩非和李斯都是他的学生。他反对迷信天命鬼神，肯定自然规律是不以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们意志为转移的，并提出“制天命而用之”的人定胜天的思想。他强调教育和礼法的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主张治理天下既要靠“法制”，又要重视教化兼用“礼”治，强调“行”对于“知”的必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性和后天学习的重要性，认为后天环境和教育可以改变人的本性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荀子的著作有《荀子》二十卷。该书由《论语》、《孟子》的语录体，发展为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题的论文，标志着古代说理文的进一步成熟。他的散文说理透彻、语言质朴、多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句，又善用比喻。《劝学》是《荀子》的第一篇。本文是原文前几段的节录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9820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6160" y="2057400"/>
            <a:ext cx="462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曰：学不可以已。青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之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青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冰，水为之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寒于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木直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，輮以为轮，其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规，虽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槁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不复挺者，輮使之然也。故木受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直，金就砺则利。君子博学而日参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乎己，则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2057400" cy="990360"/>
          </a:xfrm>
          <a:prstGeom prst="cloudCallout">
            <a:avLst>
              <a:gd name="adj1" fmla="val -50925"/>
              <a:gd name="adj2" fmla="val 46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0" y="1344600"/>
            <a:ext cx="115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7c80"/>
                </a:solidFill>
                <a:latin typeface="Times New Roman"/>
              </a:rPr>
              <a:t>有学问有修养的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60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143000"/>
            <a:ext cx="914400" cy="609480"/>
          </a:xfrm>
          <a:prstGeom prst="wedgeEllipseCallout">
            <a:avLst>
              <a:gd name="adj1" fmla="val -60416"/>
              <a:gd name="adj2" fmla="val 12005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124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3623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57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3657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267080"/>
            <a:ext cx="914400" cy="609840"/>
          </a:xfrm>
          <a:prstGeom prst="cloudCallout">
            <a:avLst>
              <a:gd name="adj1" fmla="val -51041"/>
              <a:gd name="adj2" fmla="val -12968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152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276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5486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680" y="4950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7680" y="52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句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57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0292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486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972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9080" y="540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571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962520"/>
            <a:ext cx="1752480" cy="838080"/>
          </a:xfrm>
          <a:prstGeom prst="wedgeEllipseCallout">
            <a:avLst>
              <a:gd name="adj1" fmla="val -92120"/>
              <a:gd name="adj2" fmla="val -71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576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8672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1360" y="571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古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7200" y="601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破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240" y="106668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吾尝终日而思矣，不如须臾之所学也。吾尝〔足支〕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望矣，不如登高之博见 也。登高而招，臂非加长也，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而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者远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480" y="1295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28600"/>
            <a:ext cx="2362320" cy="609480"/>
          </a:xfrm>
          <a:prstGeom prst="wedgeEllipseCallout">
            <a:avLst>
              <a:gd name="adj1" fmla="val -34944"/>
              <a:gd name="adj2" fmla="val 9270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80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99"/>
                </a:solidFill>
                <a:latin typeface="Times New Roman"/>
              </a:rPr>
              <a:t>连词 ，表修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905120"/>
            <a:ext cx="3886200" cy="990360"/>
          </a:xfrm>
          <a:prstGeom prst="cloudCallout">
            <a:avLst>
              <a:gd name="adj1" fmla="val -74958"/>
              <a:gd name="adj2" fmla="val -2820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0680" y="2209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省略句，应为“而见之者远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90920"/>
            <a:ext cx="1904760" cy="609480"/>
          </a:xfrm>
          <a:prstGeom prst="wedgeRoundRectCallout">
            <a:avLst>
              <a:gd name="adj1" fmla="val -14000"/>
              <a:gd name="adj2" fmla="val -11093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5600" y="2682720"/>
            <a:ext cx="11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形容词作状语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8160" y="411480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顺风而呼，声非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，而闻者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假舆 马者，非利足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而致千里。假舟楫者，非能水也，而绝江河。君子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异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假于物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352680"/>
            <a:ext cx="914400" cy="609840"/>
          </a:xfrm>
          <a:prstGeom prst="wedgeEllipseCallout">
            <a:avLst>
              <a:gd name="adj1" fmla="val -77777"/>
              <a:gd name="adj2" fmla="val 8411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5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大，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76720"/>
            <a:ext cx="1447560" cy="609480"/>
          </a:xfrm>
          <a:prstGeom prst="cloudCallout">
            <a:avLst>
              <a:gd name="adj1" fmla="val -22041"/>
              <a:gd name="adj2" fmla="val 97657"/>
            </a:avLst>
          </a:prstGeom>
          <a:gradFill rotWithShape="0">
            <a:gsLst>
              <a:gs pos="0">
                <a:srgbClr val="2f005e"/>
              </a:gs>
              <a:gs pos="50000">
                <a:srgbClr val="6600cc"/>
              </a:gs>
              <a:gs pos="100000">
                <a:srgbClr val="2f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明显，清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419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666880"/>
            <a:ext cx="2438280" cy="914400"/>
          </a:xfrm>
          <a:prstGeom prst="wedgeEllipseCallout">
            <a:avLst>
              <a:gd name="adj1" fmla="val 1759"/>
              <a:gd name="adj2" fmla="val 10503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2895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使足（行得）麻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05520"/>
            <a:ext cx="1066680" cy="304560"/>
          </a:xfrm>
          <a:prstGeom prst="wedgeRectCallout">
            <a:avLst>
              <a:gd name="adj1" fmla="val 24851"/>
              <a:gd name="adj2" fmla="val -11614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5105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764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563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5040" y="5638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040" y="4800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876920"/>
            <a:ext cx="1371600" cy="609480"/>
          </a:xfrm>
          <a:prstGeom prst="cloudCallout">
            <a:avLst>
              <a:gd name="adj1" fmla="val -93171"/>
              <a:gd name="adj2" fmla="val -2916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61040" y="50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偏义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08360" y="3860640"/>
            <a:ext cx="1905120" cy="609840"/>
          </a:xfrm>
          <a:prstGeom prst="wedgeEllipseCallout">
            <a:avLst>
              <a:gd name="adj1" fmla="val 66166"/>
              <a:gd name="adj2" fmla="val -180731"/>
            </a:avLst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1600200"/>
            <a:ext cx="180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积土成山，风雨兴</a:t>
            </a:r>
            <a:r>
              <a:rPr b="0" lang="zh-CN" sz="2400" spc="-1" strike="noStrike" u="sng">
                <a:solidFill>
                  <a:srgbClr val="6600cc"/>
                </a:solidFill>
                <a:uFillTx/>
                <a:latin typeface="宋体"/>
              </a:rPr>
              <a:t>焉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积水成渊，蛟龙生焉。积善成德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神明自得，圣心备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焉。故不积跬步，无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至千里；不积小流，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成江海。骐骥一跃，不能十步；驽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马十驾，功在不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舍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锲而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之，朽木不折；锲而不舍，金石可镂。蚓无爪牙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利，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筋骨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上食埃土，下饮黄泉，用心一也。蟹六跪而二螯，非蛇鳝之穴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可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寄托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者，用心躁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2438280" cy="762120"/>
          </a:xfrm>
          <a:prstGeom prst="cloudCallout">
            <a:avLst>
              <a:gd name="adj1" fmla="val 52083"/>
              <a:gd name="adj2" fmla="val 11625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335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兼词？语气助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670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2640" y="7621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Times New Roman"/>
              </a:rPr>
              <a:t>介词，用来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304920"/>
            <a:ext cx="1067040" cy="761760"/>
          </a:xfrm>
          <a:prstGeom prst="wedgeRoundRectCallout">
            <a:avLst>
              <a:gd name="adj1" fmla="val -20236"/>
              <a:gd name="adj2" fmla="val 217916"/>
              <a:gd name="adj3" fmla="val 16667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2960" y="45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舍弃，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038480"/>
            <a:ext cx="3200400" cy="685800"/>
          </a:xfrm>
          <a:prstGeom prst="cloudCallout">
            <a:avLst>
              <a:gd name="adj1" fmla="val -13046"/>
              <a:gd name="adj2" fmla="val -18634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240" y="4114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结构助词，取消句子独立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76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5105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39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6880" y="5170680"/>
            <a:ext cx="1003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专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343400"/>
            <a:ext cx="1904760" cy="609480"/>
          </a:xfrm>
          <a:prstGeom prst="wedgeEllipseCallout">
            <a:avLst>
              <a:gd name="adj1" fmla="val -45416"/>
              <a:gd name="adj2" fmla="val -136458"/>
            </a:avLst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41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寄居，托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6280" y="289548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9960" y="39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定语后置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228600" cy="457200"/>
          </a:xfrm>
          <a:prstGeom prst="wedgeEllipseCallout">
            <a:avLst>
              <a:gd name="adj1" fmla="val -105555"/>
              <a:gd name="adj2" fmla="val 269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080" y="658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论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08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220320 h 2819520"/>
              <a:gd name="textAreaBottom" fmla="*/ 259920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7280" y="32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4480" y="38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出中心论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2520" y="380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学不可以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728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9680" y="1066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83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121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3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3640" y="17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50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348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840" y="22860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14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专心坚持积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99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必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8400" y="12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为什么要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488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9080" y="213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学习的实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7040" y="259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操作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9080" y="3124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应如何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808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19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228600" cy="99036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写作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809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3733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0" y="373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逻辑性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6640" y="419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深入浅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4191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（善于使用比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66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鲜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6640" y="5181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入题快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7:15:02Z</dcterms:created>
  <dc:creator> </dc:creator>
  <dc:description/>
  <dc:language>en-US</dc:language>
  <cp:lastModifiedBy>微软用户</cp:lastModifiedBy>
  <dcterms:modified xsi:type="dcterms:W3CDTF">2010-05-31T00:44:18Z</dcterms:modified>
  <cp:revision>11</cp:revision>
  <dc:subject/>
  <dc:title>PowerPoint 演示文稿</dc:title>
</cp:coreProperties>
</file>