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02C-AF72-46A9-8EA9-65011AB3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439-D19A-4E7C-B864-31A03EAD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479-391E-4128-831E-64BC90A4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76F-8B85-42B0-982E-2A27CC57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593E-D299-40C7-A272-78E21F62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33A6-55E1-484C-B8F3-EFE20758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E476-A601-4E92-9ABE-DB333039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9435-1F35-49FE-A277-12D46DFD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E1BE-FECB-4433-B256-A790DFAB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2349-E419-4A27-BB44-3A0D453C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F9B4-7D7F-462C-B53E-CD0B74E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A13-D48A-42B1-80CA-20F696B7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4F06-82A9-46D5-A846-D5B93C19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BF58-3280-4EB4-9294-4EE0FB55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2FD6-B442-4C46-802A-C9E70389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E5B9-CF8E-4D37-8610-38FE04DE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9DA9-796C-4CD3-A1E3-0798743F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FDDD-533E-4BCD-BE7E-8A0E9614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7377F-2E7F-4D6E-BFC0-34194F30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2FB1-89FD-4D54-9A62-6F5FAA6F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3F80-7B95-48C6-BDF2-C89078F8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0823-82BE-4292-9EEE-0E055954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A21-48BB-41FC-A437-ABEDEB03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456F-718C-4A81-8C8B-53242CAC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415E-45B1-4B75-B8B5-387EB28D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07EAD-2C0B-4C9A-9F29-17413BD1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ADDD-F98F-47A2-800C-B276BCB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BBA97-D42E-4480-95A8-7A9ABBF5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5650-CE78-4AB5-B2DA-ECFDE872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499E-3946-4391-958F-F634D860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725-6E52-4B65-BF24-7D928732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B5B-9B9D-4097-A1D7-AC1A6578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F02-DA8C-4FD2-98D2-A9FFBA43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126-A16C-4F38-9574-FECC423C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879-C1FB-42BE-AF45-372A3960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968-8A20-4D35-BECC-7FD2B40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C7E5-3025-4175-9BB4-F737EB048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Click to edit the outline text format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1" marL="743040" indent="-28584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con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2" marL="11430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Thir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3" marL="16002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our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4" marL="20574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if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ix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ven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074600" y="628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609720" y="6267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41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5737-9BBF-4424-9CDF-52E36F27D236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243240"/>
            <a:ext cx="65530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45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3660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501640" y="6229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5599080" y="6210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E41D-3A7C-443D-8879-7B135F222541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32000" y="404640"/>
            <a:ext cx="65530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95640" y="3213000"/>
            <a:ext cx="4535280" cy="1099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98360" y="0"/>
            <a:ext cx="1098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5280" y="0"/>
            <a:ext cx="1098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8920" y="2565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感觉四个孩子的人品有问题。当自己的朋友遇上困难的时候，他们不仅不去拉自己的朋友一把，反而雪上加霜的嘲讽朋友，把他一人留在危险的石架上，这也是拿别人的生命开玩笑。他们根本不是真正的朋友，简直可恶之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1413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四个孩子的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35280" y="2349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是这堂课学习的重点。以后在阅读的过程中同学们可学着运用它，它不仅可以让我们读出文章的新意，提高阅读质量，还可以提高我们的创造性阅读能力，拓展我们的思维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教师小结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16416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大利著名画家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的老师对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谈自己画蛋的体会，他说：“即使是同一只蛋，只要变换一下角度，形状便立即不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宋代伟大诗人苏轼也谈过类似的体会，他仔细观察过庐山，然后作诗云——“横看成岭侧成峰，远近高低各不同。不识庐山真面目，只缘身在此山中。”（这两则材料告诉我们，无论绘画还是观景，都要选择不同的角度。这样，才能发现事物、景物的不同特点，画画，才能画出新意；观景，才能观出新意。对一些意蕴丰富的文章也应如此，应从多个方面去想，读得有创意，提高阅读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33336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6000" y="177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关键在于确立角度。怎样确立角度呢？可以着眼于某一人物，也可以着眼于某一情节，提出问题，思考问题，也可拟一个中心话题。举个例子说，从杰利这个角度来读，中心话题可以是杰利什么地方做得对，什么地方做得不太好。由这个中心话题帮助阅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 txBox="1"/>
          <p:nvPr/>
        </p:nvSpPr>
        <p:spPr>
          <a:xfrm>
            <a:off x="3564000" y="26028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1773360"/>
            <a:ext cx="24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父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杰利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个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5219640" y="2852640"/>
            <a:ext cx="3529080" cy="1739880"/>
          </a:xfrm>
          <a:prstGeom prst="rect">
            <a:avLst/>
          </a:prstGeom>
          <a:noFill/>
          <a:ln w="79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两对比着来读，可从 “教子”和“交友”两个大角度来深入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198900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479736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2637000"/>
            <a:ext cx="502920" cy="2592360"/>
          </a:xfrm>
          <a:custGeom>
            <a:avLst/>
            <a:gdLst>
              <a:gd name="textAreaLeft" fmla="*/ 0 w 502920"/>
              <a:gd name="textAreaRight" fmla="*/ 181440 w 502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58920" y="1557360"/>
            <a:ext cx="74883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父亲为什么不直接把孩子抱下来？他不怕孩子失足吗？从中看出这是一位怎样的父亲？如果是母亲来的话，她又会怎样做？你能想象一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杰利算是“我”真正的朋友吗？他为什么抛下我还是和大家一起走了？你能揣摩一下他当时的心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个小孩子的行为你欣赏吗？如果是你是其中的一位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76360" y="2276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真正爱自己孩子的父亲，他不像别的父亲，爬山石架把儿子抱下来，而是让作者自己走一步，再走一步的下去。这是为锻炼孩子的勇气和毅力。如果他对孩子百依百顺，那只是让他更加娇气，一生一世都软弱无能。有句话说：“打是亲，骂是爱”，只有在磨练下才能成好钢，没有磨练的只是土块、锈铁。所以这位父亲是对孩子负责的真正爱孩子的父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14860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87280" y="2205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明智、教子有方的父亲。父亲完全可以凭自己的实力抱孩子下来，但他不这样做，而是引导孩子凭自己的努力一步步地克服自己。其实，父亲这样做是想给孩子一份经验，一次锻炼，一个成就感，一份不怕任何困难的勇气。这是父爱的一种多么明智的体现，是真正的父爱。他在父亲的眼里，孩子克服困难的能力比生命更重要，因为，父亲知道，温室里的花朵是经不起风雨的，同样，被溺爱的孩子是经不起考验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1486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8920" y="2421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慈母多败儿。这位母亲一直告诫我不要冒险。在母亲的庇护下，“我”变得非常懦弱。如果杰利通知的是母亲的话，可能她会声嘶力竭地叫我别动，吓得脸色苍白，神经兮兮的叫了一大帮人来。之后母亲可能不允许我跨出家门半步，不准我与杰利玩。从此，世上多了一个废物，少了一个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14860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母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206856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我是杰利，我会感到左右为难，一边是最要好的朋友，一边是更多的朋友。四个孩子一定不会让杰利帮“我”，而杰利也不想被嘲笑，不想失去这几个玩耍的朋友。所以杰利虽然“看来好像有点不放心”，但还是和大家一起走了。我想，，这也说明杰利低估了“我”的懦弱。他以为这么点悬崖，“我”总会下来的。再说，他一时也帮不了“我”。天越来越黑了，见“我”没回来，杰利的良心不安了，便告诉了“我”父亲，寻求大人帮助，把“我”从危险的边缘救了回来。杰利虽然有做得不对的地方，但他是“我”真正的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1341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杰利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02:54Z</dcterms:created>
  <dc:creator>姚根国</dc:creator>
  <dc:description/>
  <dc:language>en-US</dc:language>
  <cp:lastModifiedBy>island</cp:lastModifiedBy>
  <dcterms:modified xsi:type="dcterms:W3CDTF">2010-09-08T06:12:30Z</dcterms:modified>
  <cp:revision>11</cp:revision>
  <dc:subject/>
  <dc:title>走一步，再走一步</dc:title>
</cp:coreProperties>
</file>