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4.wmf" ContentType="image/x-wmf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image7.gif" ContentType="image/gi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5B7-8D13-4669-B414-5A46CBE1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8DF-CBE6-49D2-8199-D14A33A9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93D-1B4C-431C-8D3A-3C2FB032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168-B877-4B62-A44E-AC64B81B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D83-4E50-48B3-AB91-9D375322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B86-CDEE-4B16-A2C8-896176FD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002-D580-413D-B00D-978B0AF5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FF6-CC3F-4FE8-92D4-B79A6334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91C-AE26-4F2A-84FB-7597EF3C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63C-5F5E-47D8-A183-B022EB9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912-2F8E-4705-8FB2-187AC000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055-43FB-404B-BC3E-B81DA66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740B-AEC3-440B-B4F5-3549C5BE73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2004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国  莫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亨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32000" y="350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积跬步无以至千里，不积小溪无以成江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课文主旨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的危险和困难，只要把它分解开来，分解为一小步一小步，困难就不大了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263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敢问路在何方？路在脚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77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一口吃不了个胖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人在人生的道路上不可能一帆风顺。遇到困难，感受挫折都是很正常的。只要我们不失自信，牢记“不要想着距离有多远，你只要想着你是在走一小步，你能办得到的”，那什么样的艰难险阻都将被你踩在脚下。别忘了，把你的这种感受传给那些正在遭受困难的人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65760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天地就将不一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81080" y="2590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581280"/>
            <a:ext cx="5943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溪流走一步是江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江河再走一步是海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04880" y="914400"/>
            <a:ext cx="2643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深秋走一步是寒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寒冬再走一步便是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88480" y="228600"/>
            <a:ext cx="1716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挫折走一步或许还是失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失败再走一步可能就是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5333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咫尺天涯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步往往很难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49568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下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68580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路尽天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妨尝试着再走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3124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万水千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962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只源于最初的那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6d3e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5400000">
            <a:off x="-1218960" y="2666880"/>
            <a:ext cx="46479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读一读  写一写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609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训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4724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纳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瘦骨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嶙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1600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心惊肉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590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头晕目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心翼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828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2  </a:t>
            </a: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发生在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19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3  </a:t>
            </a: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爬悬崖的一共有几个孩子？有名字的有几个？叫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267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4  </a:t>
            </a: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悬崖有多高？岩石架有多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-266760" y="369540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抢答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8380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1  </a:t>
            </a: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故事发生在美国哪个城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493640" cy="168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3808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讨论与思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371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主要记叙了什么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件事发生在何时何地？发生的原因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为什么“一时拿不定主意”？后来又为什么跟着伙伴们去爬山了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114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在爬山途中遇到了哪些困难？当时“我”是怎么想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5181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来“我”又是怎样脱险的？脱险以后“我”有什么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43200" y="30492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复述要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跳读课文，抓住以上讨论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95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重点细节，尤其是脱险部分，尽量用课文原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419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口齿清楚，能正确表达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1258920" y="2279520"/>
            <a:ext cx="766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我眼中却是高不可攀的险峰。（未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落在最后，全身颤抖，冷汗直冒。我的心在瘦骨嶙峋的胸腔里冬冬直跳。（跟着他们向上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蹲在石架上，心惊肉跳，尽量往里靠。我看在眼里，吓得几乎晕倒。（终于爬上石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软弱地哀求。感到头晕目眩、啜泣。恐惧和疲乏使我全身麻木，不能动弹。（伏在岩石上，上不去下不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遇到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2289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0" y="545868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8920" y="2421000"/>
            <a:ext cx="78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杰利带来了我的父亲。（听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的手电光照着我，安慰我。（我哭着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左脚踏到石架下面那块岩石上。（我顿时有了信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右脚移到右边稍低一点的地方。（我的信心大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每次只移动一小步，慢慢爬下悬崖，投入了父亲强壮的手臂中。（啜泣了一会儿，产生了一种巨大的成就感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851280" y="170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脱险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0" y="192960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0" y="552996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844640"/>
            <a:ext cx="727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课文内容看，标题“走一步，再走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人生道路上，面对困难，“走了一步，再走下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巨大的困难分成“一步一步”，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为什么不要想着距离有多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主旨探究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26920" y="1267920"/>
            <a:ext cx="8317080" cy="5589360"/>
            <a:chOff x="826920" y="1267920"/>
            <a:chExt cx="8317080" cy="5589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16560" y="4068720"/>
              <a:ext cx="5432040" cy="1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826920" y="6664320"/>
              <a:ext cx="8317080" cy="18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34:55Z</dcterms:created>
  <dc:creator>teacher</dc:creator>
  <dc:description/>
  <dc:language>en-US</dc:language>
  <cp:lastModifiedBy>island</cp:lastModifiedBy>
  <dcterms:modified xsi:type="dcterms:W3CDTF">2010-09-08T06:14:09Z</dcterms:modified>
  <cp:revision>14</cp:revision>
  <dc:subject/>
  <dc:title>PowerPoint 演示文稿</dc:title>
</cp:coreProperties>
</file>